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21.png" ContentType="image/png"/>
  <Override PartName="/ppt/media/image8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6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DC01-C857-480B-9BD2-CAC12C75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8DD0-76E8-4FCB-806D-6C83BE6B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81AE-F217-4EC2-9D27-783CA2FB0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BC9-773A-435C-A478-FC2598EE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C792-D5A1-4543-9A06-8063496B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8BE0-24F1-404E-AF9A-E9CA93A5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27C7-C4D0-4C24-9957-ABE8ED54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8BB9-6DC6-4D3D-A232-1639416E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834A-6994-4307-98E9-AEA3BD95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58A0-4DA6-4A9A-8719-60817E1B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69DE-6F29-4654-87B9-08E1F87C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73A2-746F-4BC1-826A-EC26031A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38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67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78DD-28F8-4B21-8601-3F07CFAC6D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523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Lccal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: an R&amp;D   project for the Electromagnetic barrel Calori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905120"/>
            <a:ext cx="38102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Design princip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Times New Roman"/>
              </a:rPr>
              <a:t>Prototype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Times New Roman"/>
              </a:rPr>
              <a:t>Status of the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Beam test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ture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5181480"/>
            <a:ext cx="816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99ff"/>
                </a:solidFill>
                <a:latin typeface="Times New Roman"/>
              </a:rPr>
              <a:t>* Official INFN R&amp;D project, official DESY R&amp;D project PRC R&amp;D 00/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99ff"/>
                </a:solidFill>
                <a:latin typeface="Times New Roman"/>
              </a:rPr>
              <a:t>Contributors (Como, LNF, Padova, Trieste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99ff"/>
                </a:solidFill>
                <a:latin typeface="Times New Roman"/>
              </a:rPr>
              <a:t>M. Alemi, A.Anashkin, M.Bettini, S.Bertolucci, E. Borsato, M. Caccia, P.C, C. Fanin,    S. Miscetti, M. Prest, R. Peghin, L. Ramina, E. Vallaz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Checchia  LCWS02 Jej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158E-D72E-40A9-BAE3-FC0B3F9A6DE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08 2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Simulation (Geant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838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xpected Energy resolu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724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teral dimension  with tung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15615" t="10435" r="24216" b="7285"/>
          <a:stretch/>
        </p:blipFill>
        <p:spPr>
          <a:xfrm>
            <a:off x="4495680" y="2209680"/>
            <a:ext cx="3635640" cy="3727440"/>
          </a:xfrm>
          <a:prstGeom prst="rect">
            <a:avLst/>
          </a:prstGeom>
          <a:ln w="0">
            <a:noFill/>
          </a:ln>
        </p:spPr>
      </p:pic>
      <p:pic>
        <p:nvPicPr>
          <p:cNvPr id="107" name="checchia" descr=""/>
          <p:cNvPicPr/>
          <p:nvPr/>
        </p:nvPicPr>
        <p:blipFill>
          <a:blip r:embed="rId2"/>
          <a:srcRect l="1764" t="7445" r="0" b="5969"/>
          <a:stretch/>
        </p:blipFill>
        <p:spPr>
          <a:xfrm>
            <a:off x="304920" y="1295280"/>
            <a:ext cx="3371760" cy="3257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H="1">
            <a:off x="3123720" y="1676520"/>
            <a:ext cx="160020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742840" y="1752480"/>
            <a:ext cx="1981080" cy="129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1143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ght collection effect (20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Checchia  LCWS02 Jej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0070-FA52-45AF-84DE-1C746960269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08 2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Future Beam T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4724280" y="2514600"/>
            <a:ext cx="8610480" cy="551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Checchia  LCWS02 Jej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8571-27E9-423C-B755-C5A12D39E30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08 2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0200" y="2895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2895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5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533520"/>
            <a:ext cx="5410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unable 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500 MeV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twoelectrons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3405240" cy="2832120"/>
          </a:xfrm>
          <a:prstGeom prst="rect">
            <a:avLst/>
          </a:prstGeom>
          <a:ln w="0">
            <a:noFill/>
          </a:ln>
        </p:spPr>
      </p:pic>
      <p:pic>
        <p:nvPicPr>
          <p:cNvPr id="117" name="fiveelectrons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397320" cy="2849400"/>
          </a:xfrm>
          <a:prstGeom prst="rect">
            <a:avLst/>
          </a:prstGeom>
          <a:ln w="0">
            <a:noFill/>
          </a:ln>
        </p:spPr>
      </p:pic>
      <p:pic>
        <p:nvPicPr>
          <p:cNvPr id="118" name="bend01" descr=""/>
          <p:cNvPicPr/>
          <p:nvPr/>
        </p:nvPicPr>
        <p:blipFill>
          <a:blip r:embed="rId3"/>
          <a:stretch/>
        </p:blipFill>
        <p:spPr>
          <a:xfrm>
            <a:off x="5334120" y="15228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Checchia  LCWS02 Jej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04C4-1A98-4150-B711-B69A1D59D0D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08 2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=5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mip" descr=""/>
          <p:cNvPicPr/>
          <p:nvPr/>
        </p:nvPicPr>
        <p:blipFill>
          <a:blip r:embed="rId1"/>
          <a:srcRect l="0" t="6940" r="0" b="0"/>
          <a:stretch/>
        </p:blipFill>
        <p:spPr>
          <a:xfrm>
            <a:off x="3505320" y="2133720"/>
            <a:ext cx="4402080" cy="408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Checchia  LCWS02 Jej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1752-20F5-4B07-9CB9-720E561775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08 2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cintillator  plates production sta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66"/>
                </a:solidFill>
                <a:latin typeface="Times New Roman"/>
              </a:rPr>
              <a:t>Si detectors to be tested (and final  production to be schedul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Beam test with partial detector at C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ull detector test ( Frascati? ) by sept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Checchia  LCWS02 Jej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27D7-3DF8-4B6A-8307-660CB15879F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08 2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9391680" cy="668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Checchia  LCWS02 Jeju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55DE-64B9-4077-B90E-00FC376772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08 2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ff"/>
                </a:solidFill>
                <a:latin typeface="Times New Roman"/>
              </a:rPr>
              <a:t>Design prin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9144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rom the TESLA TDR requir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13528" t="31610" r="21928" b="30469"/>
          <a:stretch/>
        </p:blipFill>
        <p:spPr>
          <a:xfrm>
            <a:off x="4940280" y="990720"/>
            <a:ext cx="4203720" cy="2011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371600" y="2743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 solu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2819520"/>
            <a:ext cx="3886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Si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ff"/>
                </a:solidFill>
                <a:latin typeface="Times New Roman"/>
              </a:rPr>
              <a:t>Shashlik (thanx to CALEI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15238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3809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Alternative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4648320"/>
            <a:ext cx="6858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Times New Roman"/>
              </a:rPr>
              <a:t>Keep  SiW  advantages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(flat geometry high granular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ec.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 not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rom Si but from </a:t>
            </a:r>
            <a:r>
              <a:rPr b="1" lang="it-IT" sz="2000" spc="-1" strike="noStrike">
                <a:solidFill>
                  <a:srgbClr val="0000ff"/>
                </a:solidFill>
                <a:latin typeface="Times New Roman"/>
              </a:rPr>
              <a:t>Scintillator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it-IT" sz="2000" spc="-1" strike="noStrike">
                <a:solidFill>
                  <a:srgbClr val="00ff00"/>
                </a:solidFill>
                <a:latin typeface="Times New Roman"/>
              </a:rPr>
              <a:t>WLS f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Reduc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(factor &gt;10) the number of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0120" y="5257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Checchia  LCWS02 Jej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8AEB-6D7A-4933-BBB7-EE6E6E4E2AD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08 2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ff00"/>
                </a:solidFill>
                <a:latin typeface="Times New Roman"/>
              </a:rPr>
              <a:t>Prototy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324480" y="1371600"/>
          <a:ext cx="2314800" cy="19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371600"/>
                    <a:ext cx="231480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" descr=""/>
          <p:cNvPicPr/>
          <p:nvPr/>
        </p:nvPicPr>
        <p:blipFill>
          <a:blip r:embed="rId3"/>
          <a:srcRect l="10152" t="34355" r="7014" b="10435"/>
          <a:stretch/>
        </p:blipFill>
        <p:spPr>
          <a:xfrm>
            <a:off x="914400" y="1523880"/>
            <a:ext cx="3925800" cy="2051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895480" y="32004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Slightly reduced to cope with budg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9144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Pb/Sc + 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4114800"/>
            <a:ext cx="426744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Times New Roman"/>
              </a:rPr>
              <a:t>Scintillation light transported with </a:t>
            </a:r>
            <a:r>
              <a:rPr b="1" lang="it-IT" sz="2000" spc="-1" strike="noStrike">
                <a:solidFill>
                  <a:srgbClr val="00ff00"/>
                </a:solidFill>
                <a:latin typeface="Times New Roman"/>
              </a:rPr>
              <a:t>WLS </a:t>
            </a:r>
            <a:r>
              <a:rPr b="1" lang="it-IT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σ</a:t>
            </a:r>
            <a:r>
              <a:rPr b="1" lang="it-IT" sz="2000" spc="-1" strike="noStrike">
                <a:solidFill>
                  <a:srgbClr val="00ff00"/>
                </a:solidFill>
                <a:latin typeface="Times New Roman"/>
              </a:rPr>
              <a:t> tail fib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Times New Roman"/>
              </a:rPr>
              <a:t>Cell separation with grooves in Sc. plates with Tyvec strips in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scint9_bianco1" descr=""/>
          <p:cNvPicPr/>
          <p:nvPr/>
        </p:nvPicPr>
        <p:blipFill>
          <a:blip r:embed="rId4"/>
          <a:stretch/>
        </p:blipFill>
        <p:spPr>
          <a:xfrm>
            <a:off x="5181480" y="3581280"/>
            <a:ext cx="3703680" cy="2776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00400" y="4648320"/>
            <a:ext cx="312408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924680" y="1600200"/>
            <a:ext cx="685800" cy="35053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572000" y="5333760"/>
            <a:ext cx="762120" cy="152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5943600"/>
            <a:ext cx="76176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5715000"/>
            <a:ext cx="10670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Checchia  LCWS02 Jej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6864-4AFF-4FF9-A536-1D278DFD7EA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08 2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Scintillator ti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3 mm Kuraray SCSN-61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(25x25 cm</a:t>
            </a:r>
            <a:r>
              <a:rPr b="0" lang="en-GB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3 mm  Bicron BC-408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(25x25 cm</a:t>
            </a:r>
            <a:r>
              <a:rPr b="0" lang="en-GB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2133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chined  with vacuum plate as ho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astra1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3706920" cy="2779560"/>
          </a:xfrm>
          <a:prstGeom prst="rect">
            <a:avLst/>
          </a:prstGeom>
          <a:ln w="0">
            <a:noFill/>
          </a:ln>
        </p:spPr>
      </p:pic>
      <p:pic>
        <p:nvPicPr>
          <p:cNvPr id="72" name="scint9_bianco1" descr=""/>
          <p:cNvPicPr/>
          <p:nvPr/>
        </p:nvPicPr>
        <p:blipFill>
          <a:blip r:embed="rId2"/>
          <a:stretch/>
        </p:blipFill>
        <p:spPr>
          <a:xfrm>
            <a:off x="4724280" y="2743200"/>
            <a:ext cx="3703680" cy="2776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219320" y="58672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Whole Production starting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Checchia  LCWS02 Jej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979-43C7-49C2-ADDA-83E72E6AA0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08 2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Times New Roman"/>
              </a:rPr>
              <a:t>Fib</a:t>
            </a:r>
            <a:r>
              <a:rPr b="0" lang="it-IT" sz="4400" spc="-1" strike="noStrike">
                <a:solidFill>
                  <a:srgbClr val="00ff00"/>
                </a:solidFill>
                <a:latin typeface="Times New Roman"/>
              </a:rPr>
              <a:t>r</a:t>
            </a:r>
            <a:r>
              <a:rPr b="0" lang="en-GB" sz="4400" spc="-1" strike="noStrike">
                <a:solidFill>
                  <a:srgbClr val="00ff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91440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Room temperature curvature problem so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fiber" descr=""/>
          <p:cNvPicPr/>
          <p:nvPr/>
        </p:nvPicPr>
        <p:blipFill>
          <a:blip r:embed="rId1"/>
          <a:srcRect l="0" t="34197" r="0" b="0"/>
          <a:stretch/>
        </p:blipFill>
        <p:spPr>
          <a:xfrm>
            <a:off x="5791320" y="609480"/>
            <a:ext cx="2192040" cy="2041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327672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Use middle tempera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(50</a:t>
            </a:r>
            <a:r>
              <a:rPr b="0" lang="en-GB" sz="24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-70</a:t>
            </a:r>
            <a:r>
              <a:rPr b="0" lang="en-GB" sz="24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) 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00004" descr=""/>
          <p:cNvPicPr/>
          <p:nvPr/>
        </p:nvPicPr>
        <p:blipFill>
          <a:blip r:embed="rId2"/>
          <a:stretch/>
        </p:blipFill>
        <p:spPr>
          <a:xfrm>
            <a:off x="4724280" y="2666880"/>
            <a:ext cx="3772080" cy="2828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3520" y="5791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&gt; 3 ph e</a:t>
            </a:r>
            <a:r>
              <a:rPr b="0" lang="en-GB" sz="2400" spc="-1" strike="noStrike" baseline="30000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 /m.i.p.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tile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 obtained  stable in &gt;30 days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441972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Times New Roman"/>
              </a:rPr>
              <a:t>Kuraray  1mm 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Times New Roman"/>
              </a:rPr>
              <a:t>Y11 300 ppm multiclad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Checchia  LCWS02 Jej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4E27-5C20-48DF-AF72-8543C47CF0D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08 2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33cc"/>
                </a:solidFill>
                <a:latin typeface="Times New Roman"/>
              </a:rPr>
              <a:t>Si Det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85800"/>
            <a:ext cx="5715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roblems with the detector production: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1)delay  due to foundry,                                           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2)bad quality in the first lot of wafers 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3)second lot (4 wafers) under  t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Waf3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5325840" cy="39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Checchia  LCWS02 Jej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C2DD-0006-4C09-A0A2-79F4C30CDDB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08 2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4572000" y="3276720"/>
          <a:ext cx="3809880" cy="271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3809880" cy="27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724280" y="380880"/>
          <a:ext cx="365760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80880"/>
                    <a:ext cx="36576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066680" y="3429000"/>
          <a:ext cx="2971800" cy="2590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3429000"/>
                    <a:ext cx="29718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04920" y="914400"/>
            <a:ext cx="4190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1 wafer br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‘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oft breakdown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304812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2819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Full depletion      &lt;30 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867280" y="220968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105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30 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990720" y="53341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3124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 vs  Vb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Checchia  LCWS02 Jeju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7281-57A1-4E73-A14E-FAB213355FC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08 2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808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CB :                  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Printed board design ready  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in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7285" t="25220" r="6251" b="15002"/>
          <a:stretch/>
        </p:blipFill>
        <p:spPr>
          <a:xfrm>
            <a:off x="4275000" y="0"/>
            <a:ext cx="4869000" cy="280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10435" t="30004" r="3101" b="6261"/>
          <a:stretch/>
        </p:blipFill>
        <p:spPr>
          <a:xfrm>
            <a:off x="4270320" y="3352680"/>
            <a:ext cx="4873680" cy="2994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590920" y="1523880"/>
            <a:ext cx="114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cc"/>
                </a:solidFill>
                <a:latin typeface="Times New Roman"/>
              </a:rPr>
              <a:t>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cc"/>
                </a:solidFill>
                <a:latin typeface="Times New Roman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396252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5105520"/>
            <a:ext cx="1447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cc"/>
                </a:solidFill>
                <a:latin typeface="Times New Roman"/>
              </a:rPr>
              <a:t>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cc"/>
                </a:solidFill>
                <a:latin typeface="Times New Roman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Checchia  LCWS02 Jeju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748D-B7CA-4EA4-B7F9-0F76B5763FC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08 2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ecchia</cp:lastModifiedBy>
  <dcterms:modified xsi:type="dcterms:W3CDTF">2002-08-20T08:44:28Z</dcterms:modified>
  <cp:revision>18</cp:revision>
  <dc:subject/>
  <dc:title>PowerPoint Presentation</dc:title>
</cp:coreProperties>
</file>