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993-EC54-4708-AFD0-80F78549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65A-9882-4168-A1D4-06956264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E1C-C00F-45E7-A90C-B07AB8A5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C92-A0EE-4034-985A-EB95E41F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3FA-AAE4-4C35-8148-9331E26D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6BB-10B5-489D-86BA-70FF8C4C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C2C-CB4F-4435-9FA2-E9244ED3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E9C-A191-4A08-BEAD-72FF1E9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8C5-0C46-4017-A125-2B9ABB5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B7C-C8DE-4296-BD1D-E9D2673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F17-BDAC-4120-AE89-F4418D9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429-AB45-478E-91E6-09817379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AABF-DAEA-4AC2-BE14-DFA203F84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astro.estec.esa.nl/Hipparcos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628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Arial"/>
              </a:rPr>
              <a:t>Proprietà delle stel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8C7-D0CA-4CC4-A023-5A303EA9FD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dice di colo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some p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5016600"/>
            <a:ext cx="3809880" cy="1841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1600200"/>
            <a:ext cx="2819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li di spettri stellari per  T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40,000, 30,000, 20,000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L’indice di color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B-V =f(T</a:t>
            </a:r>
            <a:r>
              <a:rPr b="1" i="1" lang="en-GB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508640"/>
            <a:ext cx="56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00       3500          4000        4500         5000         5500         6000        6500     7000 Angstr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907920"/>
            <a:ext cx="5905440" cy="3693960"/>
            <a:chOff x="0" y="907920"/>
            <a:chExt cx="5905440" cy="36939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0" t="8232" r="0" b="10807"/>
            <a:stretch/>
          </p:blipFill>
          <p:spPr>
            <a:xfrm>
              <a:off x="0" y="907920"/>
              <a:ext cx="5905440" cy="36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143000" y="349884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81080" y="349884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7120" y="3270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34120" y="5159520"/>
            <a:ext cx="3809880" cy="16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571-C1E1-48D2-8BEC-47689EE332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89320" cy="5205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24280" y="762120"/>
            <a:ext cx="3429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ibrazione per calcolare l’indice 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B-V =f(T</a:t>
            </a:r>
            <a:r>
              <a:rPr b="1" i="1" lang="en-GB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* L’indice di colore osservato deve essere corretto per l’estinzione interstella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B-V)</a:t>
            </a:r>
            <a:r>
              <a:rPr b="1" i="1" lang="en-GB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68E-2A5C-4A60-B000-D70FEFC3D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gnitudine assoluta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gnitudine apparente della stella se fosse ad una distanza di 10 p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M = m + 5 log(d/10)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-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ve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 è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pc e m è la magnitudine appa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 magnitudini sono misurate in un intervallo di lunghezza d’onda, ex. UBV. Per la teoria è meglio l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gnitudine bolometric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finita come  la magnitudine assoluta misurata su tutto lo spettro. La </a:t>
            </a: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correzione bolometric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è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BC = M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Arial"/>
              </a:rPr>
              <a:t>bol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– M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Arial"/>
              </a:rPr>
              <a:t>v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 differenza in magnitudine si misura come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Arial"/>
              </a:rPr>
              <a:t>bol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– M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Arial"/>
              </a:rPr>
              <a:t>bol</a:t>
            </a:r>
            <a:r>
              <a:rPr b="0" i="1" lang="en-GB" sz="2800" spc="-1" strike="noStrike" baseline="30000">
                <a:solidFill>
                  <a:srgbClr val="ff0000"/>
                </a:solidFill>
                <a:latin typeface="Wingdings"/>
                <a:ea typeface="Wingdings"/>
              </a:rPr>
              <a:t>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 = -2.5 log L/L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Wingdings"/>
                <a:ea typeface="Wingdings"/>
              </a:rPr>
              <a:t>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agnitudine assoluta e magnitudine bolometr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933-A402-489E-BF4B-F1994FEE88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er stelle di sequenza principale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321080" cy="433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379728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90792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rrezione bolometrica esempio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067280" y="1557360"/>
          <a:ext cx="7745400" cy="1905120"/>
        </p:xfrm>
        <a:graphic>
          <a:graphicData uri="http://schemas.openxmlformats.org/drawingml/2006/table">
            <a:tbl>
              <a:tblPr/>
              <a:tblGrid>
                <a:gridCol w="7011360"/>
                <a:gridCol w="259200"/>
                <a:gridCol w="259200"/>
                <a:gridCol w="216000"/>
              </a:tblGrid>
              <a:tr h="6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$\displaystyle {\rm BC(V)}=\frac{-5.531~10^{-2}}{X} - 0.6177 + 4.420\; X \;\;\;\;\;\;\;\;\;\;\;\;\;\;\;\;$"/>
          <p:cNvPicPr/>
          <p:nvPr/>
        </p:nvPicPr>
        <p:blipFill>
          <a:blip r:embed="rId3"/>
          <a:stretch/>
        </p:blipFill>
        <p:spPr>
          <a:xfrm>
            <a:off x="684360" y="1268280"/>
            <a:ext cx="2743200" cy="50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$\displaystyle - 2.669 \;X^2 +0.6943 \;X \;{\rm [Fe/H]} \;\;\;\;\;\;\;\;\;\;\;\;\;\;\;\;$"/>
          <p:cNvPicPr/>
          <p:nvPr/>
        </p:nvPicPr>
        <p:blipFill>
          <a:blip r:embed="rId4"/>
          <a:stretch/>
        </p:blipFill>
        <p:spPr>
          <a:xfrm>
            <a:off x="1476360" y="1844640"/>
            <a:ext cx="1905120" cy="3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$\displaystyle \;\;\;\;\;\;\;\;-0.1071 {\rm [Fe/H]} -8.612~10^{-3} {\rm [Fe/H]}^2,\;\;\;\;\;\;\;\;\;\;\; (17)$"/>
          <p:cNvPicPr/>
          <p:nvPr/>
        </p:nvPicPr>
        <p:blipFill>
          <a:blip r:embed="rId5"/>
          <a:stretch/>
        </p:blipFill>
        <p:spPr>
          <a:xfrm>
            <a:off x="755640" y="2205000"/>
            <a:ext cx="3371760" cy="352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70640" y="3199320"/>
            <a:ext cx="16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$X={\rm log}(T_{{\rm eff}})-3.52$"/>
          <p:cNvPicPr/>
          <p:nvPr/>
        </p:nvPicPr>
        <p:blipFill>
          <a:blip r:embed="rId6"/>
          <a:stretch/>
        </p:blipFill>
        <p:spPr>
          <a:xfrm>
            <a:off x="2195640" y="2637000"/>
            <a:ext cx="1209600" cy="26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C91-CE95-4AEA-8523-19430C1FCE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l diagramma HR da Hippar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886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477 stelle singole con misura di distanza precise entro il 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863880" cy="4983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3213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IPPARC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h-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ision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a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lecting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ellite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ine limite: V= 12.4. Completezza, magnitudine V = 7.3-9. Prossima missione  sarà GA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792-7B92-4474-A45D-7B00FCECFA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zione massa luminosità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 le poche stelle di sequenza principale dicui si conosce la massa esiste una relazione massa-luminosit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1" i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ve  n=3-5. La pendenza cambia agli estremi, meno pendente per stelle di grande o piccola mas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ora nel diagramma HS al crescere di L cresce anche la massa (in sequenza principa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03640" cy="3718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95680" y="548640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sogna interpretare teoricamente le relazioni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M-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L-T</a:t>
            </a:r>
            <a:r>
              <a:rPr b="1" i="1" lang="en-GB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8F0-2596-4E2C-8B47-57E21F8629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191120" cy="35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426744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33D-6ADC-4248-8486-5E44B3ADD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tà e Metallicità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ri due parametri importanti delle stelle (e che possono essere stimati) son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l’et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 l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etallicit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 Et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ossono essere stimate dalla Te, L e M sulla base dei modelli di evoluzione stella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omposizi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iene misurata com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X,Y,Z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azione di massa di  H, He e degli altri elem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0.747 ;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0.236 ;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0.0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Z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presenta l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etallicit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Si misura come rapporto tra la quantità di Fe e di H (misurate dalle righe di assorbimento) nella stella rispetto alla stessa quantitò nel sole e si indica 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ff00"/>
                </a:solidFill>
                <a:latin typeface="Symbol"/>
                <a:ea typeface="Symbol"/>
              </a:rPr>
              <a:t>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Fe/H</a:t>
            </a:r>
            <a:r>
              <a:rPr b="1" i="1" lang="en-GB" sz="2400" spc="-1" strike="noStrike">
                <a:solidFill>
                  <a:srgbClr val="00ff00"/>
                </a:solidFill>
                <a:latin typeface="Symbol"/>
                <a:ea typeface="Symbol"/>
              </a:rPr>
              <a:t>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 solito si rappresenta in scala logaritmica quindi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 esempio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[Fe/H] = -1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dica che la stella ha una quantità di metalli pari a 1/10 quella del sole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AD0-9D88-4041-8155-2381F9D83F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Gli ammassi stellar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580500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GC3293 - Open clus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3412800" cy="42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392640" cy="4241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140360" y="580536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7 Tuc – Globula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165-98C8-477F-972C-BCC1C4328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11280" y="0"/>
            <a:ext cx="7632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elle alla stessa distanz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gate dinamic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essa e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essa composizione chi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vaporano con il t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500280"/>
            <a:ext cx="4067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mmassi apert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(le Pleiadi…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a 10 fino a 10</a:t>
            </a:r>
            <a:r>
              <a:rPr b="1" lang="it-IT" sz="2000" spc="-1" strike="noStrike" baseline="30000">
                <a:solidFill>
                  <a:srgbClr val="ffffff"/>
                </a:solidFill>
                <a:latin typeface="Arial"/>
              </a:rPr>
              <a:t>4 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elle di popolazione I ricche di metall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vaporano con il temp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3500280"/>
            <a:ext cx="52196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mmassi globulari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(Omega Centauri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1" lang="it-IT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st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cchi, formati da stelle di Popolazione II povere di metal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irca 200 nella nostra galassia, su orbite ellit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57720"/>
            <a:ext cx="9144000" cy="287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357720"/>
            <a:ext cx="0" cy="2879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2DE-CFA6-4E20-99CA-549DC2E62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l sole e’ una stel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11640" y="1557360"/>
            <a:ext cx="3581280" cy="3313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49719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interno delle stelle non è osservabile: misure fisiche indirette. Neutrini solari emessi dal core. Eliosismologia: vibrazioni della superificie solare che possono essere usate per studiare la struttura.  I MODELLI di struttura stellare devono essere testati su queste osservazion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456000" cy="33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733-4BD1-4FF0-B4EE-142852D1B3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47246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n un ammasso l’età t e Z devono essere gli stessi. Le uniche differenze nel diagramma HD sono dovute alla massa inizi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L’età determina le differenze nei diagrammi HR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28908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638680" y="609480"/>
            <a:ext cx="3262320" cy="5410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15000" y="22860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mmassi aper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empio di diagramma HR per ammasso globul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E9D-7305-4643-B1F4-8AB5F092B9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Sono 4 I parametri fondamentali delle stelle che possono essere osservati e confrontati con I modelli: 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M, R, L, T</a:t>
            </a:r>
            <a:r>
              <a:rPr b="1" i="1" lang="en-GB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 e </a:t>
            </a: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 possono essere misurati direttamente per un numero ridotto di stel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’età, la composizione chimica e M determinano la posizione della stella nel diagramma H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Gli ammassi sono ottimi laboratori perchè le stelle hanno tutte la stessa distanza, età, e 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079-0181-4927-9601-DA6648F64F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04000" cy="46814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ss (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Luminosità (</a:t>
            </a:r>
            <a:r>
              <a:rPr b="1" i="1" lang="en-GB" sz="2400" spc="-1" strike="noStrike">
                <a:solidFill>
                  <a:srgbClr val="ff66ff"/>
                </a:solidFill>
                <a:latin typeface="Arial"/>
              </a:rPr>
              <a:t>L</a:t>
            </a:r>
            <a:r>
              <a:rPr b="1" lang="en-GB" sz="2400" spc="-1" strike="noStrike">
                <a:solidFill>
                  <a:srgbClr val="ff66ff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ergia totale irradiata per secondo i.e. potenza (in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aggio (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eratura effettiva  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mperatura di un corpo nero con lo stesso raggio della stella che irraggerebbe lo stesso ammontare di energi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L= 4</a:t>
            </a:r>
            <a:r>
              <a:rPr b="1" i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i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en-GB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i="1" lang="en-GB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è   la costante di Stefan-Boltzmann  (5.67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RAMETRI FONDAMENTALI DI UNA STELLA: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05000" y="2928960"/>
                <a:ext cx="1401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121-C00A-4785-A27A-EB40805B60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LUSSO DI ENERGIA E DISTANZA STELL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l flusso di energia dipende dalla distanza della stel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F = L /4</a:t>
            </a:r>
            <a:r>
              <a:rPr b="1" i="1" lang="en-GB" sz="2000" spc="-1" strike="noStrike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d è noto, allora si può calcolare L (F è misura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 calcolare la distanza si usa la 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rallax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- il moto stellare apparente dovuto al moto della Terra attorno al So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7560" y="4992840"/>
            <a:ext cx="7294320" cy="1866240"/>
            <a:chOff x="367560" y="4992840"/>
            <a:chExt cx="7294320" cy="1866240"/>
          </a:xfrm>
        </p:grpSpPr>
        <p:sp>
          <p:nvSpPr>
            <p:cNvPr id="52" name=""/>
            <p:cNvSpPr/>
            <p:nvPr/>
          </p:nvSpPr>
          <p:spPr>
            <a:xfrm>
              <a:off x="1066680" y="5105520"/>
              <a:ext cx="457200" cy="10666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5105520"/>
              <a:ext cx="0" cy="10666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95280" y="5638680"/>
              <a:ext cx="22100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5280" y="5105520"/>
              <a:ext cx="2210040" cy="533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295280" y="5638680"/>
              <a:ext cx="221004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7560" y="514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a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63760" y="533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9200" y="639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5280" y="6400800"/>
              <a:ext cx="2210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24800" y="4992840"/>
              <a:ext cx="3637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Per piccoli angoli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1 au/</a:t>
              </a: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d  (tg(p) = 1 au/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= 1/</a:t>
              </a: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parse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n p misurato in arcse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355-EBA4-4739-81C9-44A53C807D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69228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e stelle più vicine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&gt; 1pc ; misure di 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&lt; 1 arcsec ad esempio 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=100 pc,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= 0.01 arc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lescopi a Terra hanno risoluzione  ~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" (Hubble has resolution 0.05“)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difficile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pparcos ha misurato  10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bright stars con risolu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~0.00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1BA-D455-49BC-AA85-062457E5CE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E’ possibile misurare I raggi stellari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836640"/>
            <a:ext cx="88200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ametro angolare del sole a 10 pc è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10pc  = 5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9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dians =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c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frontato con la risoluzione di Hubble: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~0.05 arcs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2120" y="2178000"/>
            <a:ext cx="8381520" cy="4681440"/>
            <a:chOff x="762120" y="2178000"/>
            <a:chExt cx="8381520" cy="4681440"/>
          </a:xfrm>
        </p:grpSpPr>
        <p:sp>
          <p:nvSpPr>
            <p:cNvPr id="66" name=""/>
            <p:cNvSpPr/>
            <p:nvPr/>
          </p:nvSpPr>
          <p:spPr>
            <a:xfrm>
              <a:off x="762120" y="6216840"/>
              <a:ext cx="670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 raggi di  ~600 stelle sono stati misurati con tecniche come interferometria o fanno parte di binarie a eclisse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895480" y="2178000"/>
              <a:ext cx="6248160" cy="39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461-5716-4B34-8EFF-5A0A336DD2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l diagramma Hertzsprung-Russe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699360" y="1523880"/>
            <a:ext cx="5216040" cy="4619880"/>
            <a:chOff x="3699360" y="1523880"/>
            <a:chExt cx="5216040" cy="46198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343400" cy="40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752640" y="5638680"/>
              <a:ext cx="503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lour Index (B-V)   –0.6                          0            +0.6                    +2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99360" y="5867280"/>
              <a:ext cx="495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pectral type             O          B                 A      F       G       K             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04920" y="1905120"/>
            <a:ext cx="41907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, </a:t>
            </a: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, </a:t>
            </a: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L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 e </a:t>
            </a: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en-GB" sz="2000" spc="-1" strike="noStrike" baseline="-25000">
                <a:solidFill>
                  <a:srgbClr val="00ff00"/>
                </a:solidFill>
                <a:latin typeface="Arial"/>
              </a:rPr>
              <a:t>e 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non variano indipendentemente ma sono correlate</a:t>
            </a:r>
            <a:r>
              <a:rPr b="1" lang="en-GB" sz="2000" spc="-1" strike="noStrike" baseline="-25000">
                <a:solidFill>
                  <a:srgbClr val="00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ue relazioni fondamentali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L – T  diagramma di 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Hertzsprung-Russell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 (HR) o </a:t>
            </a:r>
            <a:r>
              <a:rPr b="1" i="1" lang="en-GB" sz="2400" spc="-1" strike="noStrike">
                <a:solidFill>
                  <a:srgbClr val="00ff00"/>
                </a:solidFill>
                <a:latin typeface="Arial"/>
              </a:rPr>
              <a:t>diagramma colore-magnitud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A9B-310A-4A5A-80A1-A20481943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Come costruire diagrammi colore-magnitudin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) Misurare le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~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telle è difficile: sono necessari spettri e modelli di atmosf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) Le magnitudini sono misurate a differenti lunghezze d’onda: il sistema fotometrico standard è il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UBV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90720" y="4572000"/>
          <a:ext cx="6705360" cy="1552680"/>
        </p:xfrm>
        <a:graphic>
          <a:graphicData uri="http://schemas.openxmlformats.org/drawingml/2006/table">
            <a:tbl>
              <a:tblPr/>
              <a:tblGrid>
                <a:gridCol w="1117440"/>
                <a:gridCol w="1117800"/>
                <a:gridCol w="1117440"/>
                <a:gridCol w="1117440"/>
                <a:gridCol w="1117800"/>
                <a:gridCol w="111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n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/n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E2C-13C8-45AB-8ABD-E56608B006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183520" cy="4663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33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Caratteristiche dei filtri UBV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259-4CCE-4B01-B9E2-5192760693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3-17T12:49:35Z</cp:lastPrinted>
  <dcterms:modified xsi:type="dcterms:W3CDTF">2005-11-18T08:12:16Z</dcterms:modified>
  <cp:revision>162</cp:revision>
  <dc:subject/>
  <dc:title>MSci Astrophysics 210PHY412 </dc:title>
</cp:coreProperties>
</file>