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A7A-3DB7-4C3B-8C6F-D39365C0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63E-5A98-443D-A56C-85C50CE4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C2B-C154-4119-B9D6-4E2350AF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7DF-CCB6-43FE-9D3C-3E5DC56D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AC1-BE26-49C4-B04B-67A83851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09E-07FA-44F8-ADEF-0E9AD793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722-EB76-436D-A9E6-86FC8C6C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ECB-C92D-4BF9-8BC0-47F42C0D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FF3-B3DB-4BEB-A6A3-3C7A9400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506-7BF5-4D2B-94A1-E28B231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0EE-F16B-43C0-B011-C06E1E3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22A-A5BC-4871-85B8-53ED8308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E6F5-893F-4DBC-96B8-96FEDDFF21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 stelle sono tenute assieme dalla gravit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l collasso è impedito dalla pressione termica interna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l bilanciamento tra queste due forze determina la struttura delle st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 stella irradia energia nello spazio. Se le proprietà termiche sono costanti deve esserci una sorgente di energ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a teoria per la struttura delle stelle deve descrive l’origine dell’energia e le leggi del trasporto dell’energia alla superifi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22100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cciamo le seguenti due approssimazioni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iamo che le proprietà delle stelle siano costanti nel temp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iamo che le stelle siano sferiche e simmetriche rispetto al cent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760" y="105264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 cosa determina la struttura fisica delle stel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602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quazioni di struttura stellare 1 e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227-EBC4-40DF-BD71-BC5E1A890A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i sono 4 equazioni di struttura stell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biamo considerato le prime due, i.e. quella del supporto idrostatico e quella di conservazione della mass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biamo derivato il temposcala dinam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biamo dimostrato che è valida per la maggioranza delle stelle l’ipotesi di simmetria sferic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828-292E-421B-8736-406F01F722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 stell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solate, statiche e a simmetria sferic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i sono 4 equazioni di base  che descrivono la loro struttura (dipendenza solo radial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Equazione di equilibrio idrostatico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er qulasiasi valore di r le forze di pressione bilanciano quelle di gravità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Conservazione della m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Conservazione dell’energ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er qualsiasi r la variazione nel flusso di energia è legato ad un cambiamento della produzione locale di energ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Equazione del trasporto radiativ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lazione tra il flusso di energia e il gradiente locale di temperatu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65300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 queste equazioni bisogna aggiunge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na equazione di st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’opac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l rate di produzione di energia nel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CD0-7CF3-4B38-805D-3F71617B9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92600" y="1557360"/>
            <a:ext cx="3551400" cy="35416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55760" y="1895400"/>
            <a:ext cx="3956040" cy="4024080"/>
            <a:chOff x="455760" y="1895400"/>
            <a:chExt cx="3956040" cy="402408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293000" y="346680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53" name=""/>
            <p:cNvGraphicFramePr/>
            <p:nvPr/>
          </p:nvGraphicFramePr>
          <p:xfrm>
            <a:off x="455760" y="1895400"/>
            <a:ext cx="2135160" cy="32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5760" y="1895400"/>
                      <a:ext cx="213516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901800" y="3186000"/>
                  <a:ext cx="15732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293000" y="346680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57" name=""/>
            <p:cNvGraphicFramePr/>
            <p:nvPr/>
          </p:nvGraphicFramePr>
          <p:xfrm>
            <a:off x="2386440" y="2931840"/>
            <a:ext cx="858600" cy="360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86440" y="2931840"/>
                      <a:ext cx="8586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686160" y="4487760"/>
            <a:ext cx="3725640" cy="1431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6160" y="4487760"/>
                      <a:ext cx="3725640" cy="14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" name=""/>
          <p:cNvSpPr/>
          <p:nvPr/>
        </p:nvSpPr>
        <p:spPr>
          <a:xfrm>
            <a:off x="0" y="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quilibrio idrosta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2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l bilanciamento tra la forza di attrazione gravitazionale e la spinta idrostatica porta all’equilibrio idrosta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-684360" y="148428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assa dell’elemento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1844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(r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densità in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0500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ilanciamento delle forze nella direzione radial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Forza verso l’esterno dovuto alla pressione idrost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500280"/>
            <a:ext cx="532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2) Forza verso l’interno combinazione della pressione idrostatica a </a:t>
            </a:r>
            <a:r>
              <a:rPr b="0" i="1" lang="it-IT" sz="1600" spc="-1" strike="noStrike">
                <a:solidFill>
                  <a:srgbClr val="ffff00"/>
                </a:solidFill>
                <a:latin typeface="Arial"/>
              </a:rPr>
              <a:t>r + </a:t>
            </a:r>
            <a:r>
              <a:rPr b="0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it-IT" sz="1600" spc="-1" strike="noStrike">
                <a:solidFill>
                  <a:srgbClr val="ffff00"/>
                </a:solidFill>
                <a:latin typeface="Arial"/>
              </a:rPr>
              <a:t> r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  e forza di grav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189-923D-4006-B88F-1B905843E5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3716280"/>
            <a:ext cx="3456000" cy="1081080"/>
          </a:xfrm>
          <a:prstGeom prst="rect">
            <a:avLst/>
          </a:prstGeom>
          <a:solidFill>
            <a:srgbClr val="c0c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80880"/>
            <a:ext cx="3504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ll’equilibri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133720"/>
            <a:ext cx="4724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siderando un elemento infinitesimo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909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6560" y="684360"/>
            <a:ext cx="4564080" cy="2503440"/>
            <a:chOff x="466560" y="684360"/>
            <a:chExt cx="4564080" cy="2503440"/>
          </a:xfrm>
        </p:grpSpPr>
        <p:graphicFrame>
          <p:nvGraphicFramePr>
            <p:cNvPr id="73" name=""/>
            <p:cNvGraphicFramePr/>
            <p:nvPr/>
          </p:nvGraphicFramePr>
          <p:xfrm>
            <a:off x="466560" y="684360"/>
            <a:ext cx="4564080" cy="143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6560" y="684360"/>
                      <a:ext cx="456408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523800" y="2513160"/>
            <a:ext cx="2687760" cy="674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3800" y="2513160"/>
                      <a:ext cx="268776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" name=""/>
          <p:cNvSpPr/>
          <p:nvPr/>
        </p:nvSpPr>
        <p:spPr>
          <a:xfrm>
            <a:off x="468360" y="328464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 quindi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3789360"/>
          <a:ext cx="332424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789360"/>
                    <a:ext cx="33242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419720" y="378936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quazione dell’equilibrio idrosta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580000" y="549360"/>
            <a:ext cx="2982960" cy="224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095-4B1D-47E8-A95F-CA6F9A4371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47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quazione della conservazione della mass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massa 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M(r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ontenuta entro un raggio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ella stella è determinata dalla densità del gas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 r)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821040" cy="381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4508640"/>
            <a:ext cx="4038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 limite per 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57360" y="2514600"/>
          <a:ext cx="4095720" cy="18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2514600"/>
                    <a:ext cx="409572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11280" y="155736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iamo un guscio sottile della stella di raggio interno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esterno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+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.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l volume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è uguale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036-3722-44E3-AA38-874AAE857C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343400" y="2895480"/>
            <a:ext cx="41148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le forze non si bilanciano allora ci sarà una accelerazione risultant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ll’elemento </a:t>
            </a:r>
            <a:r>
              <a:rPr b="1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Accuratezza dell’equilibrio idrostatic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997360"/>
            <a:ext cx="734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indichiamo c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g=GM(r)/r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GB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accelerazione di gravità, allor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3000" y="1584360"/>
            <a:ext cx="5986440" cy="2598840"/>
            <a:chOff x="243000" y="1584360"/>
            <a:chExt cx="5986440" cy="2598840"/>
          </a:xfrm>
        </p:grpSpPr>
        <p:graphicFrame>
          <p:nvGraphicFramePr>
            <p:cNvPr id="95" name=""/>
            <p:cNvGraphicFramePr/>
            <p:nvPr/>
          </p:nvGraphicFramePr>
          <p:xfrm>
            <a:off x="243000" y="1584360"/>
            <a:ext cx="5986440" cy="143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000" y="1584360"/>
                      <a:ext cx="5986440" cy="143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506520" y="3489480"/>
            <a:ext cx="289260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520" y="3489480"/>
                      <a:ext cx="289260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" name=""/>
          <p:cNvSpPr/>
          <p:nvPr/>
        </p:nvSpPr>
        <p:spPr>
          <a:xfrm>
            <a:off x="468360" y="4437000"/>
            <a:ext cx="662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a è l’equazione generalizzata dell’equilibrio idrostatic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8EB-B93B-4ACD-B6EB-A12B96B7D2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737244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niamo ci sia una forza risultante sull’element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 che sia pari a una frazion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della forza gravitazion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773360"/>
            <a:ext cx="75837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 consegeunza c’e’ una accelerazione pari a:  a =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 e lo spostamento spazialein funzione del tempo risulta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268280"/>
          <a:ext cx="187956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18795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184400" y="1943280"/>
          <a:ext cx="22536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4400" y="1943280"/>
                    <a:ext cx="2253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95280" y="2492280"/>
          <a:ext cx="218268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2492280"/>
                    <a:ext cx="21826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04920" y="3809880"/>
            <a:ext cx="7543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95280" y="4005360"/>
                <a:ext cx="1859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1" name=""/>
          <p:cNvGraphicFramePr/>
          <p:nvPr/>
        </p:nvGraphicFramePr>
        <p:xfrm>
          <a:off x="5649840" y="3967200"/>
          <a:ext cx="162900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9840" y="3967200"/>
                    <a:ext cx="1629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50920" y="3357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puo’ ottenere un valore approssimato del tempo richiesto ad una stella per collassar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43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he per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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 diven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544500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è il Temposcala Dinam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A47-B643-4C12-8F5E-54286F0E21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343400" y="27432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838080"/>
            <a:ext cx="4800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stelle ruotano e quindi risultano appiattite ai poli come I pianeti. Vogliamo ora stimare l’ammonstare di questo appiattimento (flattening). Consideriamo un elemento di massa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 prossimità della superficie di una stella di massa M e raggio r.  La forza centripeta è data d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Quanto accurata è l’ipotesi di simmetria sferica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81480" y="762120"/>
            <a:ext cx="3706920" cy="3336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3645000"/>
            <a:ext cx="8458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49600" y="2946240"/>
          <a:ext cx="9493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9600" y="2946240"/>
                    <a:ext cx="9493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06280" y="4043520"/>
          <a:ext cx="5577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80" y="4043520"/>
                    <a:ext cx="5577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24000" y="530064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lora l’ipotesi di simmetria sferica è buon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BE6-AA49-4A78-828B-5AA091918A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87640" y="5490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9144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06440" y="1003320"/>
          <a:ext cx="358776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3320"/>
                    <a:ext cx="358776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ve 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=2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/P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on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  P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eriodo di rotazione della stella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llora l’ipotesi di simmetria sferica è valida se P &gt;&gt; t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il sol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~2000s 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~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ese.  In conclusi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Per la maggior parte delle stelle si può ignorare l’asfericità.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900000" y="476280"/>
            <a:ext cx="687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può legare la precedente relazione a t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013-9EB9-4325-B60D-031713E1BB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dcterms:modified xsi:type="dcterms:W3CDTF">2005-11-09T09:55:59Z</dcterms:modified>
  <cp:revision>189</cp:revision>
  <dc:subject/>
  <dc:title>MSci Astrophysics 210PHY412 </dc:title>
</cp:coreProperties>
</file>