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F98-5EFD-41F7-BCD4-18943C82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A2E-201E-498F-8AD7-BFC1C75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1D2-F3D1-4BE7-8689-5DECDD49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88F-AE63-4075-BA47-2B86CB91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29F-A0DF-4E8D-A63A-CC95D2A7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C6F-8BF3-4EAA-AAAF-331FFD0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0C8-E366-4EA4-805A-BD364C3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185-AE10-421C-BBD5-6C5CF2D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48A-7605-4F18-8C97-0B223A07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154-6609-4189-828C-5849AC6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4C9-6D12-421E-99A6-08FDA5A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08F-6055-4BCB-8DBD-3279FE4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384-F6F9-4A37-B29E-E22596BA4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428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eorema del Viriale e stato fisico del gas stell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DA4-EECC-41BA-A465-D735932DBA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tato fisico del materiale stell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90792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nsità media del sole può essere facilmente stimata co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3520" y="1295280"/>
                <a:ext cx="3070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p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kg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468360" y="1989000"/>
            <a:ext cx="8229600" cy="2438280"/>
            <a:chOff x="468360" y="1989000"/>
            <a:chExt cx="8229600" cy="2438280"/>
          </a:xfrm>
        </p:grpSpPr>
        <p:sp>
          <p:nvSpPr>
            <p:cNvPr id="152" name=""/>
            <p:cNvSpPr/>
            <p:nvPr/>
          </p:nvSpPr>
          <p:spPr>
            <a:xfrm>
              <a:off x="468360" y="1989000"/>
              <a:ext cx="82296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’energia cinetica dei gas in una stella è molto maggiore del potenziale di ionizzazione e quindi le particelle sono ionizzata: plasma. Può sopportare grandi pressioni pur comportandosi ancora come un gas perfetto. Un gas può considerarsi perfetto se la distanza media tra le particelle è molto maggiore delle loro dimensioni. La dimensione nucleare e’ 1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m confrontata con quella atomica di 1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m. Quindi il plasma si comporta come gas perfetto a temperature più elevate.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558200" y="2141280"/>
              <a:ext cx="1066680" cy="685800"/>
              <a:chOff x="7558200" y="2141280"/>
              <a:chExt cx="1066680" cy="68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7558200" y="2293560"/>
                <a:ext cx="1066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Wingdings"/>
                    <a:ea typeface="Wingdings"/>
                  </a:rPr>
                  <a:t>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94560" y="214128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278600" y="2446200"/>
              <a:ext cx="1066680" cy="685800"/>
              <a:chOff x="4278600" y="2446200"/>
              <a:chExt cx="106668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4278600" y="2598480"/>
                <a:ext cx="1066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Wingdings"/>
                    <a:ea typeface="Wingdings"/>
                  </a:rPr>
                  <a:t>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4960" y="244620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68360" y="414972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ora la pressione di radiazione che può essere scritta co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4724280"/>
          <a:ext cx="119700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24280"/>
                    <a:ext cx="119700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952880" y="56386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067280" y="4724280"/>
          <a:ext cx="324000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724280"/>
                    <a:ext cx="32400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411280" y="486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573408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ove a è la costante di radi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5C4-4AB8-4CAC-9426-1B06DC90C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685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frontiamo la pressione del gas con la pressione di radiazione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440" y="1125360"/>
            <a:ext cx="8656560" cy="2211480"/>
            <a:chOff x="487440" y="1125360"/>
            <a:chExt cx="8656560" cy="221148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33320" y="1125360"/>
                  <a:ext cx="28256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T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/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1" name=""/>
            <p:cNvGraphicFramePr/>
            <p:nvPr/>
          </p:nvGraphicFramePr>
          <p:xfrm>
            <a:off x="487440" y="1755720"/>
            <a:ext cx="8656560" cy="158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440" y="1755720"/>
                      <a:ext cx="865656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3" name=""/>
          <p:cNvSpPr/>
          <p:nvPr/>
        </p:nvSpPr>
        <p:spPr>
          <a:xfrm>
            <a:off x="457200" y="34290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la pressione di radiazione appare trascurabile nel sole. Alla fine, senza sapere l’origine dell’energia generata all0interno di una stella siamo stati in grado d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rivare un valore medio della temperatura interna del So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calcolare che è composto da plasma idea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e che la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pressione di radiazione è trascurabile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602-4C16-4882-87F8-56CFDCCF6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ipendenza di P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 dalla massa stellare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0574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90792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 di radiazione può tuttavia diventare importante per stelle di grande massa. Infatti se noi sostituiam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on M/V ottenia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3200" y="1905120"/>
            <a:ext cx="4190760" cy="2782800"/>
            <a:chOff x="673200" y="1905120"/>
            <a:chExt cx="4190760" cy="278280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85800" y="1905120"/>
                  <a:ext cx="36813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pr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0" name=""/>
            <p:cNvGraphicFramePr/>
            <p:nvPr/>
          </p:nvGraphicFramePr>
          <p:xfrm>
            <a:off x="673200" y="2855880"/>
            <a:ext cx="4190760" cy="18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2855880"/>
                      <a:ext cx="419076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2" name="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la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può diventare significativa ad alte temperat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009-CD60-43FF-B9D0-EE4EACFCC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ssione al centro di una stella: valore minim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7650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’ possibile ricavare il valore minimo della pressione al centro senza informazioni sulla composizione o stato fisic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0960" y="1749600"/>
            <a:ext cx="7831080" cy="3603600"/>
            <a:chOff x="480960" y="1749600"/>
            <a:chExt cx="7831080" cy="3603600"/>
          </a:xfrm>
        </p:grpSpPr>
        <p:sp>
          <p:nvSpPr>
            <p:cNvPr id="46" name=""/>
            <p:cNvSpPr/>
            <p:nvPr/>
          </p:nvSpPr>
          <p:spPr>
            <a:xfrm>
              <a:off x="4197240" y="184968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480960" y="1825920"/>
            <a:ext cx="266688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1825920"/>
                      <a:ext cx="266688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4365360" y="1749600"/>
            <a:ext cx="231156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65360" y="1749600"/>
                      <a:ext cx="231156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622680" y="2633760"/>
                  <a:ext cx="35956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/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º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pr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587760" y="3602160"/>
                  <a:ext cx="26193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p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3" name=""/>
            <p:cNvGraphicFramePr/>
            <p:nvPr/>
          </p:nvGraphicFramePr>
          <p:xfrm>
            <a:off x="2949480" y="4492800"/>
            <a:ext cx="4214880" cy="86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49480" y="4492800"/>
                      <a:ext cx="421488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" name=""/>
          <p:cNvGrpSpPr/>
          <p:nvPr/>
        </p:nvGrpSpPr>
        <p:grpSpPr>
          <a:xfrm>
            <a:off x="250920" y="2781360"/>
            <a:ext cx="3276000" cy="2286000"/>
            <a:chOff x="250920" y="2781360"/>
            <a:chExt cx="3276000" cy="2286000"/>
          </a:xfrm>
        </p:grpSpPr>
        <p:sp>
          <p:nvSpPr>
            <p:cNvPr id="56" name=""/>
            <p:cNvSpPr/>
            <p:nvPr/>
          </p:nvSpPr>
          <p:spPr>
            <a:xfrm>
              <a:off x="326880" y="278136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dividono tra loro le eq.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361944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integra (Ms massa stell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6880" y="461016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 limite superiore è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68360" y="5589720"/>
            <a:ext cx="359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Il raggio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987640" y="5516640"/>
          <a:ext cx="1513080" cy="71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5516640"/>
                    <a:ext cx="1513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643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703-412E-4C5D-BE56-93FB3224D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060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ndo che la pressione sulla superficie della stella sia 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9560" y="1293840"/>
            <a:ext cx="1738440" cy="2209680"/>
            <a:chOff x="709560" y="1293840"/>
            <a:chExt cx="1738440" cy="22096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709560" y="1293840"/>
                  <a:ext cx="1738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&gt;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8</m:t>
                          </m:r>
                          <m:sSubSup>
                            <m:e>
                              <m:r>
                                <m:t xml:space="preserve">p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4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8" name=""/>
            <p:cNvGraphicFramePr/>
            <p:nvPr/>
          </p:nvGraphicFramePr>
          <p:xfrm>
            <a:off x="903240" y="2643120"/>
            <a:ext cx="1262160" cy="86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3240" y="2643120"/>
                      <a:ext cx="126216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457200" y="3886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il so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4.5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4.5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vedrà che queste non sono condizioni normali per un g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565360"/>
            <a:ext cx="2232000" cy="10810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723-DAFE-4A62-825A-23BE544D73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eorema del Viriale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9144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e prima si prendono le due equazioni e si dividono tra lor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700280"/>
            <a:ext cx="373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moltiplicano I due lati 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373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integra su tutta la stell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68360" y="1604880"/>
            <a:ext cx="7199280" cy="4217760"/>
            <a:chOff x="468360" y="1604880"/>
            <a:chExt cx="7199280" cy="4217760"/>
          </a:xfrm>
        </p:grpSpPr>
        <p:graphicFrame>
          <p:nvGraphicFramePr>
            <p:cNvPr id="78" name=""/>
            <p:cNvGraphicFramePr/>
            <p:nvPr/>
          </p:nvGraphicFramePr>
          <p:xfrm>
            <a:off x="468360" y="1604880"/>
            <a:ext cx="373824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604880"/>
                      <a:ext cx="373824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3349440" y="2442960"/>
            <a:ext cx="3606840" cy="79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49440" y="2442960"/>
                      <a:ext cx="36068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4073400" y="3433680"/>
            <a:ext cx="3073320" cy="79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3433680"/>
                      <a:ext cx="30733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3933720" y="4197240"/>
              <a:ext cx="373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ff"/>
                  </a:solidFill>
                  <a:latin typeface="Arial"/>
                </a:rPr>
                <a:t>V è il volume contenuto entro il raggio  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7000" y="4578120"/>
              <a:ext cx="4572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integra per parti l’espressione a destra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09640" y="5033880"/>
            <a:ext cx="4343400" cy="788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9640" y="5033880"/>
                      <a:ext cx="434340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" name=""/>
          <p:cNvSpPr/>
          <p:nvPr/>
        </p:nvSpPr>
        <p:spPr>
          <a:xfrm>
            <a:off x="762120" y="59436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centr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sulla superfici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63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12000" y="4797360"/>
          <a:ext cx="313200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4797360"/>
                    <a:ext cx="31320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084720" y="5445000"/>
            <a:ext cx="30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on B(x) integrale del differenziale  (B(x) è P in questo cas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653000"/>
            <a:ext cx="3492360" cy="1584360"/>
          </a:xfrm>
          <a:prstGeom prst="rect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C60-56A2-48CE-A7A0-F74C27530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2064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2120" y="1219320"/>
                <a:ext cx="35049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" y="21337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termine a destra è l’Energia potenziale  gravitazionale  della stella (energia rilasciata nel formare la stella con gas dall’infini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004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 indichiamo tale energia con -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allora il teorema del Viriale divent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76640"/>
            <a:ext cx="67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89080" y="4308480"/>
          <a:ext cx="33069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4308480"/>
                    <a:ext cx="3306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3520" y="57150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75A-A780-4B7E-91F4-ED590E61F7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mperatura minima di una stell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91440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, di cui abbiamo ricavato un valore minimo, è una variabile importante sia nell’equazione di equilibrio idrostatico che nel teorema del Viri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li sono I processi fisici che danno origine alla pressione all’interno di una stell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95280" y="2708280"/>
            <a:ext cx="8153280" cy="3201840"/>
            <a:chOff x="395280" y="2708280"/>
            <a:chExt cx="8153280" cy="3201840"/>
          </a:xfrm>
        </p:grpSpPr>
        <p:sp>
          <p:nvSpPr>
            <p:cNvPr id="106" name=""/>
            <p:cNvSpPr/>
            <p:nvPr/>
          </p:nvSpPr>
          <p:spPr>
            <a:xfrm>
              <a:off x="4433760" y="270828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" y="2708280"/>
              <a:ext cx="81532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Clr>
                  <a:srgbClr val="66ff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ff33"/>
                  </a:solidFill>
                  <a:latin typeface="Arial"/>
                </a:rPr>
                <a:t>Pressione del gas </a:t>
              </a:r>
              <a:r>
                <a:rPr b="1" i="1" lang="en-GB" sz="1800" spc="-1" strike="noStrike">
                  <a:solidFill>
                    <a:srgbClr val="66ff33"/>
                  </a:solidFill>
                  <a:latin typeface="Arial"/>
                </a:rPr>
                <a:t>P</a:t>
              </a:r>
              <a:r>
                <a:rPr b="1" i="1" lang="en-GB" sz="1800" spc="-1" strike="noStrike" baseline="-25000">
                  <a:solidFill>
                    <a:srgbClr val="66ff33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ressione di radiazione </a:t>
              </a:r>
              <a:r>
                <a:rPr b="1" i="1" lang="en-GB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1" i="1" lang="en-GB" sz="1800" spc="-1" strike="noStrike" baseline="-25000">
                  <a:solidFill>
                    <a:srgbClr val="ffff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71240" y="2784240"/>
              <a:ext cx="8013960" cy="3125880"/>
              <a:chOff x="471240" y="2784240"/>
              <a:chExt cx="8013960" cy="3125880"/>
            </a:xfrm>
          </p:grpSpPr>
          <p:sp>
            <p:nvSpPr>
              <p:cNvPr id="109" name=""/>
              <p:cNvSpPr/>
              <p:nvPr/>
            </p:nvSpPr>
            <p:spPr>
              <a:xfrm>
                <a:off x="471240" y="2784240"/>
                <a:ext cx="746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4200" y="4613040"/>
                <a:ext cx="80010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1322280" y="5170320"/>
                    <a:ext cx="226044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2" name=""/>
          <p:cNvSpPr/>
          <p:nvPr/>
        </p:nvSpPr>
        <p:spPr>
          <a:xfrm>
            <a:off x="395280" y="3933720"/>
            <a:ext cx="813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dimostra che all’interno di una stella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trascurabil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P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dominata da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farlo bisgna prima stimare la </a:t>
            </a: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minima temperatura med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i una st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65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arte 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5300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ergia potenziale gravitaz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288-6DAB-47DF-A898-6D703B3FB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9144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 limite superiore a tale energia 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860640"/>
            <a:ext cx="860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 totale è data dalla somma di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= 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+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a stella sia composta da un gas ideale e c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ia trascuarb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87280" y="1557360"/>
            <a:ext cx="5156280" cy="2313000"/>
            <a:chOff x="1187280" y="1557360"/>
            <a:chExt cx="5156280" cy="2313000"/>
          </a:xfrm>
        </p:grpSpPr>
        <p:graphicFrame>
          <p:nvGraphicFramePr>
            <p:cNvPr id="119" name=""/>
            <p:cNvGraphicFramePr/>
            <p:nvPr/>
          </p:nvGraphicFramePr>
          <p:xfrm>
            <a:off x="1187280" y="1557360"/>
            <a:ext cx="5156280" cy="91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1557360"/>
                      <a:ext cx="5156280" cy="9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542960" y="3083040"/>
                  <a:ext cx="36320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V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ρ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609480" y="2666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dM=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dV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il teorema del Viriale divent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8600" y="4624560"/>
          <a:ext cx="4618080" cy="19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00" y="4624560"/>
                    <a:ext cx="46180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00600" y="4800600"/>
            <a:ext cx="401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zione di stato di un gas ide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067-DE8F-4A8A-AE11-2571E2793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600200"/>
            <a:ext cx="750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ilizzando la diseguaglianza scritta in precedenza,  otteni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96252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integrale a sinistra può essere pensato come la somma di tutte le Temperature di tutti gli elementi di massa dM all’interno della stella. We Allora la temperatura media della stella risult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2760" y="787320"/>
            <a:ext cx="4089240" cy="5867640"/>
            <a:chOff x="482760" y="787320"/>
            <a:chExt cx="4089240" cy="5867640"/>
          </a:xfrm>
        </p:grpSpPr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82760" y="787320"/>
                  <a:ext cx="39369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ρ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558720" y="2106720"/>
                  <a:ext cx="3225960" cy="17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&gt;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M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&gt;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M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4114800" y="4419720"/>
              <a:ext cx="457200" cy="533160"/>
              <a:chOff x="4114800" y="4419720"/>
              <a:chExt cx="45720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4114800" y="457200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14800" y="4419720"/>
                <a:ext cx="304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5" name=""/>
            <p:cNvGraphicFramePr/>
            <p:nvPr/>
          </p:nvGraphicFramePr>
          <p:xfrm>
            <a:off x="749160" y="5079960"/>
            <a:ext cx="2463840" cy="157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9160" y="5079960"/>
                      <a:ext cx="2463840" cy="157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468360" y="5634000"/>
            <a:ext cx="1944720" cy="12240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111-9E5E-4D39-B50B-735D82660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907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 per il sole si ha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557360"/>
          <a:ext cx="60451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60451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468360" y="2781360"/>
            <a:ext cx="7467480" cy="1600200"/>
            <a:chOff x="468360" y="2781360"/>
            <a:chExt cx="7467480" cy="1600200"/>
          </a:xfrm>
        </p:grpSpPr>
        <p:sp>
          <p:nvSpPr>
            <p:cNvPr id="144" name=""/>
            <p:cNvSpPr/>
            <p:nvPr/>
          </p:nvSpPr>
          <p:spPr>
            <a:xfrm>
              <a:off x="468360" y="2781360"/>
              <a:ext cx="7467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 e’ l’elemento più abbondante elemento nelle stelle e per idrogeno completamente ionizzato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m/m</a:t>
              </a:r>
              <a:r>
                <a:rPr b="0" i="1" lang="en-GB" sz="18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=1/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(ci sono due particelle, p + e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,per ciascun atomo di H)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. Inoltre per ogni altro elemento,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m/m</a:t>
              </a:r>
              <a:r>
                <a:rPr b="0" i="1" lang="en-GB" sz="18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è minore e quin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25560" y="400032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5560" y="384804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43200" y="4508640"/>
            <a:ext cx="185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2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C6B-CE86-4490-957B-BCE56714C0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14T09:46:38Z</cp:lastPrinted>
  <dcterms:modified xsi:type="dcterms:W3CDTF">2005-11-18T08:14:06Z</dcterms:modified>
  <cp:revision>206</cp:revision>
  <dc:subject/>
  <dc:title>MSci Astrophysics 210PHY412 </dc:title>
</cp:coreProperties>
</file>