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2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9.png" ContentType="image/png"/>
  <Override PartName="/ppt/media/image17.wmf" ContentType="image/x-wmf"/>
  <Override PartName="/ppt/media/image16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18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A5A9-45DD-4153-965A-4687A322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BD75-A054-4C78-922B-50A0DE66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4C76-371A-4CC4-8B3A-EE9FE540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88CB-BCF3-4F0B-8433-F94FD189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D26-D7B6-4F0F-A529-BD978572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EC2D-5789-44CE-AA39-E9F35772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331C-8731-4C42-BC5C-37A80D33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A943-EF70-43F2-BD57-0C221FBE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6B65-83C6-4D44-8974-334C76A8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C6D7-6BFB-4038-8C1C-13C8E21C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E176-6BEA-4EE9-9162-060C5458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1B3C-9B5C-4F8C-B974-02DD670C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B1EE-645C-4F86-A23B-446A86F5DC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11280" y="1700280"/>
            <a:ext cx="70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00"/>
                </a:solidFill>
                <a:latin typeface="Arial"/>
              </a:rPr>
              <a:t>Convezion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0F69-4773-4B0A-97BC-9ADB4864AB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0492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stituendo queste espressioni per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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nella condizione per l’instabilità convettiva ottenuta in precedenza si h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828800"/>
            <a:ext cx="8147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icordando che la cella deve rimanere alla stessa pressione del materiale circostante il limte per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→0 dà la seguent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39640" y="1125360"/>
            <a:ext cx="5346720" cy="2965320"/>
            <a:chOff x="539640" y="1125360"/>
            <a:chExt cx="5346720" cy="2965320"/>
          </a:xfrm>
        </p:grpSpPr>
        <p:graphicFrame>
          <p:nvGraphicFramePr>
            <p:cNvPr id="104" name=""/>
            <p:cNvGraphicFramePr/>
            <p:nvPr/>
          </p:nvGraphicFramePr>
          <p:xfrm>
            <a:off x="539640" y="1125360"/>
            <a:ext cx="5346720" cy="755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9640" y="1125360"/>
                      <a:ext cx="5346720" cy="75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3030480" y="2692080"/>
            <a:ext cx="204840" cy="320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30480" y="2692080"/>
                      <a:ext cx="20484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1973160" y="3335040"/>
            <a:ext cx="2120760" cy="755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73160" y="3335040"/>
                      <a:ext cx="2120760" cy="75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0" name=""/>
          <p:cNvSpPr/>
          <p:nvPr/>
        </p:nvSpPr>
        <p:spPr>
          <a:xfrm>
            <a:off x="457200" y="419112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’espressione a sinistra rappresenta la variazione di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della cella ed è anche la variazione che avrebbe il materiale circostante se ci fosse una relazione di tipo adiabatico tra densità e pressione al variare di r.  A destra c’è la reale variazione della densità con il raggio del materiale stellare.  Possiamo ora dividere entrambi I membri per dP/dr (che è negativa e quindi il segno di diseguaglianza cambia) e otten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2565360"/>
          <a:ext cx="2520720" cy="71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280" y="2565360"/>
                    <a:ext cx="252072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8F96-0520-4DCE-8FB6-CF9533310A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97180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 un gas ideale con trascurabile pressione di radiazione (interno stellare) con m massa media delle particelle, vale l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876920"/>
            <a:ext cx="8153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ziando quest’ultima equazione si ottie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4360" y="369720"/>
            <a:ext cx="6581520" cy="5764320"/>
            <a:chOff x="684360" y="369720"/>
            <a:chExt cx="6581520" cy="5764320"/>
          </a:xfrm>
        </p:grpSpPr>
        <p:graphicFrame>
          <p:nvGraphicFramePr>
            <p:cNvPr id="117" name=""/>
            <p:cNvGraphicFramePr/>
            <p:nvPr/>
          </p:nvGraphicFramePr>
          <p:xfrm>
            <a:off x="2188800" y="369720"/>
            <a:ext cx="2033280" cy="2428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88800" y="369720"/>
                      <a:ext cx="2033280" cy="242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" name=""/>
            <p:cNvGraphicFramePr/>
            <p:nvPr/>
          </p:nvGraphicFramePr>
          <p:xfrm>
            <a:off x="684360" y="3670200"/>
            <a:ext cx="6581520" cy="1101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4360" y="3670200"/>
                      <a:ext cx="6581520" cy="110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1" name=""/>
            <p:cNvGraphicFramePr/>
            <p:nvPr/>
          </p:nvGraphicFramePr>
          <p:xfrm>
            <a:off x="2531880" y="5422680"/>
            <a:ext cx="1667880" cy="711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31880" y="5422680"/>
                      <a:ext cx="166788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3" name=""/>
          <p:cNvSpPr/>
          <p:nvPr/>
        </p:nvSpPr>
        <p:spPr>
          <a:xfrm>
            <a:off x="380880" y="6248520"/>
            <a:ext cx="721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ndo questa e l’equazione per l’instabilità convettiva si h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336-EAE9-4980-894F-B94B237A29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348000" y="189000"/>
          <a:ext cx="153036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89000"/>
                    <a:ext cx="15303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95280" y="1268280"/>
            <a:ext cx="835344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esta è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la condizione all’interno della stella perchè si verifichi instabilità convettiva in termini del gradiente di temperatur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 In altre parole, un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gas è convettivamente instabile se il gradiente di temperatura è maggiore del gradiente adiabatico.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 viene soddisfatta questa condizione, ci sono moti su larga scala per il trasporto di energia.  Ci sono 2 vie per soddisfare questo criteri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è vicino a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l gradiente di temperatura è eleva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 esempio, se il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rilascio di energia al centro della stella è grande, allora ci vuole un gradiente elevato di T per trasportarlo verso l’esterno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ppure, negli strati esterni della stella il gas può essere solo parzialmente ionizzato. Allora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una consistente quantità di calore che viene utilizzato per aumentare la temperatura viene assorbito dal processo di ionizzazione. Il calore specifico a V costante è quasi uguale al calore specifico a P constante e quindi </a:t>
            </a:r>
            <a:r>
              <a:rPr b="0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~1. In questo caso, una stella può avere uno strato convettivo esterno freddo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43280" y="0"/>
            <a:ext cx="2519280" cy="122400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91F4-B5B8-4E3E-9E8C-6E1AF2A6EB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001000" cy="6094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Generazione di energia nelle stelle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914400"/>
            <a:ext cx="8153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 quanta energia ha bisogno il sole perchè conservi il suo flusso attuale?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31640" y="2421000"/>
          <a:ext cx="8712360" cy="22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2421000"/>
                    <a:ext cx="871236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8CE5-6C52-407F-87DC-04F9A8DD0A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quazione per la produzione di energia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914400"/>
            <a:ext cx="4343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a terza equazione di struttura stella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iamo una stella 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immetria sferica con trasporto di energia radiale e non dipendente dal tempo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ff33"/>
                </a:solidFill>
                <a:latin typeface="Arial"/>
              </a:rPr>
              <a:t>L(r)=flusso di energia attraverso una sfera di raggio r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L(r+</a:t>
            </a:r>
            <a:r>
              <a:rPr b="0" i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r)=flusso di energia attraverso una sfera di raggio r +</a:t>
            </a:r>
            <a:r>
              <a:rPr b="0" i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 il guscio è sottile, all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3902040" cy="396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536400" y="5027760"/>
          <a:ext cx="3675240" cy="120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6400" y="5027760"/>
                    <a:ext cx="367524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B5CD-66DD-4094-BBDE-71B2FB0BAE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0492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a 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i="1" lang="en-GB" sz="2000" spc="-1" strike="noStrike">
                <a:solidFill>
                  <a:srgbClr val="ff0000"/>
                </a:solidFill>
                <a:latin typeface="Arial"/>
              </a:rPr>
              <a:t> = produzione di energia per unità di massa e per unità di volum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(Wkg</a:t>
            </a:r>
            <a:r>
              <a:rPr b="1" lang="en-GB" sz="20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)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llora l’energia prodotta nel guscio è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60020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 conservazione dell’energia porta 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84200" y="1282680"/>
            <a:ext cx="3633840" cy="3468600"/>
            <a:chOff x="484200" y="1282680"/>
            <a:chExt cx="3633840" cy="3468600"/>
          </a:xfrm>
        </p:grpSpPr>
        <p:graphicFrame>
          <p:nvGraphicFramePr>
            <p:cNvPr id="57" name=""/>
            <p:cNvGraphicFramePr/>
            <p:nvPr/>
          </p:nvGraphicFramePr>
          <p:xfrm>
            <a:off x="484200" y="2023920"/>
            <a:ext cx="3633840" cy="272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2023920"/>
                      <a:ext cx="3633840" cy="27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662040" y="1282680"/>
                  <a:ext cx="155412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4</m:t>
                      </m:r>
                      <m:sSup>
                        <m:e>
                          <m:r>
                            <m:t xml:space="preserve">p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ρ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dr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533520" y="487692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esta è l’equazione della produzione di energia. Ci sono 5 incognite: 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P(r), M(r), L(r), </a:t>
            </a:r>
            <a:r>
              <a:rPr b="1" i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(r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i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(r)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.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i vuole l’equazione del trasporto di energia!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D111-21F2-439B-B4F2-947B4836C1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rasporto di energ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914400"/>
            <a:ext cx="83818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838080"/>
            <a:ext cx="85345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istono 3 modi per trasportare energi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onvezion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– movimenti di massa del g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onduzio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– scambio di energia per collision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adiazion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– trasporto di energia per emissione e assorbimento di foton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ale domina nelle stell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ergia di una singola particella che può essere trasportata ~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3kT/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è confrontabile con l’energia tipica di un fotone ~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hc/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uttavia le densità di particelle nel plasma è molto maggiore e questo sembrerebbe favorire la conduzion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4508640"/>
            <a:ext cx="7467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UTTAV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an free path (cammino libero medio)  di un fotone ~ 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an free path di una particella ~ 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indi I fotoni si muovono attraverso gradienti di temperatura molto facilmente e trasportano più facilmente energia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domina il trasporto radiativ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0E3F-0EEB-45EF-83D8-6F7EBD2830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914400"/>
            <a:ext cx="83818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943600"/>
            <a:ext cx="6782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e tipica delle granule: 100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Convezione nel so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467160" cy="3594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932360" y="1916280"/>
            <a:ext cx="3887640" cy="252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A42-9514-4E23-8D1E-FE6ADF1F2F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onvezione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914400"/>
            <a:ext cx="3886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 convezione avviene soltanto quando il gradiente di temperatura supera un certo limite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nsideriamo un elemento convettivo ad una distanza r dal centro della stella in equilibrio con il gas circonstant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niamo di sollevarlo a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+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  Si espande ad un nuovo valore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66ff33"/>
                </a:solidFill>
                <a:latin typeface="Arial"/>
              </a:rPr>
              <a:t>P- </a:t>
            </a:r>
            <a:r>
              <a:rPr b="1" i="1" lang="en-GB" sz="1800" spc="-1" strike="noStrike">
                <a:solidFill>
                  <a:srgbClr val="66ff33"/>
                </a:solidFill>
                <a:latin typeface="Symbol"/>
                <a:ea typeface="Symbol"/>
              </a:rPr>
              <a:t></a:t>
            </a:r>
            <a:r>
              <a:rPr b="1" i="1" lang="en-GB" sz="1800" spc="-1" strike="noStrike">
                <a:solidFill>
                  <a:srgbClr val="66ff33"/>
                </a:solidFill>
                <a:latin typeface="Arial"/>
              </a:rPr>
              <a:t>P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  </a:t>
            </a:r>
            <a:r>
              <a:rPr b="1" lang="en-GB" sz="1800" spc="-1" strike="noStrike">
                <a:solidFill>
                  <a:srgbClr val="66ff33"/>
                </a:solidFill>
                <a:latin typeface="Symbol"/>
                <a:ea typeface="Symbol"/>
              </a:rPr>
              <a:t>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 - </a:t>
            </a:r>
            <a:r>
              <a:rPr b="1" lang="en-GB" sz="1800" spc="-1" strike="noStrike">
                <a:solidFill>
                  <a:srgbClr val="66ff33"/>
                </a:solidFill>
                <a:latin typeface="Symbol"/>
                <a:ea typeface="Symbol"/>
              </a:rPr>
              <a:t>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191120" y="990720"/>
            <a:ext cx="4667040" cy="397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876920" y="609480"/>
            <a:ext cx="4267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518148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esti valori potrebbero non coincidere con quelli del gas circostante: 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P- </a:t>
            </a:r>
            <a:r>
              <a:rPr b="1" i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 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i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 l’elemento di gas è più denso a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+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sprofonda (convettivamente stabi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 è meno denso continua a salire–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convettivamente instab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820B-C2C9-48A5-AC3C-879DB7525F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3049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 condizione per l’instabilità è quin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341360"/>
            <a:ext cx="7696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 condizioni per il verificarsi dell’instabilità dipendono 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anto si espande l’elemento per la diminuzione di 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anto cala la densità del gas con l’altezz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263700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cciamo due assunzioni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’elemento sale adiabaticamente (senza scambio di calore) cioè  vale l’equazio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’elemento sale con una velocità minore della velocità del suono. Durante il moto le onde sonore possono ridurre le differenze di pressione tra l’elemento e l’ambiente (no onde di shock).  Quindi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P =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P ad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gni istante di temp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494172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77800" y="860400"/>
                <a:ext cx="176076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ρ</m:t>
                    </m:r>
                    <m:r>
                      <m:t xml:space="preserve">&lt;</m:t>
                    </m:r>
                    <m:r>
                      <m:t xml:space="preserve">ρ</m:t>
                    </m:r>
                    <m:r>
                      <m:t xml:space="preserve">−</m:t>
                    </m:r>
                    <m:r>
                      <m:t xml:space="preserve">Dρ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4" name=""/>
          <p:cNvGraphicFramePr/>
          <p:nvPr/>
        </p:nvGraphicFramePr>
        <p:xfrm>
          <a:off x="2268360" y="3284640"/>
          <a:ext cx="1740240" cy="3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284640"/>
                    <a:ext cx="174024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457200" y="579132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84720" y="3284640"/>
            <a:ext cx="22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=c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/c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3BDA-4247-412D-986A-6BBC5244FA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28600"/>
            <a:ext cx="808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o che  V è inversamente proporzionale a 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(M=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) , abbiam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447920"/>
            <a:ext cx="8076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ra eguagliando I due valori di P e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  e r+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i ottie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299736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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è piccolo si può espandere (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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 il teorema del binomi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4724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 calcoliamo come varia la densità del materiale 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 una variazione infinitesima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49200" y="609480"/>
            <a:ext cx="7242120" cy="5662800"/>
            <a:chOff x="349200" y="609480"/>
            <a:chExt cx="7242120" cy="5662800"/>
          </a:xfrm>
        </p:grpSpPr>
        <p:graphicFrame>
          <p:nvGraphicFramePr>
            <p:cNvPr id="94" name=""/>
            <p:cNvGraphicFramePr/>
            <p:nvPr/>
          </p:nvGraphicFramePr>
          <p:xfrm>
            <a:off x="468360" y="609480"/>
            <a:ext cx="1623960" cy="755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609480"/>
                      <a:ext cx="1623960" cy="75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566640" y="2079720"/>
                  <a:ext cx="2284560" cy="71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P</m:t>
                          </m:r>
                          <m:r>
                            <m:t xml:space="preserve">−</m:t>
                          </m:r>
                          <m:r>
                            <m:t xml:space="preserve">dP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ρ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dρ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g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</m:num>
                        <m:den>
                          <m:sSup>
                            <m:e>
                              <m:r>
                                <m:t xml:space="preserve">ρ</m:t>
                              </m:r>
                            </m:e>
                            <m:sup>
                              <m:r>
                                <m:t xml:space="preserve">g</m:t>
                              </m:r>
                            </m:sup>
                          </m:sSup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     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97" name=""/>
            <p:cNvGraphicFramePr/>
            <p:nvPr/>
          </p:nvGraphicFramePr>
          <p:xfrm>
            <a:off x="349200" y="3363840"/>
            <a:ext cx="7242120" cy="12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0" y="3363840"/>
                      <a:ext cx="7242120" cy="12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806400" y="5605560"/>
                  <a:ext cx="180504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ρ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ρ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</m:den>
                      </m:f>
                      <m:r>
                        <m:t xml:space="preserve">d</m:t>
                      </m:r>
                      <m:r>
                        <m:rPr>
                          <m:lit/>
                          <m:nor/>
                        </m:rPr>
                        <m:t xml:space="preserve">r       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9144-F8F0-4A12-8107-7F0247F279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09:46:16Z</dcterms:created>
  <dc:creator>Stephen Smartt</dc:creator>
  <dc:description/>
  <dc:language>en-US</dc:language>
  <cp:lastModifiedBy>marzari</cp:lastModifiedBy>
  <cp:lastPrinted>2005-04-15T11:21:09Z</cp:lastPrinted>
  <dcterms:modified xsi:type="dcterms:W3CDTF">2005-11-18T08:24:58Z</dcterms:modified>
  <cp:revision>196</cp:revision>
  <dc:subject/>
  <dc:title>MSci Astrophysics 210PHY412 </dc:title>
</cp:coreProperties>
</file>