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3.wmf" ContentType="image/x-wmf"/>
  <Override PartName="/ppt/media/image26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828-AD27-4899-A329-CD15EAC3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A80-D63F-465C-93C4-B580C911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34E-2DDC-49B7-ADFC-ACC22CE1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A760-3854-452E-A3D8-480EF48D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E39-2B09-427F-9D79-992EB88E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0EB-23FD-4145-846C-07951F98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609-B446-4296-8685-D20668DB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47C-E50B-4F17-B3A1-33EAF55D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FF59-94E6-465E-9C6D-DD92AB24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B8C2-1E4D-4B78-B721-0027D2B9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30D6-FE44-435E-9107-4AFF97EA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F5CD-AEEB-48DE-B80B-64BBF218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8AF4-5DD9-40EF-BE23-83FD32B5CB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verything2.com/index.pl?node=MeV" TargetMode="External"/><Relationship Id="rId3" Type="http://schemas.openxmlformats.org/officeDocument/2006/relationships/hyperlink" Target="http://www.everything2.com/index.pl?node=MeV" TargetMode="External"/><Relationship Id="rId4" Type="http://schemas.openxmlformats.org/officeDocument/2006/relationships/hyperlink" Target="http://www.everything2.com/index.pl?node=MeV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97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Reazioni Nucleari nelle stel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3FF-9C48-4B03-B285-B275079981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oduzione di energia e dei neutrin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692280"/>
            <a:ext cx="8610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’energia rilasciata nella formazione di una particella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è data dalla differenza in mass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1484280"/>
          <a:ext cx="761184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6118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95280" y="220500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gni diramazione che completa questa trasformazione deve trasformare 2 p</a:t>
            </a:r>
            <a:r>
              <a:rPr b="1" lang="en-GB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in due n, anche 2 neutrini sono prodotti, che portano via energia.  Questi neutrini sono l’unica prova diretta che avengono reazioni nucleari all’interno del sole.  Il flusso medio di energia nei neutrini è  ~0.26MeV per la creazione di deuterio (PPI/II) e  ~7.2MeV per il decadimento Beta (PPIII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sperimenti per I neutrini solari: Super-Kamiokande (Giappone), GALLAX (Italia), SAGE (Russia), SNO (Canada). Non vengono misurati abbastanza neutrini solari (solo 1/3): perchè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erchè ci sono le oscillazioni dei neutrini (hanno massa) durante il tragitto dal Sole alla Terra. Quindi I neutrini dell’Elettrone possono diventare neutrini del Muone o del Tau. L’esperimento all’SNO ha mostrato che sommando I 3 tipi di neutrini si ottiene con buona approssimazione il flusso solare previsto dai modell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D15F-76A3-4415-996E-E50CA07880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3059280" cy="76500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7772400" cy="2797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l ciclo CN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95680"/>
            <a:ext cx="3962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+ p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+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+ p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+ p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+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+ p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+ 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3962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92280"/>
            <a:ext cx="9145440" cy="916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All’inizio una stella contiene solo una frazione di elementi pesanti (2%) di cui i più abbondanti sono Carbonio, Ossigeno e Azoto (CNO). Questi nuclei possono indurre una catena di fusione dell’H agendo come catalizzatori. Il processo è noto come ciclo CNO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0F85-8CB7-47BA-80DC-AEBF5666A3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Dipendenza dalla Temperatura delle varie diramazioni (PP e CNO)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 catene PP e il ciclo CNO hanno diverse dipendenze dalla temperatura. Il rate di produzione di energia nei due casi è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16000" y="2060640"/>
          <a:ext cx="6191280" cy="95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2060640"/>
                    <a:ext cx="619128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50920" y="2997360"/>
          <a:ext cx="6676920" cy="101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997360"/>
                    <a:ext cx="667692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24000" y="400536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 si equagliano le temperature in cui I due processi danno lo stesso ammontare di energia si ottiene l’espressione approssimat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16000" y="4581360"/>
          <a:ext cx="3940200" cy="126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4581360"/>
                    <a:ext cx="3940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24000" y="5805360"/>
            <a:ext cx="8497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 di sotto di questa temperatura dominano le catene PP, sopra domina il ciclo CNO. Questo avviene per stelle co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ssa maggiore del sole, cioè 1.2-1.5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Wingdings"/>
                <a:ea typeface="Wingdings"/>
              </a:rPr>
              <a:t>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77080" y="2205000"/>
            <a:ext cx="2266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PP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he indica il tipo di PP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C1C0-8764-40A7-8C52-4FF6A8F2CC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4087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76720" y="3776760"/>
            <a:ext cx="4067280" cy="308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59F8-ED85-4CBC-9672-185D3610B0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La reazione triplo-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: la fusione dell’H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987640" y="2997360"/>
                <a:ext cx="5904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α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D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He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DM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d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5Me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692280"/>
            <a:ext cx="85694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più semplice reazione in un gas di He è la fusione di due nuclei di He. Non c’è una configurazione stabile con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A=8.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 esempio l’isotopo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del Berillio 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 ha una vita media di soli 2.6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16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 + 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 un terzo nucleo di He può essere aggiunti al 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 prima che decada formando 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 per mezzo della reazione  “triple-alpha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 + 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 + 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 +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716280"/>
            <a:ext cx="5181480" cy="26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5148360" y="4111560"/>
          <a:ext cx="3995640" cy="71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4111560"/>
                    <a:ext cx="39956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219640" y="5084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Notevole dipendenza dalla Temperatura.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CF6D-97C8-4E7E-981E-5CF67AE6EB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usione del Carbonio e dell’Ossigen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914400"/>
            <a:ext cx="85341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fusione del Carbonio richiete temperature maggiori di 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K, mentre quelle di fusione dell’ossigeno maggiori di 10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K. Le interazioni tra C e O sono trascularbili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773360"/>
            <a:ext cx="396252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66ff33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C + </a:t>
            </a:r>
            <a:r>
              <a:rPr b="1" lang="en-US" sz="1800" spc="-1" strike="noStrike" baseline="30000">
                <a:solidFill>
                  <a:srgbClr val="66ff33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C  </a:t>
            </a:r>
            <a:r>
              <a:rPr b="1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1800" spc="-1" strike="noStrike" baseline="30000">
                <a:solidFill>
                  <a:srgbClr val="66ff33"/>
                </a:solidFill>
                <a:latin typeface="Arial"/>
              </a:rPr>
              <a:t>24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Mg + </a:t>
            </a:r>
            <a:r>
              <a:rPr b="1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66ff33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1800" spc="-1" strike="noStrike" baseline="30000">
                <a:solidFill>
                  <a:srgbClr val="66ff33"/>
                </a:solidFill>
                <a:latin typeface="Arial"/>
              </a:rPr>
              <a:t>23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Mg + 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66ff33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1800" spc="-1" strike="noStrike" baseline="30000">
                <a:solidFill>
                  <a:srgbClr val="66ff33"/>
                </a:solidFill>
                <a:latin typeface="Arial"/>
              </a:rPr>
              <a:t>23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Na + 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1800" spc="-1" strike="noStrike" baseline="30000">
                <a:solidFill>
                  <a:srgbClr val="66ff33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Ne + </a:t>
            </a:r>
            <a:r>
              <a:rPr b="1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1800" spc="-1" strike="noStrike" baseline="30000">
                <a:solidFill>
                  <a:srgbClr val="66ff33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O + 2</a:t>
            </a:r>
            <a:r>
              <a:rPr b="1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40360" y="1773360"/>
            <a:ext cx="39621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ff7c8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O + </a:t>
            </a:r>
            <a:r>
              <a:rPr b="1" lang="en-US" sz="1800" spc="-1" strike="noStrike" baseline="30000">
                <a:solidFill>
                  <a:srgbClr val="ff7c8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O  </a:t>
            </a:r>
            <a:r>
              <a:rPr b="1" lang="en-US" sz="1800" spc="-1" strike="noStrike">
                <a:solidFill>
                  <a:srgbClr val="ff7c8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 </a:t>
            </a:r>
            <a:r>
              <a:rPr b="1" lang="en-US" sz="1800" spc="-1" strike="noStrike" baseline="30000">
                <a:solidFill>
                  <a:srgbClr val="ff7c8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S + </a:t>
            </a:r>
            <a:r>
              <a:rPr b="1" lang="en-US" sz="1800" spc="-1" strike="noStrike">
                <a:solidFill>
                  <a:srgbClr val="ff7c8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ff7c8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7c8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 </a:t>
            </a:r>
            <a:r>
              <a:rPr b="1" lang="en-US" sz="1800" spc="-1" strike="noStrike" baseline="30000">
                <a:solidFill>
                  <a:srgbClr val="ff7c80"/>
                </a:solidFill>
                <a:latin typeface="Arial"/>
              </a:rPr>
              <a:t>31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S + 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ff7c8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7c8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 </a:t>
            </a:r>
            <a:r>
              <a:rPr b="1" lang="en-US" sz="1800" spc="-1" strike="noStrike" baseline="30000">
                <a:solidFill>
                  <a:srgbClr val="ff7c80"/>
                </a:solidFill>
                <a:latin typeface="Arial"/>
              </a:rPr>
              <a:t>31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P + 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ff7c8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 </a:t>
            </a:r>
            <a:r>
              <a:rPr b="1" lang="en-US" sz="1800" spc="-1" strike="noStrike" baseline="30000">
                <a:solidFill>
                  <a:srgbClr val="ff7c80"/>
                </a:solidFill>
                <a:latin typeface="Arial"/>
              </a:rPr>
              <a:t>28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Si + </a:t>
            </a:r>
            <a:r>
              <a:rPr b="1" lang="en-US" sz="1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ff7c8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 </a:t>
            </a:r>
            <a:r>
              <a:rPr b="1" lang="en-US" sz="1800" spc="-1" strike="noStrike" baseline="30000">
                <a:solidFill>
                  <a:srgbClr val="ff7c80"/>
                </a:solidFill>
                <a:latin typeface="Arial"/>
              </a:rPr>
              <a:t>24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Mg + 2</a:t>
            </a:r>
            <a:r>
              <a:rPr b="1" lang="en-US" sz="1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4419720"/>
            <a:ext cx="8610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 branching ratios delle reazioni dipendono dalla Temperatur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 + 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~13MeV (~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5.2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JKg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 + 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~16MeV (~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4.8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JKg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este reazioni producono p, n,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che sono immediatamente catturati da nuceli pesanti portando alla formazione di isotop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6B4-ACE9-4CD7-B9B4-BBD1157A6C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Fusione del Silicio e equilibrio nucleare statistico (NSE)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2843280" cy="185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2881440" cy="357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522936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4724280"/>
            <a:ext cx="82184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 +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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800" spc="-1" strike="noStrike" baseline="30000">
                <a:solidFill>
                  <a:srgbClr val="ffffff"/>
                </a:solidFill>
                <a:latin typeface="Arial"/>
              </a:rPr>
              <a:t>20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e +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Questo produce Ne a T~10</a:t>
            </a:r>
            <a:r>
              <a:rPr b="1" lang="en-GB" sz="18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K ma si inverte a temperature maggiori di 1.5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 fusione del Si è accompaganta da un complicato intreccio di reazioni di fotodissiociazione e cattura. Alla fine ri raggiunge l’equilibrio statistico nuclea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788000" y="1484280"/>
            <a:ext cx="2119320" cy="1981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276720" y="2276640"/>
            <a:ext cx="1008000" cy="431640"/>
          </a:xfrm>
          <a:prstGeom prst="rightArrow">
            <a:avLst>
              <a:gd name="adj1" fmla="val 50000"/>
              <a:gd name="adj2" fmla="val 583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400536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Tuttavia le reazioni sono complicate e avvengono reazioni di fotodissociazione. Ad esemp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184464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urata approx. 1 gior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DF1-7A1C-4F35-A9C9-14CEF5A5E3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iassunto dei maggiori processi di fusio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9144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413000"/>
          <a:ext cx="8640360" cy="4330080"/>
        </p:xfrm>
        <a:graphic>
          <a:graphicData uri="http://schemas.openxmlformats.org/drawingml/2006/table">
            <a:tbl>
              <a:tblPr/>
              <a:tblGrid>
                <a:gridCol w="1102320"/>
                <a:gridCol w="1100520"/>
                <a:gridCol w="1102320"/>
                <a:gridCol w="1994760"/>
                <a:gridCol w="3340440"/>
              </a:tblGrid>
              <a:tr h="99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Nuclear Fu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66ff33"/>
                          </a:solidFill>
                          <a:latin typeface="Arial"/>
                        </a:rPr>
                        <a:t>threshol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66ff33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Produ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Energy per nucleon (Mev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P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~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6.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C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6.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C,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0.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C+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O,Ne,Ma,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O+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Mg,S,P,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~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Nuc eq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Co,Fe,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&lt;0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2E6-6477-42CB-B8AC-DA9341FB7C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08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ormazione degli elementi pesanti: I processi r ed s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052640"/>
            <a:ext cx="80769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ra I nuclei e I neutroni liberi prodotti duranto la fusione del C,O e Si avvengono dei processi di cattura (cattura neutronica).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La cattura dei neutroni da parte dei nuclei pesant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non è limitiata dalla barriera Coulombiana e quindi procede anche a temperature basse.  L’unico possibile ostacolo è la mancanza di neutroni, altrimenti se ci sono abbastanza n sono possibili le seguenti reazion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270828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(A,  Z)      + 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+1, Z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+1,  Z) + 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+2, Z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+2,  Z) + 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+3, Z)    …et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86064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 si forma un isotopo radioattivo,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decaderà </a:t>
            </a:r>
            <a:r>
              <a:rPr b="0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creando nuovi elemen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24000" y="6308640"/>
            <a:ext cx="7924680" cy="1676520"/>
            <a:chOff x="324000" y="6308640"/>
            <a:chExt cx="7924680" cy="1676520"/>
          </a:xfrm>
        </p:grpSpPr>
        <p:sp>
          <p:nvSpPr>
            <p:cNvPr id="153" name=""/>
            <p:cNvSpPr/>
            <p:nvPr/>
          </p:nvSpPr>
          <p:spPr>
            <a:xfrm>
              <a:off x="324000" y="6308640"/>
              <a:ext cx="79246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4362480" y="7147080"/>
              <a:ext cx="304920" cy="444240"/>
              <a:chOff x="4362480" y="7147080"/>
              <a:chExt cx="304920" cy="444240"/>
            </a:xfrm>
          </p:grpSpPr>
          <p:sp>
            <p:nvSpPr>
              <p:cNvPr id="155" name=""/>
              <p:cNvSpPr/>
              <p:nvPr/>
            </p:nvSpPr>
            <p:spPr>
              <a:xfrm>
                <a:off x="4364280" y="72230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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362480" y="7147080"/>
                <a:ext cx="30492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362480" y="7527960"/>
              <a:ext cx="304920" cy="444240"/>
              <a:chOff x="4362480" y="7527960"/>
              <a:chExt cx="304920" cy="444240"/>
            </a:xfrm>
          </p:grpSpPr>
          <p:sp>
            <p:nvSpPr>
              <p:cNvPr id="158" name=""/>
              <p:cNvSpPr/>
              <p:nvPr/>
            </p:nvSpPr>
            <p:spPr>
              <a:xfrm>
                <a:off x="4364280" y="760392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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62480" y="7527960"/>
                <a:ext cx="30492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324000" y="4437000"/>
            <a:ext cx="79200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(A+N,  Z)  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J(A+N, Z+1) +  e</a:t>
            </a:r>
            <a:r>
              <a:rPr b="0" lang="en-GB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 il nuovo elemento è stabile allora riprenderà il processo di cattura neutronica, altrimenti può andare incontro ad una serie ulteriore di decadimenti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(A+N,  Z+1)  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K(A+N, Z+2) +  e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(A+N,  Z+2)  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L(A+N, Z+3) +  e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27640" y="6381720"/>
            <a:ext cx="1443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4581360"/>
            <a:ext cx="1443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6093000"/>
            <a:ext cx="1447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EEAF-ADFD-41E4-A45D-0EC47F415A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228600"/>
            <a:ext cx="84582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ue sono I processi importanti: cattura neutronica e decadimento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 nuclei stabili possono soltanto catturare neutroni. I nuclei instabili possono sia catturare neutroni che avere il decadimento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2438280"/>
            <a:ext cx="80773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2914920" cy="24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12076" t="9802" r="17323" b="50395"/>
          <a:stretch/>
        </p:blipFill>
        <p:spPr>
          <a:xfrm>
            <a:off x="3924360" y="3357720"/>
            <a:ext cx="4841640" cy="20476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5280" y="1628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A seconda che la cattura neutronica sia più veloce o meno veloce del decadimento si palra di processo R o processo S.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78136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rocesso R (Rapid..): esemp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3640" y="57340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it-IT" sz="18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stà per particella </a:t>
            </a:r>
            <a:r>
              <a:rPr b="1" lang="it-IT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 cieè elettrone (</a:t>
            </a:r>
            <a:r>
              <a:rPr b="1" lang="it-IT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it-IT" sz="1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 positro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C40D-C992-4670-8E09-724D0DA281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Energia di legame del nucleo atomico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838080"/>
            <a:ext cx="784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a descrizione di una reazione nucleare è la seguente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24000" y="1197000"/>
          <a:ext cx="789912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78991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80880" y="1981080"/>
            <a:ext cx="8294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ove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7c80"/>
                </a:solidFill>
                <a:latin typeface="Arial"/>
              </a:rPr>
              <a:t>A</a:t>
            </a:r>
            <a:r>
              <a:rPr b="1" i="1" lang="en-GB" sz="2000" spc="-1" strike="noStrike" baseline="-25000">
                <a:solidFill>
                  <a:srgbClr val="ff7c80"/>
                </a:solidFill>
                <a:latin typeface="Arial"/>
              </a:rPr>
              <a:t>i </a:t>
            </a:r>
            <a:r>
              <a:rPr b="1" i="1" lang="en-GB" sz="2000" spc="-1" strike="noStrike">
                <a:solidFill>
                  <a:srgbClr val="ff7c80"/>
                </a:solidFill>
                <a:latin typeface="Arial"/>
              </a:rPr>
              <a:t>=  numero barionico, o numero nucleonico  (massa nuclear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7c80"/>
                </a:solidFill>
                <a:latin typeface="Arial"/>
              </a:rPr>
              <a:t>Z</a:t>
            </a:r>
            <a:r>
              <a:rPr b="1" i="1" lang="en-GB" sz="2000" spc="-1" strike="noStrike" baseline="-25000">
                <a:solidFill>
                  <a:srgbClr val="ff7c80"/>
                </a:solidFill>
                <a:latin typeface="Arial"/>
              </a:rPr>
              <a:t>i </a:t>
            </a:r>
            <a:r>
              <a:rPr b="1" i="1" lang="en-GB" sz="2000" spc="-1" strike="noStrike">
                <a:solidFill>
                  <a:srgbClr val="ff7c80"/>
                </a:solidFill>
                <a:latin typeface="Arial"/>
              </a:rPr>
              <a:t>= carica nucle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l nucleo è definito univocamente da due interi,  </a:t>
            </a:r>
            <a:r>
              <a:rPr b="1" i="1" lang="en-GB" sz="2000" spc="-1" strike="noStrike">
                <a:solidFill>
                  <a:srgbClr val="ff7c80"/>
                </a:solidFill>
                <a:latin typeface="Arial"/>
              </a:rPr>
              <a:t>A</a:t>
            </a:r>
            <a:r>
              <a:rPr b="1" i="1" lang="en-GB" sz="20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1" i="1" lang="en-GB" sz="2000" spc="-1" strike="noStrike" baseline="-25000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i="1" lang="en-GB" sz="2000" spc="-1" strike="noStrike">
                <a:solidFill>
                  <a:srgbClr val="ff7c80"/>
                </a:solidFill>
                <a:latin typeface="Arial"/>
              </a:rPr>
              <a:t>Z</a:t>
            </a:r>
            <a:r>
              <a:rPr b="1" i="1" lang="en-GB" sz="20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1" i="1" lang="en-GB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3789360"/>
            <a:ext cx="8748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 ogni reazione nucleare si devono conservare le seguenti quantità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Numero barionico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– protoni, neutroni e le loro antiparticel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Numero leptonico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– electroni, positroni, neutrini, and anti-neutrini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buClr>
                <a:srgbClr val="66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Ca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le antiparticlle hanno numeri barionici e leptonici invers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9D7D-91C4-47FD-9982-17A93C5C1D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ocessi 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5776" t="8399" r="18898" b="9096"/>
          <a:stretch/>
        </p:blipFill>
        <p:spPr>
          <a:xfrm>
            <a:off x="228600" y="3124080"/>
            <a:ext cx="3505320" cy="2880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rcRect l="0" t="22048" r="0" b="0"/>
          <a:stretch/>
        </p:blipFill>
        <p:spPr>
          <a:xfrm>
            <a:off x="4876920" y="1981080"/>
            <a:ext cx="4267080" cy="2495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016160" y="2666880"/>
            <a:ext cx="62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360" y="613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1197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La cattura neutronica è lento e il decadimento avviene prima di una seconda cattur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E0D-96C5-439B-A07D-3646E39150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260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mmario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1371600"/>
            <a:ext cx="883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biamo analizzato I vari processi responsabili della produzione di energia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all’interno delle stel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Abbiamo visto il principio alla base della produzione di energia durante la fus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Sono stati descritti le catene  PP e il ciclo C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Abbiamo analizzato le reazioni triplo-</a:t>
            </a:r>
            <a:r>
              <a:rPr b="1" lang="en-GB" sz="2400" spc="-1" strike="noStrike">
                <a:solidFill>
                  <a:srgbClr val="66ff33"/>
                </a:solidFill>
                <a:latin typeface="Symbol"/>
                <a:ea typeface="Symbol"/>
              </a:rPr>
              <a:t>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e la fusione dell’H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Sono discussi gli stadi finali di fusione di C,O, 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Abbiamo descritto I processi R ed S alla base dell’origine degli elementi più pesanti del F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48C-86A1-45B6-A8C4-CAD87F9E24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04920"/>
            <a:ext cx="8381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La massa totale dei nuclei è minore della somma delle masse dei costituenti e la differenza è dovuta alla energia di legame del nucleo composto. Secondo la relazione di Einstein, la differenza in massa è l’energia di legame: </a:t>
            </a:r>
            <a:r>
              <a:rPr b="1" i="1" lang="en-GB" sz="2000" spc="-1" strike="noStrike">
                <a:solidFill>
                  <a:srgbClr val="66ff33"/>
                </a:solidFill>
                <a:latin typeface="Arial"/>
              </a:rPr>
              <a:t>E=mc</a:t>
            </a:r>
            <a:r>
              <a:rPr b="1" i="1" lang="en-GB" sz="2000" spc="-1" strike="noStrike" baseline="30000">
                <a:solidFill>
                  <a:srgbClr val="66ff33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99"/>
                </a:solidFill>
                <a:latin typeface="Arial"/>
              </a:rPr>
              <a:t>Una quantità importante è l’energia di legame per nucleone data da (A = numero barionico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700280"/>
          <a:ext cx="5715000" cy="71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00280"/>
                    <a:ext cx="571500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755640" y="4292640"/>
          <a:ext cx="136836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4292640"/>
                    <a:ext cx="136836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F80-ECC1-411B-886B-D0EE3FFD21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6372360" cy="5069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890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ergia di legame per nucleone: come v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1197000"/>
            <a:ext cx="27003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l trend generale è una crescita di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con la massa atomica fino a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A=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56 (Fe).  Quindi scende in modo monoton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’e’ una crescita molto ripida all’inizio, quindi 2H, 3He, to 4He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la fusione dei H da’ molto piu’ energia per unità di massa che la fusione di He to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’energia si guadagna dalla fusione di elementi leggeri in pesanti o per fissione di elementi pesanti quando siamo oltre il F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DA3B-901B-46B6-A68E-55F5D9F8A1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azioni di fusio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914400"/>
            <a:ext cx="88390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erifichiamo ora in quali condizioni si può verificare la fusione e se queste condizioni sussistono all’interno delle stell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 questo caso solo l’interazione forte e le forze elettromagnetiche che entrano in gioc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ue nuclei carichi positivamente devono superare la barriera coulombiana (forza a lungo raggio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i="1" lang="en-GB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r entrare nel raggio delle forze di interazione forte  (10</a:t>
            </a:r>
            <a:r>
              <a:rPr b="1" lang="en-GB" sz="20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m, dimensione tipica dei nucle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2562480" cy="3119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657600" y="3276720"/>
            <a:ext cx="47242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733920"/>
            <a:ext cx="5486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99"/>
                </a:solidFill>
                <a:latin typeface="Arial"/>
              </a:rPr>
              <a:t>Effetto tunnel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99"/>
                </a:solidFill>
                <a:latin typeface="Arial"/>
              </a:rPr>
              <a:t>V</a:t>
            </a:r>
            <a:r>
              <a:rPr b="1" lang="en-GB" sz="2000" spc="-1" strike="noStrike">
                <a:solidFill>
                  <a:srgbClr val="ff3399"/>
                </a:solidFill>
                <a:latin typeface="Arial"/>
              </a:rPr>
              <a:t> (energia potenziale coulombiana in funzione della distanza tra I due nucle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99"/>
                </a:solidFill>
                <a:latin typeface="Symbol"/>
                <a:ea typeface="Symbol"/>
              </a:rPr>
              <a:t></a:t>
            </a:r>
            <a:r>
              <a:rPr b="1" lang="en-GB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3399"/>
                </a:solidFill>
                <a:latin typeface="Arial"/>
              </a:rPr>
              <a:t>funzione d’onda che penetra attraverso la barriera coulombiana con una energia cinetica E</a:t>
            </a:r>
            <a:r>
              <a:rPr b="1" lang="en-GB" sz="2000" spc="-1" strike="noStrike" baseline="-25000">
                <a:solidFill>
                  <a:srgbClr val="ff3399"/>
                </a:solidFill>
                <a:latin typeface="Arial"/>
              </a:rPr>
              <a:t>kin </a:t>
            </a:r>
            <a:r>
              <a:rPr b="1" lang="en-GB" sz="2000" spc="-1" strike="noStrike">
                <a:solidFill>
                  <a:srgbClr val="ff3399"/>
                </a:solidFill>
                <a:latin typeface="Arial"/>
              </a:rPr>
              <a:t> minore della barriera coulombian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3D2-E29D-4E57-8FCC-0D03C6D5A7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Effetto tunn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052640"/>
            <a:ext cx="838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 probabilità che ha una particella di penetrare la barriera Coulombiana è data da: (penetration probability calcolata da Gamow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8360" y="1989000"/>
          <a:ext cx="225900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225900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95280" y="3860640"/>
            <a:ext cx="7924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La velocità termica in un gas è data da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"/>
              </a:rPr>
              <a:t>Le velocità sono distributite secondo una Maxwelliana in un gas perfetto e quindi si h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03360" y="5516640"/>
          <a:ext cx="4798800" cy="9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3360" y="5516640"/>
                    <a:ext cx="47988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780000" y="1844640"/>
            <a:ext cx="4824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0" i="1" lang="en-GB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, z</a:t>
            </a:r>
            <a:r>
              <a:rPr b="0" i="1" lang="en-GB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numero di protoni in ciascun nucl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=1.6</a:t>
            </a:r>
            <a:r>
              <a:rPr b="0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10-19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i="1" lang="en-GB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8.85 </a:t>
            </a:r>
            <a:r>
              <a:rPr b="0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10-12 C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</a:rPr>
              <a:t>-2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h=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6.6260755   10</a:t>
            </a:r>
            <a:r>
              <a:rPr b="0" lang="it-IT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j-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v= velocità relativa dei nucle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859280" y="3573360"/>
          <a:ext cx="1295280" cy="96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573360"/>
                    <a:ext cx="129528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46C-A8EC-44DC-9C64-F150D42148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l picco di Gamow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197000"/>
            <a:ext cx="4051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a fusione occorre con il massimo di probabilità quando l’eneriga si trova nel picco di Gamow, prodotto della Maxwelliana e della probabilità di tunnelling.  L’area sotto il picco determina il rate di reazione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3684600" cy="3305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4800600"/>
            <a:ext cx="8675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iù alta è la carica dei nuclei, maggiore è la forza repulsiva e maggiore deve essere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Arial"/>
              </a:rPr>
              <a:t>kin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e quindi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T,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ffinchè avvenga la reazione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Le reazioni tra elementi leggeri avvengono a temperature più basse rispetto a quelli con maggiore Z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349-AECD-412C-BF75-9AA94C3596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Le principali reazioni nucleari nelle stel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278136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700280"/>
            <a:ext cx="8820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Le catene PP  (H -&gt; H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Il ciclo CNO    (H -&gt; H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La reazione triplo-alpha (He -&gt; C</a:t>
            </a:r>
            <a:r>
              <a:rPr b="1" lang="en-GB" sz="3200" spc="-1" strike="noStrike" baseline="30000">
                <a:solidFill>
                  <a:srgbClr val="66ff33"/>
                </a:solidFill>
                <a:latin typeface="Arial"/>
              </a:rPr>
              <a:t>12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Combustione Carbonio: C</a:t>
            </a:r>
            <a:r>
              <a:rPr b="1" lang="en-GB" sz="3200" spc="-1" strike="noStrike" baseline="30000">
                <a:solidFill>
                  <a:srgbClr val="66ff33"/>
                </a:solidFill>
                <a:latin typeface="Arial"/>
              </a:rPr>
              <a:t>12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+ C</a:t>
            </a:r>
            <a:r>
              <a:rPr b="1" lang="en-GB" sz="3200" spc="-1" strike="noStrike" baseline="30000">
                <a:solidFill>
                  <a:srgbClr val="66ff33"/>
                </a:solidFill>
                <a:latin typeface="Arial"/>
              </a:rPr>
              <a:t>12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-&gt; O</a:t>
            </a:r>
            <a:r>
              <a:rPr b="1" lang="en-GB" sz="3200" spc="-1" strike="noStrike" baseline="30000">
                <a:solidFill>
                  <a:srgbClr val="66ff33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Combustione Ossigeno: O</a:t>
            </a:r>
            <a:r>
              <a:rPr b="1" lang="en-GB" sz="3200" spc="-1" strike="noStrike" baseline="30000">
                <a:solidFill>
                  <a:srgbClr val="66ff33"/>
                </a:solidFill>
                <a:latin typeface="Arial"/>
              </a:rPr>
              <a:t>16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+ O</a:t>
            </a:r>
            <a:r>
              <a:rPr b="1" lang="en-GB" sz="3200" spc="-1" strike="noStrike" baseline="30000">
                <a:solidFill>
                  <a:srgbClr val="66ff33"/>
                </a:solidFill>
                <a:latin typeface="Arial"/>
              </a:rPr>
              <a:t>16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-&gt; Mg</a:t>
            </a:r>
            <a:r>
              <a:rPr b="1" lang="en-GB" sz="3200" spc="-1" strike="noStrike" baseline="30000">
                <a:solidFill>
                  <a:srgbClr val="66ff33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Combustione silicio: Si</a:t>
            </a:r>
            <a:r>
              <a:rPr b="1" lang="en-GB" sz="3200" spc="-1" strike="noStrike" baseline="30000">
                <a:solidFill>
                  <a:srgbClr val="66ff33"/>
                </a:solidFill>
                <a:latin typeface="Arial"/>
              </a:rPr>
              <a:t>28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+ Si</a:t>
            </a:r>
            <a:r>
              <a:rPr b="1" lang="en-GB" sz="3200" spc="-1" strike="noStrike" baseline="30000">
                <a:solidFill>
                  <a:srgbClr val="66ff33"/>
                </a:solidFill>
                <a:latin typeface="Arial"/>
              </a:rPr>
              <a:t>28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-&gt; Fe</a:t>
            </a:r>
            <a:r>
              <a:rPr b="1" lang="en-GB" sz="3200" spc="-1" strike="noStrike" baseline="30000">
                <a:solidFill>
                  <a:srgbClr val="66ff33"/>
                </a:solidFill>
                <a:latin typeface="Arial"/>
              </a:rPr>
              <a:t>56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819520"/>
            <a:ext cx="502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598-945B-482F-BF41-22676D9F8F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76720" y="0"/>
            <a:ext cx="4067280" cy="765000"/>
          </a:xfrm>
          <a:prstGeom prst="rect">
            <a:avLst/>
          </a:prstGeom>
          <a:solidFill>
            <a:srgbClr val="ffcc99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4498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4572000"/>
            <a:ext cx="4753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 branching ratios delle varie reazioni dipendono dalle condizioni in cui avviene il bruciamento di H (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,</a:t>
            </a:r>
            <a:r>
              <a:rPr b="0" i="1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abbondanze). La transizione da PPI a PPII avviene a T &gt; 1.3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K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pra T= 3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K domina la  PPIII sul PPI e PPII ma avviene anche un’altro processo, il ciclo CNO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1700280"/>
            <a:ext cx="3995640" cy="54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7c80"/>
                </a:solidFill>
                <a:latin typeface="Arial"/>
              </a:rPr>
              <a:t>PPI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D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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(1) (1.442 </a:t>
            </a:r>
            <a:r>
              <a:rPr b="0" lang="it-IT" sz="16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MeV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(5.493 MeV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(12.859 MeV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7c80"/>
                </a:solidFill>
                <a:latin typeface="Arial"/>
              </a:rPr>
              <a:t>PPII: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D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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(1) (1.442 </a:t>
            </a:r>
            <a:r>
              <a:rPr b="0" lang="it-IT" sz="16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MeV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(5.493 MeV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B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(1.586 MeV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B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Li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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(2) (0.861 MeV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i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4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+ 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(17.347 MeV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7c80"/>
                </a:solidFill>
                <a:latin typeface="Arial"/>
              </a:rPr>
              <a:t>PPIII: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D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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(1) (1.442 </a:t>
            </a:r>
            <a:r>
              <a:rPr b="0" lang="it-IT" sz="16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MeV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(5.493 MeV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B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(1.586 MeV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B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B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(0.135 MeV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B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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B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2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(18.074 MeV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76500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33"/>
                </a:solidFill>
                <a:latin typeface="Arial"/>
              </a:rPr>
              <a:t>3 diverse diramazioni della catena protone-prot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LE CATENE P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2A9-6421-416D-A6EB-B81A1A68F8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09:46:16Z</dcterms:created>
  <dc:creator>Stephen Smartt</dc:creator>
  <dc:description/>
  <dc:language>en-US</dc:language>
  <cp:lastModifiedBy>marzari</cp:lastModifiedBy>
  <cp:lastPrinted>2005-04-20T15:57:52Z</cp:lastPrinted>
  <dcterms:modified xsi:type="dcterms:W3CDTF">2005-11-17T14:20:13Z</dcterms:modified>
  <cp:revision>301</cp:revision>
  <dc:subject/>
  <dc:title>MSci Astrophysics 210PHY412 </dc:title>
</cp:coreProperties>
</file>