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0C90-984C-4537-A840-EB7F85554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4269-4F36-4148-97DE-02B1552C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0D3C-0DE6-4A87-BB99-DBC88CD98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052B-08FC-4C0A-AE49-6694E1E2C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7B32-C98F-4BE6-ABF1-AE394C15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8ECC-7C11-467E-9B77-99BCB55C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D361-B71D-47F9-8FFD-9427D7AD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768D-F975-477A-B362-6C02526B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D6F7-6909-4936-A378-9185C29C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9566-A2CC-4892-A962-A1BFB688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485C-A0CA-4A42-AF52-B0766A2F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7356-9656-45FE-8C54-E0E10688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D9BE-6409-437B-93DD-0FE89864CB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14560" y="1916280"/>
            <a:ext cx="71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800" spc="-1" strike="noStrike">
                <a:solidFill>
                  <a:srgbClr val="ff0000"/>
                </a:solidFill>
                <a:latin typeface="Arial"/>
              </a:rPr>
              <a:t>Modelli politropici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42C3-99A7-41F0-BAEF-1D66037AEA7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333360"/>
            <a:ext cx="7467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 bisogna determinare la massa in funzione del raggio. L’equazione di conservazione della massa d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09480" y="1219320"/>
                <a:ext cx="144792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p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3059280" y="1197000"/>
            <a:ext cx="5014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grando e sostituendo: 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 = 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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e  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en-GB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4797360"/>
            <a:ext cx="820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niamo di sapere 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Wingdings"/>
                <a:ea typeface="Wingdings"/>
              </a:rPr>
              <a:t>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Wingdings"/>
                <a:ea typeface="Wingdings"/>
              </a:rPr>
              <a:t>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ra possiamo ricavare un’espressione per la struttura intern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16200" y="4398840"/>
            <a:ext cx="184320" cy="366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95280" y="2565360"/>
          <a:ext cx="8407440" cy="20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565360"/>
                    <a:ext cx="8407440" cy="20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908000" y="1989000"/>
          <a:ext cx="4537080" cy="58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1989000"/>
                    <a:ext cx="453708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95280" y="5589720"/>
          <a:ext cx="5286240" cy="93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5589720"/>
                    <a:ext cx="528624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5940360" y="5734080"/>
            <a:ext cx="252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Da cui si ricava 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it-IT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9763-F931-467F-B095-C59C2787E4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189000"/>
            <a:ext cx="8305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apendo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si può calcolare la 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Massa in funzione di </a:t>
            </a:r>
            <a:r>
              <a:rPr b="1" lang="en-GB" sz="2400" spc="-1" strike="noStrike">
                <a:solidFill>
                  <a:srgbClr val="66ff33"/>
                </a:solidFill>
                <a:latin typeface="Symbol"/>
                <a:ea typeface="Symbol"/>
              </a:rPr>
              <a:t>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 e quindi di r (</a:t>
            </a:r>
            <a:r>
              <a:rPr b="1" i="1" lang="en-GB" sz="2400" spc="-1" strike="noStrike">
                <a:solidFill>
                  <a:srgbClr val="66ff33"/>
                </a:solidFill>
                <a:latin typeface="Arial"/>
              </a:rPr>
              <a:t>r = </a:t>
            </a:r>
            <a:r>
              <a:rPr b="1" i="1" lang="en-GB" sz="2400" spc="-1" strike="noStrike">
                <a:solidFill>
                  <a:srgbClr val="66ff33"/>
                </a:solidFill>
                <a:latin typeface="Symbol"/>
                <a:ea typeface="Symbol"/>
              </a:rPr>
              <a:t>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 densità 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it-IT" sz="2400" spc="-1" strike="noStrike">
                <a:solidFill>
                  <a:srgbClr val="66ff33"/>
                </a:solidFill>
                <a:latin typeface="Symbol"/>
                <a:ea typeface="Symbol"/>
              </a:rPr>
              <a:t></a:t>
            </a:r>
            <a:r>
              <a:rPr b="1" i="1" lang="it-IT" sz="2400" spc="-1" strike="noStrike">
                <a:solidFill>
                  <a:srgbClr val="66ff33"/>
                </a:solidFill>
                <a:latin typeface="Arial"/>
              </a:rPr>
              <a:t> = </a:t>
            </a:r>
            <a:r>
              <a:rPr b="1" i="1" lang="it-IT" sz="2400" spc="-1" strike="noStrike">
                <a:solidFill>
                  <a:srgbClr val="66ff33"/>
                </a:solidFill>
                <a:latin typeface="Symbol"/>
                <a:ea typeface="Symbol"/>
              </a:rPr>
              <a:t></a:t>
            </a:r>
            <a:r>
              <a:rPr b="1" i="1" lang="it-IT" sz="2400" spc="-1" strike="noStrike" baseline="-25000">
                <a:solidFill>
                  <a:srgbClr val="66ff33"/>
                </a:solidFill>
                <a:latin typeface="Arial"/>
              </a:rPr>
              <a:t>c</a:t>
            </a:r>
            <a:r>
              <a:rPr b="1" i="1" lang="it-IT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i="1" lang="it-IT" sz="2400" spc="-1" strike="noStrike">
                <a:solidFill>
                  <a:srgbClr val="66ff33"/>
                </a:solidFill>
                <a:latin typeface="Symbol"/>
                <a:ea typeface="Symbol"/>
              </a:rPr>
              <a:t></a:t>
            </a:r>
            <a:r>
              <a:rPr b="1" lang="it-IT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it-IT" sz="2400" spc="-1" strike="noStrike" baseline="30000">
                <a:solidFill>
                  <a:srgbClr val="66ff33"/>
                </a:solidFill>
                <a:latin typeface="Arial"/>
              </a:rPr>
              <a:t>n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e la pressione </a:t>
            </a:r>
            <a:r>
              <a:rPr b="1" lang="it-IT" sz="2400" spc="-1" strike="noStrike">
                <a:solidFill>
                  <a:srgbClr val="66ff33"/>
                </a:solidFill>
                <a:latin typeface="Arial"/>
              </a:rPr>
              <a:t>P = K </a:t>
            </a:r>
            <a:r>
              <a:rPr b="1" lang="it-IT" sz="2400" spc="-1" strike="noStrike">
                <a:solidFill>
                  <a:srgbClr val="66ff33"/>
                </a:solidFill>
                <a:latin typeface="Symbol"/>
                <a:ea typeface="Symbol"/>
              </a:rPr>
              <a:t></a:t>
            </a:r>
            <a:r>
              <a:rPr b="1" lang="it-IT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it-IT" sz="2400" spc="-1" strike="noStrike" baseline="30000">
                <a:solidFill>
                  <a:srgbClr val="66ff33"/>
                </a:solidFill>
                <a:latin typeface="Arial"/>
              </a:rPr>
              <a:t>(n+1)/n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K può essere determinato direttamente dall’equazione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875120" y="2276640"/>
            <a:ext cx="4268880" cy="4437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68360" y="4292640"/>
            <a:ext cx="40323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 figura, il modello politropo per il Sole con n=3 viene confrontato con il modello standard.  L’accordo è particolarmente buono in prossimità del centro della Sole buono mentre nelle regioni esterne convettive la differenza è significativ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2708280"/>
          <a:ext cx="4103640" cy="84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2708280"/>
                    <a:ext cx="410364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435640" y="1268280"/>
                <a:ext cx="23763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nG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  <m:f>
                          <m:num>
                            <m:r>
                              <m:t xml:space="preserve">dρ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95280" y="1628640"/>
            <a:ext cx="4753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fine, la Temperatura può essere ottenuta eguagliando l’equazione di stato di un gas perfetto con l’equazione di stato politrop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F297-AEAA-49AA-9CE5-80456CA6D6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914400"/>
            <a:ext cx="7939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lla tabella vengono riportati per confronto I valori ottenuti tramite il modello politropo e il modello standar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627280" y="2349360"/>
          <a:ext cx="3673080" cy="2374560"/>
        </p:xfrm>
        <a:graphic>
          <a:graphicData uri="http://schemas.openxmlformats.org/drawingml/2006/table">
            <a:tbl>
              <a:tblPr/>
              <a:tblGrid>
                <a:gridCol w="1224000"/>
                <a:gridCol w="1224720"/>
                <a:gridCol w="122436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=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S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0" i="1" lang="en-GB" sz="1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.65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gm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-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52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gm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-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r>
                        <a:rPr b="0" i="1" lang="en-US" sz="14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25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m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-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34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m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-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US" sz="14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18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7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57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457200" y="632448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AF3B-2B4C-4A99-8808-484410D330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ichiamiamo alle equazioni di struttura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914400"/>
            <a:ext cx="7619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95280" y="1197000"/>
            <a:ext cx="3833640" cy="1750320"/>
            <a:chOff x="395280" y="1197000"/>
            <a:chExt cx="3833640" cy="1750320"/>
          </a:xfrm>
        </p:grpSpPr>
        <mc:AlternateContent>
          <mc:Choice xmlns:a14="http://schemas.microsoft.com/office/drawing/2010/main" Requires="a14">
            <p:sp>
              <p:nvSpPr>
                <p:cNvPr id="46" name=""/>
                <p:cNvSpPr txBox="1"/>
                <p:nvPr/>
              </p:nvSpPr>
              <p:spPr>
                <a:xfrm>
                  <a:off x="395280" y="1197000"/>
                  <a:ext cx="1263600" cy="75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M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  <m:sSup>
                            <m:e>
                              <m:r>
                                <m:t xml:space="preserve">π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ρ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" name=""/>
                <p:cNvSpPr txBox="1"/>
                <p:nvPr/>
              </p:nvSpPr>
              <p:spPr>
                <a:xfrm>
                  <a:off x="395280" y="2133720"/>
                  <a:ext cx="1309680" cy="72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P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M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GM</m:t>
                          </m:r>
                        </m:num>
                        <m:den>
                          <m:r>
                            <m:t xml:space="preserve">4</m:t>
                          </m:r>
                          <m:sSup>
                            <m:e>
                              <m:r>
                                <m:t xml:space="preserve">πr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" name=""/>
                <p:cNvSpPr txBox="1"/>
                <p:nvPr/>
              </p:nvSpPr>
              <p:spPr>
                <a:xfrm>
                  <a:off x="2369160" y="1197000"/>
                  <a:ext cx="878760" cy="80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L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M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49" name=""/>
            <p:cNvGraphicFramePr/>
            <p:nvPr/>
          </p:nvGraphicFramePr>
          <p:xfrm>
            <a:off x="2293200" y="2133720"/>
            <a:ext cx="1935720" cy="813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3200" y="2133720"/>
                      <a:ext cx="1935720" cy="81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1" name=""/>
          <p:cNvSpPr/>
          <p:nvPr/>
        </p:nvSpPr>
        <p:spPr>
          <a:xfrm>
            <a:off x="4859280" y="1484280"/>
            <a:ext cx="3352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 condizioni al contorn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=0, L=0 a M=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=0, T=0 a M=M</a:t>
            </a:r>
            <a:r>
              <a:rPr b="0" i="1" lang="en-GB" sz="18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32767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 queste vanno aggiunte 3 relazioni per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P, 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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assumendo che 1)  il materiale stellare si comporta come un gas ideale con pressione di radiazione trascurabile, e 2) che le leggi per l’opacità e la generazione di energia siano approssimabili da leggi di potenz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85800" y="4495680"/>
                <a:ext cx="1719360" cy="20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ℜ</m:t>
                            </m:r>
                            <m:r>
                              <m:t xml:space="preserve">ρT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  <m:e>
                        <m:r>
                          <m:t xml:space="preserve">κ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κ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α</m:t>
                            </m:r>
                          </m:sup>
                        </m:sSup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β</m:t>
                            </m:r>
                          </m:sup>
                        </m:sSup>
                      </m:e>
                      <m:e>
                        <m:r>
                          <m:t xml:space="preserve">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ρT</m:t>
                            </m:r>
                          </m:e>
                          <m:sup>
                            <m:r>
                              <m:t xml:space="preserve">η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419640" y="4941720"/>
            <a:ext cx="5257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ve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ono costanti e 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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"/>
              </a:rPr>
              <a:t>0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no costanti per una fissata composizione chimic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DA34-0B7A-410A-A621-14AC7F925E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Cos’è un modello stellare semplificato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907920"/>
            <a:ext cx="9144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6920" indent="-1969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 equazioni di struttura stellare sono 7, non lineari, accoppiate e quindi devono essere risolte simultaneamente. Hanno due punti con condizioni al contorno definit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luzioni semplici (cioe’ analitiche) si basano sull’assunzione che esistano delle quantità che variano lentamente dal centro della stella fino alla superficie e che quindi dipendano poco da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.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- E’ difficile trovare tali quantità. Ad esempio,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varia di 3 ordini di grandezza e 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di 14! L’unica cosa che può essere assunta come uniforme è la composizione chimica, nell’ipotesi che I processi convettivi rimescolino il contenuto della stell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Modelli politropici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 utilizza una relazione semplice tra la pressione e la densità e si assume che sia valida su tutta la stella.  Allora le equazioni per l’equilibrio idrostatico e la conservazione della massa possono essere risolte indipendentemenete dalla altre 5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 dell’avvento dei computer, I modelli politropici giocavano un ruolo importante nelle sviluppo delle teorie di struttura stellar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9F56-4BCC-4776-BC6D-018A90980A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6364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Modelli politropici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6922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 parte dall’equazione di equilibrio idrostatico (in funzione di 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48000" y="12682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 si moltiplica per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i="1" lang="en-GB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 deriva rispetto ad 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48000" y="2349360"/>
            <a:ext cx="529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destra si sostituisce l’equazione di conservazione della mass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43657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 prende ora un’equazione di stato del tip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580000" y="4005360"/>
          <a:ext cx="2779920" cy="7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4005360"/>
                    <a:ext cx="277992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424160" y="1450800"/>
            <a:ext cx="183960" cy="366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68360" y="1197000"/>
                <a:ext cx="254772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M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ρ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39640" y="2205000"/>
                <a:ext cx="245268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t xml:space="preserve">G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3089160" y="4711680"/>
            <a:ext cx="184320" cy="366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11280" y="3357720"/>
                <a:ext cx="276228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t xml:space="preserve">4</m:t>
                    </m:r>
                    <m:r>
                      <m:t xml:space="preserve">pG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468360" y="4869000"/>
            <a:ext cx="8136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Dove si assume per convenzione che </a:t>
            </a:r>
            <a:r>
              <a:rPr b="1" lang="it-IT" sz="1800" spc="-1" strike="noStrike">
                <a:solidFill>
                  <a:srgbClr val="66ff33"/>
                </a:solidFill>
                <a:latin typeface="Arial"/>
              </a:rPr>
              <a:t>l’indice adiabatico sia </a:t>
            </a:r>
            <a:r>
              <a:rPr b="1" lang="it-IT" sz="1800" spc="-1" strike="noStrike">
                <a:solidFill>
                  <a:srgbClr val="66ff33"/>
                </a:solidFill>
                <a:latin typeface="Symbol"/>
                <a:ea typeface="Symbol"/>
              </a:rPr>
              <a:t>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= 1+1/</a:t>
            </a:r>
            <a:r>
              <a:rPr b="1" i="1" lang="en-GB" sz="1800" spc="-1" strike="noStrike">
                <a:solidFill>
                  <a:srgbClr val="66ff33"/>
                </a:solidFill>
                <a:latin typeface="Arial"/>
              </a:rPr>
              <a:t>n,  K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a una costante mentre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n è l’indice politropico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La pressione è funzione della sola densità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 Per i gas perfetti in genere  si usa l’espressione: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Questo implica una relazione tra pressione e Temperatura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11280" y="5877000"/>
          <a:ext cx="1368360" cy="35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5877000"/>
                    <a:ext cx="136836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7D7F-33DE-4BB7-A548-7F9A923BA3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8360" y="1413000"/>
            <a:ext cx="83818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 soluzione di questa equazione differenziale per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(r)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  0 ≤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≤ R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è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amata 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politropa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 richiede due condizioni al contorno (centro e superficie). Una politropa è definita da 3 parametri: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66ff33"/>
                </a:solidFill>
                <a:latin typeface="Arial"/>
              </a:rPr>
              <a:t>K, n, e 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.  Una volta risolta questa equazione, è possibile calcolare le restanti quantità fisiche in funzione del raggio, come la pressione, l’energia, o la densità medi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r trovare la soluzione, conviene introdurre  una variabile adimensionale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definita tra 0 ≤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≤ 1 c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450864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 arriva quindi alla 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equazione di Lane-Emden di indice  n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61800" y="5084640"/>
          <a:ext cx="8782200" cy="10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5084640"/>
                    <a:ext cx="878220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519280" y="855720"/>
            <a:ext cx="184320" cy="366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635280" y="189000"/>
                <a:ext cx="3476880" cy="11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nG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  <m:f>
                          <m:num>
                            <m:r>
                              <m:t xml:space="preserve">dρ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0" name=""/>
          <p:cNvGraphicFramePr/>
          <p:nvPr/>
        </p:nvGraphicFramePr>
        <p:xfrm>
          <a:off x="755640" y="3789360"/>
          <a:ext cx="1944720" cy="54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3789360"/>
                    <a:ext cx="194472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468360" y="26028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 ottiene così la seguente equazion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59280" y="3789360"/>
            <a:ext cx="5545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radizionalmente, </a:t>
            </a:r>
            <a:r>
              <a:rPr b="1" lang="it-IT" sz="1800" spc="-1" strike="noStrike">
                <a:solidFill>
                  <a:srgbClr val="ff9900"/>
                </a:solidFill>
                <a:latin typeface="Symbol"/>
                <a:ea typeface="Symbol"/>
              </a:rPr>
              <a:t></a:t>
            </a:r>
            <a:r>
              <a:rPr b="1" lang="it-IT" sz="1800" spc="-1" strike="noStrike" baseline="-25000">
                <a:solidFill>
                  <a:srgbClr val="ff9900"/>
                </a:solidFill>
                <a:latin typeface="Arial"/>
              </a:rPr>
              <a:t>c</a:t>
            </a:r>
            <a:r>
              <a:rPr b="1" lang="it-IT" sz="1800" spc="-1" strike="noStrike">
                <a:solidFill>
                  <a:srgbClr val="ff9900"/>
                </a:solidFill>
                <a:latin typeface="Arial"/>
              </a:rPr>
              <a:t> si assume la densità centrale della stell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4BFD-5BC8-4963-B93D-34EC6EBA2B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oluzioni dell’equazione di Lane-Emden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914400"/>
            <a:ext cx="8370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’ possibile risolvere l’equazione analiticamente solo per 3 valori dell’indic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80880" y="1600200"/>
                <a:ext cx="2752920" cy="281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,      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3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380880" y="4724280"/>
            <a:ext cx="815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Queste soluzioni hanno le seguenti condizioni al contorno al centr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20840" y="5492880"/>
          <a:ext cx="2857320" cy="78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492880"/>
                    <a:ext cx="285732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4356000" y="5661000"/>
            <a:ext cx="266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i.e. r=0 ,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it-IT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5B22-CA89-4476-BE4E-9060B308F6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3600" y="457200"/>
            <a:ext cx="2971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luzioni numeriche per l’equazione di Lane-Emden per (da sinistra a destra)  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= 0,1,2,3,4,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 confrontare con I casi analitici not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5488200" cy="4635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227640" y="2637000"/>
                <a:ext cx="2008440" cy="20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,      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3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380880" y="5181480"/>
            <a:ext cx="8305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 soluzioni decrescono monotonicamente e si ha 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=0 a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i.e. il raggio della stella).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Per n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≥ 5 si hanno casi non fisici di stelle di raggio infinito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8953-CFEC-4501-94B7-3878A5D3E8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3520" y="53352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533520"/>
            <a:ext cx="7924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r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n &l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5 la soluzione diventa minore di 0 per un valore finito di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e quindi si può stimare il raggio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"/>
              </a:rPr>
              <a:t>R.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. Nella tabella qui sotto sono riportati I valori dei raggi stellare in funzione di 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971640" y="1700280"/>
          <a:ext cx="6476760" cy="2342880"/>
        </p:xfrm>
        <a:graphic>
          <a:graphicData uri="http://schemas.openxmlformats.org/drawingml/2006/table">
            <a:tbl>
              <a:tblPr/>
              <a:tblGrid>
                <a:gridCol w="2158920"/>
                <a:gridCol w="2158920"/>
                <a:gridCol w="215892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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33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01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92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.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.14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-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33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-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435640" y="1844640"/>
                <a:ext cx="7621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q</m:t>
                                </m:r>
                              </m:num>
                              <m:den>
                                <m:r>
                                  <m:t xml:space="preserve">dx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1" name=""/>
          <p:cNvGrpSpPr/>
          <p:nvPr/>
        </p:nvGrpSpPr>
        <p:grpSpPr>
          <a:xfrm>
            <a:off x="1835280" y="4797360"/>
            <a:ext cx="2014560" cy="409320"/>
            <a:chOff x="1835280" y="4797360"/>
            <a:chExt cx="2014560" cy="409320"/>
          </a:xfrm>
        </p:grpSpPr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2826000" y="4797360"/>
                  <a:ext cx="102384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ρ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sSup>
                        <m:e>
                          <m:r>
                            <m:t xml:space="preserve">q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1835280" y="4873320"/>
                  <a:ext cx="88092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α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4" name=""/>
          <p:cNvSpPr/>
          <p:nvPr/>
        </p:nvSpPr>
        <p:spPr>
          <a:xfrm>
            <a:off x="826920" y="4869000"/>
            <a:ext cx="5029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v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5445000"/>
            <a:ext cx="7991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Per n=0 stella a densità costante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it-IT" sz="1800" spc="-1" strike="noStrike" baseline="-25000">
                <a:solidFill>
                  <a:srgbClr val="ffffff"/>
                </a:solidFill>
                <a:latin typeface="Arial"/>
              </a:rPr>
              <a:t>c,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per n=1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 non dipende da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it-IT" sz="1800" spc="-1" strike="noStrike" baseline="-25000">
                <a:solidFill>
                  <a:srgbClr val="ffffff"/>
                </a:solidFill>
                <a:latin typeface="Arial"/>
              </a:rPr>
              <a:t>c 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e quindi il raggio non dipende da densità centra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8DA5-1FB1-4CE5-BEED-547226B672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1443-4416-4719-8375-E4C14E5F37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Taratura’ dei modelli politropi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91440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ndiamo un modello con n=3 per il Sole (conosciuto come il modello standard di Eddington). Per i dati sul Sole adottiamo il cosiddetto modello standard del Sol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(SSM - Bahcall 1998, Physics Letters B, 433, 1).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 di tutto convertiamo le quantità adimensionali raggio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e densità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 quantità fisiche in m e kg 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46440" y="797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2565360"/>
            <a:ext cx="78487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r determinare il fattore di scala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icordiamo che alla superficie (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=0) abbia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ve R è il valore del raggio stellare (il sole nel nostro caso)mentre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èil valore di 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lla superfici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313080" y="3117960"/>
          <a:ext cx="118764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3080" y="3117960"/>
                    <a:ext cx="118764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304920" y="5791320"/>
            <a:ext cx="76197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sns.ias.edu/~jnb/SNdata/solarmodels.ht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86728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 dati dell’SSM sono disponibili al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09:46:16Z</dcterms:created>
  <dc:creator>Stephen Smartt</dc:creator>
  <dc:description/>
  <dc:language>en-US</dc:language>
  <cp:lastModifiedBy>marzari</cp:lastModifiedBy>
  <cp:lastPrinted>2005-04-26T09:00:46Z</cp:lastPrinted>
  <dcterms:modified xsi:type="dcterms:W3CDTF">2005-11-28T11:17:26Z</dcterms:modified>
  <cp:revision>196</cp:revision>
  <dc:subject/>
  <dc:title>MSci Astrophysics 210PHY412 </dc:title>
</cp:coreProperties>
</file>