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8F9-D857-4D42-83EA-3179167B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3BC-F3AB-42C7-AC30-4364D0B0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145-235C-4376-9A48-BF53FA0E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BD5-1D43-4B73-A575-F5191903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469-26D4-4166-A2CC-BC07F21D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D12-185B-42FE-9E15-1B44F5E1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91B-25A5-4501-B320-D674E61F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EBF-2F38-4F7D-A5FE-F83D747B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6D5-0E3C-4932-8892-D380CAAB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D10-4ADA-4C7E-80DE-537E90D4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098-8CB8-46DA-ADCE-38F60D8E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CA9-5DE9-4F0A-97DF-63E1911D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8441-5158-47ED-84A8-355571DE7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spiff.rit.edu/classes/phys230/lectures/star_age/evol_hr.swf" TargetMode="External"/><Relationship Id="rId5" Type="http://schemas.openxmlformats.org/officeDocument/2006/relationships/hyperlink" Target="http://rainman.astro.uiuc.edu/ddr/stellar/beginner.html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odelli numerici di evoluzione stellare: il “gruppo di Ginevra” (Schaller et al. 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5280" y="4289400"/>
            <a:ext cx="2562480" cy="2568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311640" cy="446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5280" y="1268280"/>
            <a:ext cx="5257800" cy="32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ff33"/>
                </a:solidFill>
                <a:latin typeface="Arial"/>
              </a:rPr>
              <a:t>Esempio: traccia evolutiva del Sole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ff33"/>
                </a:solidFill>
                <a:latin typeface="Arial"/>
              </a:rPr>
              <a:t>1) Fusione di H. Main Sequ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ff33"/>
                </a:solidFill>
                <a:latin typeface="Arial"/>
              </a:rPr>
              <a:t>2-3) Fusione H continua in guscio sottile. Gigante ross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ff33"/>
                </a:solidFill>
                <a:latin typeface="Arial"/>
              </a:rPr>
              <a:t>4) Helium flas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ff33"/>
                </a:solidFill>
                <a:latin typeface="Arial"/>
              </a:rPr>
              <a:t>5-6) L’elio diminuisce e brucia solo in gusci sottili attorno al nucle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ff33"/>
                </a:solidFill>
                <a:latin typeface="Arial"/>
              </a:rPr>
              <a:t>7) Fine della fusione dell’eli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ff33"/>
                </a:solidFill>
                <a:latin typeface="Arial"/>
              </a:rPr>
              <a:t>Dopo la fine della fusione dell’elio la stella espelle il materiale esterno e si raffredda in una nana bianca (fase non coperta dai modelli del gruppo di Ginevra).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72360" y="4303800"/>
            <a:ext cx="2592360" cy="2554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761080"/>
            <a:ext cx="34196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spiff.rit.edu/classes/phys230/lectures/star_age/evol_hr.swf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it-IT" sz="12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http://rainman.astro.uiuc.edu/ddr/stellar/beginner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SITI CON ANIMAZIONI DI EVOLUZI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57A-34AE-40A2-9DD2-2F37ECCED7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5412" r="49965" b="55408"/>
          <a:stretch/>
        </p:blipFill>
        <p:spPr>
          <a:xfrm>
            <a:off x="380880" y="1244520"/>
            <a:ext cx="3591000" cy="3865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19106" t="5927" r="13895" b="52055"/>
          <a:stretch/>
        </p:blipFill>
        <p:spPr>
          <a:xfrm>
            <a:off x="4114800" y="1143000"/>
            <a:ext cx="4902120" cy="4145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5257800"/>
            <a:ext cx="3276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7 Tuc : ammasso globulare. Età di circa  8-10 Gy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5410080"/>
            <a:ext cx="3276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C188 ammasso aperto vecchio, età di circa  7 Gy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6028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Sito per il calcolo delle isocrone:  http://www-laog.obs.ujf-grenoble.fr/activites/starevol/FILES/iso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524-8DDD-4088-A03E-4A509EEF65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ommar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biamo mostrato esempi di evoluzione stell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 vite medie in sequenza principali dipendono dalla massa iniziale della stell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à degli ammassi stellari. Isocro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ttimo accordo tra I modelli e I diagrammi di H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66F-993A-4098-9835-C15DF61407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ima della sequenza principale: protostell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144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219320"/>
            <a:ext cx="3200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104920"/>
            <a:ext cx="4610160" cy="475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788000" y="2133720"/>
            <a:ext cx="417672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66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Protostella. Fredda ma estesa (per tipo solare quasi 20 volte le dimensioni finali. Luminos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66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Il collasso gravitazionale accelera. La temperatura aumenta ma le dimensioni si riducono. Meno luminos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66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Inizia la fusione di H, il collasso rallenta, la Temperatura aumen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66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Equilibrio idrostatico. La stella entra in sequenza principa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34136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Tracce evolutive di Hayashi.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259-AABC-45DB-A240-98E26ADD53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ita media in sequenza principale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305400" y="189000"/>
            <a:ext cx="2838600" cy="212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7640" y="126828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32720" y="2492280"/>
          <a:ext cx="2209680" cy="3335400"/>
        </p:xfrm>
        <a:graphic>
          <a:graphicData uri="http://schemas.openxmlformats.org/drawingml/2006/table">
            <a:tbl>
              <a:tblPr/>
              <a:tblGrid>
                <a:gridCol w="1104840"/>
                <a:gridCol w="110484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ssa M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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0" y="579132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3141720"/>
            <a:ext cx="3960720" cy="3514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052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a vita media di una stella è circa proporzioanle all’inverso del cubo della mass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84464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gli ammassi stellari le stelle si sono formate allo stesso tempo e quindi è possibile calcolare l’età dell’ammasso a partire dal punto di turn-off o biforcazione del diagramma di H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789360"/>
            <a:ext cx="2305080" cy="26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 stelle con vita media inferiore all’età dell’ammasso hanno lasciato la sequenza princip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 stelle con vita media più lunga sono ancora in sequenza principa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A8B-2D6E-4A84-8934-7118E47559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Le 5 sezioni del diagramma H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914400"/>
            <a:ext cx="8001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Nota che le masse sono approssimate e ci possono essere sovrapposizioni ai bordi.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660033"/>
                </a:solidFill>
                <a:latin typeface="Arial"/>
              </a:rPr>
              <a:t>Nane brune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l limite inferiore di massa è 0.08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or 80M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</a:rPr>
              <a:t>Jup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). Oggetti di massa inferiore hanno temperature troppo basse per innescare la fusione di H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Nane Rosse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stelle la cui vita media in sequenza principale supera l’età dell’Universo (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1-2x1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yr). I modelli danno un limite superiore per le stelle che sono ancora in sequenza principale di  0.7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9900"/>
                </a:solidFill>
                <a:latin typeface="Arial"/>
              </a:rPr>
              <a:t>Stelle di piccola massa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telle con massa compresa nell’intervallo 0.7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≤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M ≤ 2 M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. Al termine della loro vita perdono massa e danno origine a nane bianche e nebulose planetari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66ff33"/>
                </a:solidFill>
                <a:latin typeface="Arial"/>
              </a:rPr>
              <a:t>Stelle di massa intermedia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telle con massa nell’intervallo 2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≤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M ≤ 8-10 M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. Hanno tracce evolutive simili a quelle di piccola massa ma hanno una maggiore luminosità. Alla fine danno origine a nane bianche e nebulose planetarie di massa maggior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ffff"/>
                </a:solidFill>
                <a:latin typeface="Arial"/>
              </a:rPr>
              <a:t>Stelle di grande massa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M &gt;8-10 M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. Evoluzione significativamente diverse e brevi vite medi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716-AA2E-4C24-B820-EDE1CA29E3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ocessi convettivi: l’overshoo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914400"/>
            <a:ext cx="8458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xing length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descrizione dei processi convettivi contiene un parametro libero chiamato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xing length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(l).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 assume che gli elementi convettivi abbiano una dimensione carattersitica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che si muovano verticalmente di una distanza comparabile 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rima che la turbolenza porti allo scambio di calore con il materiale circostante. Se si assume che le celle si spostino adiabaticamente in equilibrio di pressione con l’ambiente e che esse siano accelerate dalla spinta di Archimede, allora il trasporto di energia per convezione ha la seguente espressi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55680" y="3462480"/>
          <a:ext cx="4689360" cy="28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462480"/>
                    <a:ext cx="468936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5867280" y="480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3357720"/>
            <a:ext cx="3097440" cy="30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a Luminosità L è l’energia per unità di tempo e di area che passa attraverso un guscio di raggio e e va verso l’ester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ltezza di scala della pressione=distanza in cui la pressione di riduce di un fattore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3EA-0D2A-42EE-97A8-3FBC430F26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’espressione per l è utile solo se si può scegliere un valore per l.  Un valore che viene considerato ragionevole è l’altezza di scala della pression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371600"/>
                <a:ext cx="8096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380880" y="205740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scelta di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uò portare a modelli diversi di struttura stellare in particolare per stelle fredde. La struttura del sole può essere riprodotta con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1.6,  ma nienete è noto sul valore di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 le altre stelle. Manca ancora una teoria in grado di predirre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3860640"/>
            <a:ext cx="79246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Overshooting convet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sa succede al confine tra una regione convettiva e una non-convettiva? Un elemento convettivo entra in una zona non-convettiva con una certa velocità finita.  Questo fenomeno si chiam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overshooting convettivo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n è importante per il trasporto di energia, ma comporta un maggiore mixing chimico e può essere importante per la tarda evoluzione stella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9F2-2FF3-4651-B9D5-368A63159A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372360" y="2421000"/>
            <a:ext cx="2592360" cy="3024000"/>
          </a:xfrm>
          <a:prstGeom prst="rect">
            <a:avLst/>
          </a:prstGeom>
          <a:solidFill>
            <a:srgbClr val="96969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socrone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549360"/>
            <a:ext cx="8785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n è possibile seguire l’evoluzione di una stella nel tempo. Ma possiamo guardare gli ammassi stellare per vedere l’evoluzione stellare all’oper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2787480"/>
            <a:ext cx="3780000" cy="3780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1268280"/>
            <a:ext cx="871380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socr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a curva che descrive le proprietà delle stelle per una data età e in funzione quindi della massa.  Al contrario un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traccia evolutiv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mostra le proprietà di una stella con massa fissata al variare dell’età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2565360"/>
            <a:ext cx="244800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Le isocrone sono utili per gli ammassi. Tutte le stelle sono nate allo stesso tempo con la stessa composizione.  Il grafico delle stelle di differente massa nel piano Log</a:t>
            </a:r>
            <a:r>
              <a:rPr b="0" i="1" lang="en-GB" sz="1800" spc="-1" strike="noStrike">
                <a:solidFill>
                  <a:srgbClr val="66ff33"/>
                </a:solidFill>
                <a:latin typeface="Arial"/>
              </a:rPr>
              <a:t>(L/L</a:t>
            </a:r>
            <a:r>
              <a:rPr b="0" i="1" lang="en-GB" sz="1800" spc="-1" strike="noStrike">
                <a:solidFill>
                  <a:srgbClr val="66ff33"/>
                </a:solidFill>
                <a:latin typeface="Wingdings"/>
                <a:ea typeface="Wingdings"/>
              </a:rPr>
              <a:t></a:t>
            </a:r>
            <a:r>
              <a:rPr b="0" i="1" lang="en-GB" sz="1800" spc="-1" strike="noStrike">
                <a:solidFill>
                  <a:srgbClr val="66ff33"/>
                </a:solidFill>
                <a:latin typeface="Arial"/>
              </a:rPr>
              <a:t>) vs.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Log</a:t>
            </a:r>
            <a:r>
              <a:rPr b="0" i="1" lang="en-GB" sz="1800" spc="-1" strike="noStrike">
                <a:solidFill>
                  <a:srgbClr val="66ff33"/>
                </a:solidFill>
                <a:latin typeface="Arial"/>
              </a:rPr>
              <a:t>Teff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rappresenta un’isocron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852640"/>
            <a:ext cx="266400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S: Sequenza Princip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O: Turn o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GB:  Red Giant Branch; Helium flash si trova sulla punta dell’RGB (Tip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B: Horizontal Branc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Gap: Schwarzschild gap nel  H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GB:  Asymptotic Giant Bran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WD: Nane Bian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B2D-35CE-4E0B-9FC0-E2F16AA993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odellizzazione degli ammassi stellar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83808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13660" t="4864" r="0" b="0"/>
          <a:stretch/>
        </p:blipFill>
        <p:spPr>
          <a:xfrm>
            <a:off x="304920" y="1523880"/>
            <a:ext cx="6324480" cy="5168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781680" y="16002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tilizzo dei modelli di Ginevra per le isocrone stellari di ammassi ver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455-8370-41A7-92BD-C03FA07D2C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343400" y="274320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286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empi di isocrone negli ammassi stella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7369" t="52055" r="17717" b="6958"/>
          <a:stretch/>
        </p:blipFill>
        <p:spPr>
          <a:xfrm>
            <a:off x="152280" y="838080"/>
            <a:ext cx="4622760" cy="3935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16327" t="51024" r="18064" b="4639"/>
          <a:stretch/>
        </p:blipFill>
        <p:spPr>
          <a:xfrm>
            <a:off x="4800600" y="838080"/>
            <a:ext cx="4343400" cy="3957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5029200"/>
            <a:ext cx="3276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C6231 ammasso giovane. Il log età è 6.75 = circa 6 My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5029200"/>
            <a:ext cx="3276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 Pleiade: dal modello di Ginevra si ottiene un’isocrona di 100 My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21E-3268-4A52-8181-0F2DA2E419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9:46:16Z</dcterms:created>
  <dc:creator>Stephen Smartt</dc:creator>
  <dc:description/>
  <dc:language>en-US</dc:language>
  <cp:lastModifiedBy>marzari</cp:lastModifiedBy>
  <dcterms:modified xsi:type="dcterms:W3CDTF">2005-07-29T07:56:22Z</dcterms:modified>
  <cp:revision>220</cp:revision>
  <dc:subject/>
  <dc:title>MSci Astrophysics 210PHY412 </dc:title>
</cp:coreProperties>
</file>