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6.png" ContentType="image/png"/>
  <Override PartName="/ppt/media/image33.gif" ContentType="image/gif"/>
  <Override PartName="/ppt/media/image13.png" ContentType="image/png"/>
  <Override PartName="/ppt/media/image40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34.gif" ContentType="image/gif"/>
  <Override PartName="/ppt/media/image27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14D-68B5-4C5D-B6F0-9775D5BD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9D1-68A6-4265-B04B-AE7D6E4A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B98-2A1F-43E7-8198-6E8EC279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F97-B7F3-4E01-AF82-9686A401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29F1-9142-457B-92EA-9D6B64B2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F3F4-195D-4B10-8F2B-C251432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937E-D99D-43E4-A19C-9956E673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461E-7FC3-4140-A4A8-AB29A1A1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3AB1-7541-46E8-AD4A-46A55E8F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98E6-BD1F-497F-9DE6-17FC52CC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7C49-9859-4199-B29A-1399074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A42-D903-435F-8981-B5BCE4BF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5983-0605-445D-A780-1EA65F1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A2E0-564B-451B-8882-6CB7768A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6832-D35F-4637-A183-1CF335FA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BA0D-6DF3-4938-B56C-31B09A9B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39EA-B802-49C0-9686-E9D8C296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885-0A60-48C2-AE6A-E30328D0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42A-FC13-446D-AF91-7B636471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746-8DB2-49EE-B837-87311123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B0E-76A8-4282-9526-7131C3F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778-2E4E-4FB7-87AE-AAA6D09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81E-0B10-4CE1-A2B9-32909B7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26A-8C90-4095-80DE-0D3AC75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356F-AC60-4A53-B1ED-A662F910DE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389-6242-4256-B0BC-A047979C9BB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orsi di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sica dello Spazio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940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Cosa e’ la Fisica dello Spaz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Presentazione dei cor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Tesi per la laurea breve e  specialis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Sbocchi lavora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5438880" y="1557360"/>
            <a:ext cx="3705120" cy="424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904000" y="6491160"/>
            <a:ext cx="324000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www.pd.infn.it/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~mar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211640" y="3666960"/>
            <a:ext cx="4514760" cy="3191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3311640" cy="2548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68360" y="1557360"/>
            <a:ext cx="453528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Studio delle traiettorie stabili attorno alla cometa target della missione Rosetta: soluzioni  ‘Frozen orbi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0" y="3666960"/>
            <a:ext cx="3657600" cy="31910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2852640"/>
            <a:ext cx="399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ff"/>
                </a:solidFill>
                <a:latin typeface="Arial"/>
              </a:rPr>
              <a:t>Orbita di un frammento espulso dalla cometa dopo il ‘Deep Impac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60280"/>
            <a:ext cx="8820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e8ba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MISSIONI SPAZIALI: COLLABORAZIONE CON IL CI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4000" y="907920"/>
            <a:ext cx="45352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ssione Bepi Colombo a Mercu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Che tipo di lavoro puoi trovare  dopo la laurea breve in Fisica dello Spaz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274840" cy="24494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276640" cy="2674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5703840" y="1413000"/>
            <a:ext cx="3440160" cy="4824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5"/>
          <a:stretch/>
        </p:blipFill>
        <p:spPr>
          <a:xfrm>
            <a:off x="3063960" y="4221000"/>
            <a:ext cx="2282760" cy="2311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492360" y="37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?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27640" y="765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?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4360" y="6453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?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ahoma"/>
              </a:rPr>
              <a:t>Opportunità di lavoro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Industrie aerospazi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enia (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ecnomare (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elespazio (Rom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iat Spazio (To-Rom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Gavazzi space (M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ben (M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fficine Galileo (F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tero (Francia...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Agenzie Spazi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R (Pi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ES (Franc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476280"/>
            <a:ext cx="54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Origine e formazione dei pian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Evoluzione dei dischi circumstel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Dinamica dei pianeti extraso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Interazioni mareali stella-pian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5292720" y="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08360" y="2852640"/>
            <a:ext cx="5292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Struttura interna dei piane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Equazioni di 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Origine dei campi magnetici plan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Craterizzazione delle superfici e stima dell’e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0"/>
          <a:stretch/>
        </p:blipFill>
        <p:spPr>
          <a:xfrm>
            <a:off x="611280" y="2565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68360" y="5157720"/>
            <a:ext cx="511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namica orbitale di corpi min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timizzazione di orbite interplane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pansioni dei campi gravitazionali plan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4"/>
          <a:stretch/>
        </p:blipFill>
        <p:spPr>
          <a:xfrm>
            <a:off x="5796000" y="4643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167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916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320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I CORSI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6575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Fisica e metodologie spaziali.  </a:t>
            </a:r>
            <a:r>
              <a:rPr b="1" lang="it-IT" sz="2800" spc="-1" strike="noStrike">
                <a:solidFill>
                  <a:srgbClr val="ff9933"/>
                </a:solidFill>
                <a:latin typeface="Tahoma"/>
              </a:rPr>
              <a:t>II anno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. Marzari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Fisica degli ambienti circumterrestri e circumplanetari.  </a:t>
            </a:r>
            <a:r>
              <a:rPr b="1" lang="it-IT" sz="2800" spc="-1" strike="noStrike">
                <a:solidFill>
                  <a:srgbClr val="ff9933"/>
                </a:solidFill>
                <a:latin typeface="Tahoma"/>
              </a:rPr>
              <a:t>III anno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. Marzari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Fisica del Sistema Solare. </a:t>
            </a:r>
            <a:r>
              <a:rPr b="1" lang="it-IT" sz="2800" spc="-1" strike="noStrike">
                <a:solidFill>
                  <a:srgbClr val="ff9933"/>
                </a:solidFill>
                <a:latin typeface="Tahoma"/>
              </a:rPr>
              <a:t>III anno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V. Vanzani</a:t>
            </a:r>
            <a:r>
              <a:rPr b="1" lang="it-IT" sz="28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7647120" y="0"/>
            <a:ext cx="1496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4000" y="189000"/>
            <a:ext cx="64087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SICA E METODOLOGIE SPA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125360"/>
            <a:ext cx="67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1) Definizione elementi orbitali e algoritmi numerici per la predizione orbitale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213372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2) Sviluppo in serie del potenziale gravitazionale di un corpo irregolare (pianeta o satellite)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3357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3) Orbite di trasferimento di Ho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4653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4) Problema a 3 corpi ristrett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4000" y="5877000"/>
            <a:ext cx="62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5) Formulazione Hamilton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372360" y="3213000"/>
            <a:ext cx="2016000" cy="16938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500720" y="41497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508720" y="2565360"/>
            <a:ext cx="3324240" cy="514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788000" y="5877000"/>
            <a:ext cx="3209760" cy="4096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6877080" y="549360"/>
            <a:ext cx="22669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8101080" cy="94716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SICA DEGLI AMBIENTI  CIRCUMTERRESTRI E CIRCUMPLANE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280" y="14842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1) Campi magnetici planetari e vento s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2565360"/>
            <a:ext cx="57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2) Forze non-gravitazionali (Poynting-Robertson, gas drag, effetto Yarkows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933720"/>
            <a:ext cx="65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3) Risonanze orbitali e secolari, problema dei piccoli divis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5157720"/>
            <a:ext cx="66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4) Evoluzione mareale e risonanze spin-orb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6156360"/>
            <a:ext cx="69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5) Tutorial su formazione dei pianeti e sistemi extrasol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227640" y="1052640"/>
            <a:ext cx="2521080" cy="1439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1892520" cy="9399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804000" y="3573360"/>
            <a:ext cx="2160720" cy="12398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6372360" y="4941720"/>
            <a:ext cx="2303280" cy="884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6732720" y="5967360"/>
            <a:ext cx="1800000" cy="8906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4067280" y="5589720"/>
            <a:ext cx="2124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01200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SICA DEL SISTEMA S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2627280" cy="14349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160720" cy="2060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7143840" y="2492280"/>
            <a:ext cx="2000160" cy="2708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90520" y="1197000"/>
            <a:ext cx="615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1) Caratteristiche di insieme del Sistema S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0920" y="234936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2) Struttura interna dei pianeti terrestri e gig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386064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3) Composizione e stato fisico della nebula presolare e dei pian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3851280" y="5025960"/>
            <a:ext cx="3097080" cy="1832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24000" y="5445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4) Zona ‘abitabile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7451640" y="5373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db0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Possibili argomenti di tesi (3-5 anni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5062320" cy="4498920"/>
          </a:xfrm>
          <a:prstGeom prst="rect">
            <a:avLst/>
          </a:prstGeom>
          <a:gradFill rotWithShape="0">
            <a:gsLst>
              <a:gs pos="0">
                <a:srgbClr val="86d7e2"/>
              </a:gs>
              <a:gs pos="100000">
                <a:srgbClr val="c1cce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ianeti extrasolar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inamica cao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issioni spaz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5651640" y="2997360"/>
            <a:ext cx="1944720" cy="1726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5651640" y="1413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5651640" y="4797360"/>
            <a:ext cx="19447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2160360" cy="1395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6804000" y="3110040"/>
            <a:ext cx="2016000" cy="15652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427640" y="3357720"/>
            <a:ext cx="2087640" cy="1620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5364000" y="5000760"/>
            <a:ext cx="2592720" cy="1857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556000" y="0"/>
            <a:ext cx="33130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ianeti extraso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125360"/>
            <a:ext cx="61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1) Formazione dei pianeti extrasolari: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modelli numerici di accumulazione di planetesimi (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ogget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13000"/>
            <a:ext cx="4572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2) Dinamica di planetesimi: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blemi a N-corpi che includono gli effetti dei close encounter sulla velocità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661000"/>
            <a:ext cx="4211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ahoma"/>
              </a:rPr>
              <a:t>3) Migrazione planetaria: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er interazione mareale con il disco, per scattering gravitazionale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233960" y="907920"/>
            <a:ext cx="4910040" cy="69357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290760" cy="472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0" y="0"/>
            <a:ext cx="9144000" cy="1374480"/>
          </a:xfrm>
          <a:prstGeom prst="rect">
            <a:avLst/>
          </a:prstGeom>
          <a:gradFill rotWithShape="0">
            <a:gsLst>
              <a:gs pos="0">
                <a:srgbClr val="86d7e2"/>
              </a:gs>
              <a:gs pos="100000">
                <a:srgbClr val="e0e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l Progetto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ATROS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: studio della stabilita’ a lungo termine delle orbite di tipo Troiano per tutti i pianeti del Sistema Solare utilizzando il metodo dell’analisi di frequenza. Mappe di diffusione e teorie secolari semi-empirich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03640" y="1484280"/>
            <a:ext cx="41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rzari et al. 2000,2002a, 2002b, 2002c, 2003a,2003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6:45:58Z</dcterms:created>
  <dc:creator>Francesco Marzari</dc:creator>
  <dc:description/>
  <dc:language>en-US</dc:language>
  <cp:lastModifiedBy>marzari</cp:lastModifiedBy>
  <dcterms:modified xsi:type="dcterms:W3CDTF">2005-11-10T10:43:19Z</dcterms:modified>
  <cp:revision>28</cp:revision>
  <dc:subject/>
  <dc:title>Slide 1</dc:title>
</cp:coreProperties>
</file>