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27.png" ContentType="image/png"/>
  <Override PartName="/ppt/media/image33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3D1-7915-48AB-874F-B9064DE4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110-91BA-493D-B99F-75722FC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DF-CAA7-4CC5-8FF8-B91FA794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FBE-9057-48DF-A0A5-C74434BB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CB4EE-1D66-4E9B-BAD1-C4D98761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80C0C-5A2E-467C-86E3-15F17A67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F767-8D50-495D-B532-65F3BDD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90E7-43F5-49D7-A736-3EDCE89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7C07-ABCC-4C39-8DEB-9A806B1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56E2-85AB-4575-A95F-3C60AEC3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5D96E-7FF4-4AEA-9DEE-F9C3C7C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FDB-C73C-4CCE-B9AA-D45B0FF3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3C3E2-83B9-47CB-BDA6-E2B1C73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E4BC1-AC8E-47DB-ACB1-F861A9B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CE2EA-8A54-4C91-9F4D-EF02780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772E7-2902-4DB1-813B-5A4B9C8C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25973-E107-4627-ADE1-1143BC16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E2F-57CD-42AB-894C-0327004E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293-78D5-4E3C-BAAC-4893985F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FAD-3D5A-4602-B33E-D3E8A73D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720-C56C-4BA0-8159-1CCE11D3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69D-4421-4E05-86A3-712495D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C94-2D57-4A4F-B306-44AF55A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504-C215-4F3F-98DC-3283A4E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64E-7323-4D4E-9F82-EFBBA34311C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66A0-F5A4-493A-9952-FA3F7F5B345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Engravers MT"/>
              </a:rPr>
              <a:t>PIANETI EXTRASOL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916360" cy="1968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557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Generalita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1197000"/>
            <a:ext cx="49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Breve cronis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scope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prieta’ fisiche e dinami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La formazione dei pian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2997360"/>
            <a:ext cx="48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Sistema sol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ai dischi circumstellari ai pian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7242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I nuovi sistemi plane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472428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migrazione plane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isona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ianeti in sistemi bin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-2475000"/>
            <a:ext cx="7338960" cy="977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380360" y="549360"/>
            <a:ext cx="17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ati orbitali e massa del pianeta da osserva- zioni Doppler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297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32360" y="3800520"/>
            <a:ext cx="3600360" cy="264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0072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Orbita circo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Orbite ellitt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32353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Problemi con questo tipo di mis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determinazione della massa  m sin(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ttività stellare. Pulsazioni stellari, attività cromosferica possono simulare la presenza di un pianeta nella velocità radi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ecessario studiare fotometricamente la stella per escludere pulsazione e spettro per scoprire se la stella è at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58920" y="0"/>
            <a:ext cx="5497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Times New Roman"/>
              </a:rPr>
              <a:t>Occul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010120" cy="2975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836640"/>
            <a:ext cx="7524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HD 2094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19560" y="0"/>
            <a:ext cx="4024440" cy="290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148360" y="3476520"/>
            <a:ext cx="3995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006720" cy="429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04640"/>
            <a:ext cx="82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56512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Le osservazioni con lo spettrografo di HST hanno rivelato espulsione di idrogeno (luce stellare assorbita durante l’occultazione) e formazione di coda (Vidal &amp; Madjar 2003) a causa di intenso irraggiamento stellare (10</a:t>
            </a:r>
            <a:r>
              <a:rPr b="1" lang="it-IT" sz="2000" spc="-1" strike="noStrike" baseline="30000">
                <a:solidFill>
                  <a:srgbClr val="ff0000"/>
                </a:solidFill>
                <a:latin typeface="Tahoma"/>
              </a:rPr>
              <a:t>4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quello di Gio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Atmosfera contiene O, C, Na (Charbonneau et al.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2064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 = 0.69 M</a:t>
            </a:r>
            <a:r>
              <a:rPr b="1" lang="it-IT" sz="20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R= 1.42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± 0.17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ρ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= 0.31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± 0.07 g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~ 1200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= 0.048 AU e=0.0  i=86.1 ± 1.6 deg P=3.52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lla: G0V,  1.05 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eta’= 4-6 Gyr    [FeH] = 0.04 ± 0.02  150 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_flow = 3.16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ahoma"/>
              </a:rPr>
              <a:t>23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gr/G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HD 209458b: Hot Jup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940360" y="4724280"/>
            <a:ext cx="2519280" cy="129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5715000" cy="2990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OGLE-TR-132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404640"/>
            <a:ext cx="3203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 = 1.13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± 0.08 R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J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 = 1.19 ± 0.13 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J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= 0.036 ± 0.0008 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 = 8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± 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ella tipo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= 1.35 ± 0.06 M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[Fe/H] = 0.43 ± 0.1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stanza 1500 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60930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outou et al.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4724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ome fa il raggio ad essere piccolo pur essendo un ‘Hot Jupiter’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1280" y="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Distribuzione delle eccentricita’ vs. Semiasse maggi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03280" y="1699920"/>
            <a:ext cx="0" cy="165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8560" y="155736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Circolarizzazione delle orbite dovuta ad interazione mareale tra stella e pian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789360"/>
            <a:ext cx="503280" cy="503280"/>
          </a:xfrm>
          <a:prstGeom prst="ellipse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516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Hot Jupi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2637000"/>
            <a:ext cx="40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09112"/>
                </a:solidFill>
                <a:latin typeface="Tahoma"/>
              </a:rPr>
              <a:t>Eccentricita’ molto maggiori che nel sistema sol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35772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4330800"/>
            <a:ext cx="4211640" cy="2527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4360" y="5300640"/>
            <a:ext cx="42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Distribuzione delle mas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6093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http://exoplanet.eu/catalog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624040"/>
            <a:ext cx="4730760" cy="4233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00720" y="2708280"/>
            <a:ext cx="2843280" cy="21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052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siduo del disco circumstellare dopo il  processo di formazione pla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ossono segnalare la presenza di un pian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60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ISCHI DI POLVERE: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ebris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522936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Tahoma"/>
              </a:rPr>
              <a:t>Dischi attorno a stelle con pianeti conosciuti. Determinazione dell’inclinazione e massa del piane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306864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573200"/>
            <a:ext cx="5724360" cy="5284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9079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V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907920"/>
            <a:ext cx="540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ridan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(Pianeta (? La stella e’ attiva)  a 3.2 AU con M sin i =  256 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ahoma"/>
              </a:rPr>
              <a:t>Earth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91628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imulazione al computer che mostra la struttura del disco in presenza di un piane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48690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Osservazioni tra 0.2-3 mm al J. C. Maxwell telescope in Hawaii dei debris disks attorno alle due stel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89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LA PRESENZA DI PIANETI PUO’ ESSERE ‘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SEGNALATA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’ DA STRUTTURE NEI  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DEBRIS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1755720"/>
            <a:ext cx="6172200" cy="4457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64000" y="2827440"/>
            <a:ext cx="5580000" cy="4030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300720" y="333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U Mic (GJ 8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98100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ana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ta’ = 12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± 4  M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anza: circa 10 p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789360"/>
            <a:ext cx="349236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6f8ac"/>
                </a:solidFill>
                <a:latin typeface="Tahoma"/>
              </a:rPr>
              <a:t>disco di 0.01 M</a:t>
            </a:r>
            <a:r>
              <a:rPr b="1" lang="it-IT" sz="2000" spc="-1" strike="noStrike" baseline="-25000">
                <a:solidFill>
                  <a:srgbClr val="f6f8ac"/>
                </a:solidFill>
                <a:latin typeface="Tahoma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-25000">
                <a:solidFill>
                  <a:srgbClr val="f6f8a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6f8ac"/>
                </a:solidFill>
                <a:latin typeface="Tahoma"/>
              </a:rPr>
              <a:t>T = 40 K (co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6f8a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29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6f8ac"/>
                </a:solidFill>
                <a:latin typeface="Tahoma"/>
              </a:rPr>
              <a:t>Asimmetrie  SE-NW e oltre 35 AU: presenza di un piane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0828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mmagine all’infrarosso con coronografo presa al Ke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38200" y="1276200"/>
            <a:ext cx="45435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1413000"/>
            <a:ext cx="4889520" cy="546120"/>
          </a:xfrm>
          <a:prstGeom prst="roundRect">
            <a:avLst>
              <a:gd name="adj" fmla="val 32847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7480" y="1484280"/>
            <a:ext cx="4600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b0094"/>
                </a:solidFill>
                <a:latin typeface="Times New Roman"/>
              </a:rPr>
              <a:t>IV secolo AC: Democrito e Epic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2205000"/>
            <a:ext cx="6613560" cy="901800"/>
          </a:xfrm>
          <a:prstGeom prst="roundRect">
            <a:avLst>
              <a:gd name="adj" fmla="val 19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2205000"/>
            <a:ext cx="6265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4700"/>
                </a:solidFill>
                <a:latin typeface="Times New Roman"/>
              </a:rPr>
              <a:t>1400-1500: Giordano Bruno (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400, De la causa, principio et uno</a:t>
            </a:r>
            <a:r>
              <a:rPr b="1" lang="en-GB" sz="2400" spc="-1" strike="noStrike">
                <a:solidFill>
                  <a:srgbClr val="b84700"/>
                </a:solidFill>
                <a:latin typeface="Times New Roman"/>
              </a:rPr>
              <a:t>), William de Vorillo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390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GB" sz="2400" spc="-1" strike="noStrike">
                <a:solidFill>
                  <a:srgbClr val="b84700"/>
                </a:solidFill>
                <a:latin typeface="Times New Roman"/>
              </a:rPr>
              <a:t>Copernico</a:t>
            </a:r>
            <a:r>
              <a:rPr b="0" lang="en-GB" sz="2400" spc="-1" strike="noStrike">
                <a:solidFill>
                  <a:srgbClr val="b847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(147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300640"/>
            <a:ext cx="7467840" cy="1333440"/>
          </a:xfrm>
          <a:prstGeom prst="roundRect">
            <a:avLst>
              <a:gd name="adj" fmla="val 134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5445000"/>
            <a:ext cx="73375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a4a"/>
                </a:solidFill>
                <a:latin typeface="Times New Roman"/>
              </a:rPr>
              <a:t>1995: Mayor &amp; Queloz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Observatorio di Ginevra)</a:t>
            </a:r>
            <a:r>
              <a:rPr b="1" lang="en-GB" sz="2400" spc="-1" strike="noStrike">
                <a:solidFill>
                  <a:srgbClr val="004a4a"/>
                </a:solidFill>
                <a:latin typeface="Times New Roman"/>
              </a:rPr>
              <a:t>,                     Marcy &amp; Butle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San Francisco University),                      </a:t>
            </a:r>
            <a:r>
              <a:rPr b="1" lang="en-GB" sz="2400" spc="-1" strike="noStrike">
                <a:solidFill>
                  <a:srgbClr val="004a4a"/>
                </a:solidFill>
                <a:latin typeface="Times New Roman"/>
              </a:rPr>
              <a:t>Cochran &amp; Hatzes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c Donald Observatory,  T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89000"/>
            <a:ext cx="5927760" cy="1058760"/>
          </a:xfrm>
          <a:prstGeom prst="roundRect">
            <a:avLst>
              <a:gd name="adj" fmla="val 16963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60280"/>
            <a:ext cx="6676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RONISTORIA: quando si inizio' a parlare di pianeti extrasolar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4221000"/>
            <a:ext cx="5194440" cy="825840"/>
          </a:xfrm>
          <a:prstGeom prst="roundRect">
            <a:avLst>
              <a:gd name="adj" fmla="val 21727"/>
            </a:avLst>
          </a:prstGeom>
          <a:solidFill>
            <a:srgbClr val="e6e6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292640"/>
            <a:ext cx="4948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5e00"/>
                </a:solidFill>
                <a:latin typeface="Times New Roman"/>
              </a:rPr>
              <a:t>1950: Peter van de Kamp e la stella di           Barn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357720"/>
            <a:ext cx="5981760" cy="583920"/>
          </a:xfrm>
          <a:prstGeom prst="roundRect">
            <a:avLst>
              <a:gd name="adj" fmla="val 307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3500280"/>
            <a:ext cx="5761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e11a6"/>
                </a:solidFill>
                <a:latin typeface="Times New Roman"/>
              </a:rPr>
              <a:t>1926: </a:t>
            </a:r>
            <a:r>
              <a:rPr b="1" i="1" lang="en-GB" sz="2400" spc="-1" strike="noStrike">
                <a:solidFill>
                  <a:srgbClr val="5e11a6"/>
                </a:solidFill>
                <a:latin typeface="Times New Roman"/>
              </a:rPr>
              <a:t>Amazing stories</a:t>
            </a:r>
            <a:r>
              <a:rPr b="1" lang="en-GB" sz="2400" spc="-1" strike="noStrike">
                <a:solidFill>
                  <a:srgbClr val="5e11a6"/>
                </a:solidFill>
                <a:latin typeface="Times New Roman"/>
              </a:rPr>
              <a:t>: nasce la fantasci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844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che’ ci sono gli ‘hot Jupiters’ mentre nel sistema solare i giganti gassosi si trovano oltre 5 AU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26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OMANDE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997360"/>
            <a:ext cx="81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che’ spesso  le eccentricita’ sono elevate (anche fino a 0.8)  mentre nel sistema solare i pianeti giganti hanno e &lt; 0.1 (solo Mercurio e Plutone con  0.2 &lt; e &lt; 0.3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sistono pianeti terrestri nella zona abitabi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8100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ianeta o nana bruna: dov’e’ il conf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60280"/>
            <a:ext cx="17892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184640"/>
            <a:ext cx="3924360" cy="267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184720" cy="131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2205000"/>
            <a:ext cx="5184720" cy="243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8424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1 Peg b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l primo pianeta extrasolare scoperto (Mayor &amp; Queloz, 199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3500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urva di velocita’ rad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94172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09112"/>
                </a:solidFill>
                <a:latin typeface="Tahoma"/>
              </a:rPr>
              <a:t>Metodo di scoperta: Oscillazione del baricentro della stella per la presenza del pi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ahoma"/>
              </a:rPr>
              <a:t>Numeri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218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Sistemi planetari (stelle in sequenza princip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241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Pianeti (masse da 0.015 a 10 M</a:t>
            </a:r>
            <a:r>
              <a:rPr b="1" lang="it-IT" sz="32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26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Sistemi planetari multip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Pianeti in sistemi bin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Sistemi planetari attorno a Pul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892080"/>
            <a:ext cx="7093080" cy="82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1989000"/>
            <a:ext cx="5656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1) Metodo astrome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2749320" cy="29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4869000"/>
            <a:ext cx="4248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2)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postamento Dopp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(195)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03640" y="4292640"/>
            <a:ext cx="3048120" cy="233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78200" y="189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LA SCOP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836640"/>
            <a:ext cx="32652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Occul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(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403884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24360" y="3284640"/>
            <a:ext cx="5000400" cy="270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789360"/>
            <a:ext cx="355896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4) Lenti gravitaz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492720" cy="407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075120" cy="234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549360"/>
            <a:ext cx="29527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) Coronograf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997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6) Immagine diret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14960" y="0"/>
            <a:ext cx="48290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4788000" cy="321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56000" cy="5950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4149720"/>
            <a:ext cx="4356000" cy="27082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37000"/>
            <a:ext cx="428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Metodo Doppler: utilizzo delle celle allo iodio per aumentare la precisione delle misure di velocità radiale. (strumento SARG su telescopio nazionale Gali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</a:t>
            </a: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/</a:t>
            </a: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</a:t>
            </a: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 = (1+v/c) / (1-v/c)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80536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26560" y="5805360"/>
            <a:ext cx="730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55640" y="6165720"/>
            <a:ext cx="71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2:28:05Z</dcterms:created>
  <dc:creator>Francesco Marzari</dc:creator>
  <dc:description/>
  <dc:language>en-US</dc:language>
  <cp:lastModifiedBy>Francesco Marzari</cp:lastModifiedBy>
  <dcterms:modified xsi:type="dcterms:W3CDTF">2007-06-11T09:06:55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