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2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3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6.png" ContentType="image/png"/>
  <Override PartName="/ppt/media/image2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2D4-8F0A-4670-8F63-C91C79AB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D83-0CBD-49EF-B24D-AF06AE7C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38D-6BFC-4505-A99D-8CA03B8C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DF3-4CD9-42C7-9A4B-FF8F6914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0ED-A0C3-46DF-91AA-6291847A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905-C0AE-4C99-8C0A-A486E44A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331-075B-438B-A352-FE1527A6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F2C-8DE9-4F81-87EC-9BF212E0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FCF-2277-466A-9B27-EC12F2DA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CAE-FF42-4ED1-B44D-F3386B3F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51E-57BF-4858-947E-458AA6CA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F5C-3326-4FAB-AA83-05B97C7E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D5CE-7D38-4BBA-8F85-DA1C2D771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2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nuovi sistemi planet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6769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La migrazione dei pian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isona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aneti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ste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79640" y="2575080"/>
            <a:ext cx="626436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4149720"/>
            <a:ext cx="5003640" cy="194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50000">
                <a:srgbClr val="ff9999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3716280"/>
            <a:ext cx="2160720" cy="792360"/>
          </a:xfrm>
          <a:prstGeom prst="downArrowCallout">
            <a:avLst>
              <a:gd name="adj1" fmla="val 68180"/>
              <a:gd name="adj2" fmla="val 68174"/>
              <a:gd name="adj3" fmla="val 16667"/>
              <a:gd name="adj4" fmla="val 66667"/>
            </a:avLst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4941720"/>
            <a:ext cx="360036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2421000"/>
            <a:ext cx="3672000" cy="1008000"/>
          </a:xfrm>
          <a:prstGeom prst="downArrowCallout">
            <a:avLst>
              <a:gd name="adj1" fmla="val 91080"/>
              <a:gd name="adj2" fmla="val 91071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1484280"/>
            <a:ext cx="2016000" cy="720720"/>
          </a:xfrm>
          <a:prstGeom prst="downArrowCallout">
            <a:avLst>
              <a:gd name="adj1" fmla="val 69936"/>
              <a:gd name="adj2" fmla="val 69930"/>
              <a:gd name="adj3" fmla="val 16667"/>
              <a:gd name="adj4" fmla="val 66667"/>
            </a:avLst>
          </a:prstGeom>
          <a:gradFill rotWithShape="0">
            <a:gsLst>
              <a:gs pos="0">
                <a:srgbClr val="ffa5a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549360"/>
            <a:ext cx="2952720" cy="718920"/>
          </a:xfrm>
          <a:prstGeom prst="downArrowCallout">
            <a:avLst>
              <a:gd name="adj1" fmla="val 102689"/>
              <a:gd name="adj2" fmla="val 10267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6480" cy="3895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96000" y="1484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grazione tip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54936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cc"/>
                </a:solidFill>
                <a:latin typeface="Arial"/>
              </a:rPr>
              <a:t>Massa del pianeta 1 M</a:t>
            </a:r>
            <a:r>
              <a:rPr b="1" lang="it-IT" sz="1800" spc="-1" strike="noStrike" baseline="-25000">
                <a:solidFill>
                  <a:srgbClr val="0066cc"/>
                </a:solidFill>
                <a:latin typeface="Arial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2421000"/>
            <a:ext cx="37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cc"/>
                </a:solidFill>
                <a:latin typeface="Arial"/>
              </a:rPr>
              <a:t>Il pianeta cresce rapidamente in massa: 10 M</a:t>
            </a:r>
            <a:r>
              <a:rPr b="1" lang="it-IT" sz="1800" spc="-1" strike="noStrike" baseline="-25000">
                <a:solidFill>
                  <a:srgbClr val="0066cc"/>
                </a:solidFill>
                <a:latin typeface="Arial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3716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grazione tip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3840" y="4210200"/>
            <a:ext cx="28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494172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Il pianeta raggiunge la sua massa finale mentre rimane agganciato al moto viscoso del dis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443700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osa impedisce al pianeta di cadere sulla stel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35280" y="4076640"/>
            <a:ext cx="3600360" cy="1297080"/>
          </a:xfrm>
          <a:prstGeom prst="rect">
            <a:avLst/>
          </a:prstGeom>
          <a:gradFill rotWithShape="0">
            <a:gsLst>
              <a:gs pos="0">
                <a:srgbClr val="8dc6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213000"/>
            <a:ext cx="6193080" cy="720720"/>
          </a:xfrm>
          <a:prstGeom prst="downArrowCallout">
            <a:avLst>
              <a:gd name="adj1" fmla="val 214842"/>
              <a:gd name="adj2" fmla="val 214823"/>
              <a:gd name="adj3" fmla="val 16667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05264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Quando la pressione magnetica del campo della stella equivale la pressione dovuta all’evoluzione viscosa del disco la materia viene deviata dal campo. Il disco viene svuotato e l’inflow segue le linee di campo. Questo avviene in prossimita’ del raggio di corota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2565360"/>
            <a:ext cx="417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99"/>
                </a:solidFill>
                <a:latin typeface="Arial"/>
              </a:rPr>
              <a:t>R</a:t>
            </a:r>
            <a:r>
              <a:rPr b="1" lang="it-IT" sz="2000" spc="-1" strike="noStrike" baseline="-25000">
                <a:solidFill>
                  <a:srgbClr val="ff3399"/>
                </a:solidFill>
                <a:latin typeface="Arial"/>
              </a:rPr>
              <a:t>c</a:t>
            </a:r>
            <a:r>
              <a:rPr b="1" lang="it-IT" sz="2000" spc="-1" strike="noStrike">
                <a:solidFill>
                  <a:srgbClr val="ff3399"/>
                </a:solidFill>
                <a:latin typeface="Arial"/>
              </a:rPr>
              <a:t> = (GM</a:t>
            </a:r>
            <a:r>
              <a:rPr b="1" lang="it-IT" sz="2000" spc="-1" strike="noStrike" baseline="-25000">
                <a:solidFill>
                  <a:srgbClr val="ff3399"/>
                </a:solidFill>
                <a:latin typeface="Arial"/>
              </a:rPr>
              <a:t>*</a:t>
            </a:r>
            <a:r>
              <a:rPr b="1" lang="it-IT" sz="2000" spc="-1" strike="noStrike">
                <a:solidFill>
                  <a:srgbClr val="ff3399"/>
                </a:solidFill>
                <a:latin typeface="Arial"/>
              </a:rPr>
              <a:t> P</a:t>
            </a:r>
            <a:r>
              <a:rPr b="1" lang="it-IT" sz="2000" spc="-1" strike="noStrike" baseline="-25000">
                <a:solidFill>
                  <a:srgbClr val="ff3399"/>
                </a:solidFill>
                <a:latin typeface="Arial"/>
              </a:rPr>
              <a:t>*</a:t>
            </a:r>
            <a:r>
              <a:rPr b="1" lang="it-IT" sz="2000" spc="-1" strike="noStrike">
                <a:solidFill>
                  <a:srgbClr val="ff3399"/>
                </a:solidFill>
                <a:latin typeface="Arial"/>
              </a:rPr>
              <a:t> / 4 </a:t>
            </a:r>
            <a:r>
              <a:rPr b="1" lang="it-IT" sz="2000" spc="-1" strike="noStrike">
                <a:solidFill>
                  <a:srgbClr val="ff3399"/>
                </a:solidFill>
                <a:latin typeface="Symbol"/>
                <a:ea typeface="Symbol"/>
              </a:rPr>
              <a:t></a:t>
            </a:r>
            <a:r>
              <a:rPr b="1" lang="it-IT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it-IT" sz="2000" spc="-1" strike="noStrike" baseline="30000">
                <a:solidFill>
                  <a:srgbClr val="ff3399"/>
                </a:solidFill>
                <a:latin typeface="Arial"/>
              </a:rPr>
              <a:t>2</a:t>
            </a:r>
            <a:r>
              <a:rPr b="1" lang="it-IT" sz="2000" spc="-1" strike="noStrike">
                <a:solidFill>
                  <a:srgbClr val="ff3399"/>
                </a:solidFill>
                <a:latin typeface="Arial"/>
              </a:rPr>
              <a:t>) </a:t>
            </a:r>
            <a:r>
              <a:rPr b="1" lang="it-IT" sz="2000" spc="-1" strike="noStrike" baseline="30000">
                <a:solidFill>
                  <a:srgbClr val="ff3399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21300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iodo di rotazione delle stelle T-Taur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1-10 gior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4149720"/>
            <a:ext cx="381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 = 1 giorno     R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0.02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=  5  giorni     Rc ~ 0.06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 = 10 giorni    Rc ~ 0.09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66100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99"/>
                </a:solidFill>
                <a:latin typeface="Arial"/>
              </a:rPr>
              <a:t>21 pianeti extrasolari orbitano entro 0.09 AU dalla stella (51 Peg, Ups And b, Tau Boo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33336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A MAGNETOSFERA DELLA S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300720" y="3789360"/>
            <a:ext cx="2556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4059360"/>
            <a:ext cx="5113440" cy="2798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2781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4) Un’intensa fotoevaporazione del disco in prossimità della stella apre un gap nel disco e può fermare la migr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981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99"/>
                </a:solidFill>
                <a:latin typeface="Arial"/>
              </a:rPr>
              <a:t>2) Interazione mareale con la stella (tipo sistema Terra-Lu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844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3) Scambio di massa con la stella per fuoriuscita dal lobo di Ro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189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Altri meccanismi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40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BLEMA 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SISTEMARE I TEMPI 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2682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Formazione pianeti giganti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268280"/>
            <a:ext cx="424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Core-accretion: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~ 2-5 x 10</a:t>
            </a:r>
            <a:r>
              <a:rPr b="1" lang="en-US" sz="2000" spc="-1" strike="noStrike" baseline="30000">
                <a:solidFill>
                  <a:srgbClr val="0066cc"/>
                </a:solidFill>
                <a:latin typeface="Arial"/>
                <a:ea typeface="Arial"/>
              </a:rPr>
              <a:t>6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  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Instabilita’: ~ 10</a:t>
            </a:r>
            <a:r>
              <a:rPr b="1" lang="en-US" sz="2000" spc="-1" strike="noStrike" baseline="30000">
                <a:solidFill>
                  <a:srgbClr val="0066cc"/>
                </a:solidFill>
                <a:latin typeface="Arial"/>
                <a:ea typeface="Arial"/>
              </a:rPr>
              <a:t>3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  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2766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Migrazione planetari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349360"/>
            <a:ext cx="489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Tipo 1:  10</a:t>
            </a:r>
            <a:r>
              <a:rPr b="1" lang="it-IT" sz="20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 – 10</a:t>
            </a:r>
            <a:r>
              <a:rPr b="1" lang="it-IT" sz="20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 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Tipo 2:   10</a:t>
            </a:r>
            <a:r>
              <a:rPr b="1" lang="it-IT" sz="2000" spc="-1" strike="noStrike" baseline="30000">
                <a:solidFill>
                  <a:srgbClr val="009900"/>
                </a:solidFill>
                <a:latin typeface="Arial"/>
              </a:rPr>
              <a:t>5</a:t>
            </a: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 – 10</a:t>
            </a:r>
            <a:r>
              <a:rPr b="1" lang="it-IT" sz="2000" spc="-1" strike="noStrike" baseline="30000">
                <a:solidFill>
                  <a:srgbClr val="009900"/>
                </a:solidFill>
                <a:latin typeface="Arial"/>
              </a:rPr>
              <a:t>6</a:t>
            </a: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 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335772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Vita media del disco di g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3577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99"/>
                </a:solidFill>
                <a:latin typeface="Arial"/>
              </a:rPr>
              <a:t>2-5 x 10</a:t>
            </a:r>
            <a:r>
              <a:rPr b="1" lang="it-IT" sz="2000" spc="-1" strike="noStrike" baseline="30000">
                <a:solidFill>
                  <a:srgbClr val="ff3399"/>
                </a:solidFill>
                <a:latin typeface="Arial"/>
              </a:rPr>
              <a:t>6</a:t>
            </a:r>
            <a:r>
              <a:rPr b="1" lang="it-IT" sz="2000" spc="-1" strike="noStrike">
                <a:solidFill>
                  <a:srgbClr val="ff3399"/>
                </a:solidFill>
                <a:latin typeface="Arial"/>
              </a:rPr>
              <a:t>  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2210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BLEMA 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LE ORBITE DI MOLTI PIANETI SONO ECCENTR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544500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Migrazione planetaria richiede orbite circolari. Se orbite eccentriche (e &gt; 1.1 h/r)  la migrazione puo’ anche invertirsi!  (Papaloizou &amp; Larwood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9560" y="260280"/>
            <a:ext cx="86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PROBLEMA 3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: SISTEMI CON PIU’ DI UN PIAN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12536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1) Per la migrazione di tipo I, cosa succede alle onde di densita’? Se sovrapposizione, i momenti torcenti si intrecciano. Non ci sono simulazioni al mo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49228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74747"/>
                </a:solidFill>
                <a:latin typeface="Arial"/>
              </a:rPr>
              <a:t>2) Le mutue perturbazioni tra i pianeti fanno aumentare le eccentricita’ e la migrazione si puo’ invertire. Inoltre, non si sa se il pianeta riesce ad aprire un gap in presenza delle perturbazioni del secondario. Mancano simulazioni e i vari autori glissano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141960"/>
            <a:ext cx="3352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414972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0000"/>
                </a:solidFill>
                <a:uFillTx/>
                <a:latin typeface="Arial"/>
              </a:rPr>
              <a:t>PROBLEMA 4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: LA MIGRAZIONE PER SCATTERING DI PLANETESIMI RICHIEDE DENSITA’ 50-200 VOLTE LA MMSN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Murray et al. 199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7280" y="257040"/>
            <a:ext cx="89024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Comic Sans MS"/>
              </a:rPr>
              <a:t>3. </a:t>
            </a:r>
            <a:r>
              <a:rPr b="0" lang="it-IT" sz="2400" spc="-1" strike="noStrike">
                <a:solidFill>
                  <a:srgbClr val="ff9900"/>
                </a:solidFill>
                <a:latin typeface="Comic Sans MS"/>
              </a:rPr>
              <a:t>Interazioni tra pianeti giganti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(modello dei Jumping Jupi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ff"/>
                </a:solidFill>
                <a:latin typeface="Comic Sans MS"/>
              </a:rPr>
              <a:t>( </a:t>
            </a:r>
            <a:r>
              <a:rPr b="0" lang="en-GB" sz="1400" spc="-1" strike="noStrike">
                <a:solidFill>
                  <a:srgbClr val="00ffff"/>
                </a:solidFill>
                <a:latin typeface="Comic Sans MS"/>
              </a:rPr>
              <a:t>Weidenschilling &amp; Marzari 1996  ;  Marzari</a:t>
            </a:r>
            <a:r>
              <a:rPr b="0" lang="it-IT" sz="1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mic Sans MS"/>
              </a:rPr>
              <a:t>&amp;</a:t>
            </a:r>
            <a:r>
              <a:rPr b="0" lang="it-IT" sz="1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mic Sans MS"/>
              </a:rPr>
              <a:t>Weidenschilling 2002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0880" y="1219320"/>
            <a:ext cx="2590920" cy="2361960"/>
            <a:chOff x="380880" y="1219320"/>
            <a:chExt cx="2590920" cy="2361960"/>
          </a:xfrm>
        </p:grpSpPr>
        <p:sp>
          <p:nvSpPr>
            <p:cNvPr id="145" name=""/>
            <p:cNvSpPr/>
            <p:nvPr/>
          </p:nvSpPr>
          <p:spPr>
            <a:xfrm>
              <a:off x="380880" y="1219320"/>
              <a:ext cx="2590920" cy="2361960"/>
            </a:xfrm>
            <a:prstGeom prst="roundRect">
              <a:avLst>
                <a:gd name="adj" fmla="val 6361"/>
              </a:avLst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93880" y="1681920"/>
              <a:ext cx="1551960" cy="1460160"/>
            </a:xfrm>
            <a:prstGeom prst="ellipse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2600" y="1522440"/>
              <a:ext cx="1865880" cy="1755000"/>
            </a:xfrm>
            <a:prstGeom prst="ellipse">
              <a:avLst/>
            </a:prstGeom>
            <a:noFill/>
            <a:ln w="9360">
              <a:solidFill>
                <a:srgbClr val="28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46520" y="1809720"/>
              <a:ext cx="1272240" cy="1196640"/>
            </a:xfrm>
            <a:prstGeom prst="ellipse">
              <a:avLst/>
            </a:prstGeom>
            <a:noFill/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57080" y="2344320"/>
              <a:ext cx="101520" cy="95400"/>
            </a:xfrm>
            <a:prstGeom prst="ellipse">
              <a:avLst/>
            </a:prstGeom>
            <a:solidFill>
              <a:srgbClr val="dc2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3440" y="2176560"/>
              <a:ext cx="59040" cy="5544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2160" y="2655720"/>
              <a:ext cx="67680" cy="6336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95800" y="1490400"/>
              <a:ext cx="101880" cy="95400"/>
            </a:xfrm>
            <a:prstGeom prst="ellipse">
              <a:avLst/>
            </a:prstGeom>
            <a:solidFill>
              <a:srgbClr val="4700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3440" y="2176560"/>
              <a:ext cx="59040" cy="5544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9800" y="1371960"/>
              <a:ext cx="2797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429000" y="1219320"/>
            <a:ext cx="2286000" cy="2666880"/>
            <a:chOff x="3429000" y="1219320"/>
            <a:chExt cx="2286000" cy="2666880"/>
          </a:xfrm>
        </p:grpSpPr>
        <p:sp>
          <p:nvSpPr>
            <p:cNvPr id="156" name=""/>
            <p:cNvSpPr/>
            <p:nvPr/>
          </p:nvSpPr>
          <p:spPr>
            <a:xfrm>
              <a:off x="3429000" y="1219320"/>
              <a:ext cx="2286000" cy="2666880"/>
            </a:xfrm>
            <a:custGeom>
              <a:avLst/>
              <a:gdLst>
                <a:gd name="textAreaLeft" fmla="*/ 43560 w 2286000"/>
                <a:gd name="textAreaRight" fmla="*/ 2242440 w 2286000"/>
                <a:gd name="textAreaTop" fmla="*/ 43560 h 2666880"/>
                <a:gd name="textAreaBottom" fmla="*/ 262332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1407" y="0"/>
                  </a:moveTo>
                  <a:arcTo wR="1407" hR="1407" stAng="16200000" swAng="-5400000"/>
                  <a:lnTo>
                    <a:pt x="0" y="23791"/>
                  </a:lnTo>
                  <a:arcTo wR="1407" hR="1407" stAng="10800000" swAng="-5400000"/>
                  <a:lnTo>
                    <a:pt x="20193" y="25198"/>
                  </a:lnTo>
                  <a:arcTo wR="1407" hR="1407" stAng="5400000" swAng="-5400000"/>
                  <a:lnTo>
                    <a:pt x="21600" y="1407"/>
                  </a:lnTo>
                  <a:arcTo wR="1407" hR="1407" stAng="0" swAng="-5400000"/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538440" y="1351440"/>
              <a:ext cx="1883520" cy="2441520"/>
              <a:chOff x="3538440" y="1351440"/>
              <a:chExt cx="1883520" cy="2441520"/>
            </a:xfrm>
          </p:grpSpPr>
          <p:sp>
            <p:nvSpPr>
              <p:cNvPr id="158" name=""/>
              <p:cNvSpPr/>
              <p:nvPr/>
            </p:nvSpPr>
            <p:spPr>
              <a:xfrm>
                <a:off x="4599360" y="2338560"/>
                <a:ext cx="94680" cy="93240"/>
              </a:xfrm>
              <a:prstGeom prst="ellipse">
                <a:avLst/>
              </a:prstGeom>
              <a:solidFill>
                <a:srgbClr val="dc2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93800" y="2129040"/>
                <a:ext cx="514080" cy="1663920"/>
              </a:xfrm>
              <a:prstGeom prst="ellipse">
                <a:avLst/>
              </a:prstGeom>
              <a:noFill/>
              <a:ln w="9360">
                <a:solidFill>
                  <a:srgbClr val="4700b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85520" y="3372840"/>
                <a:ext cx="95040" cy="92880"/>
              </a:xfrm>
              <a:prstGeom prst="ellipse">
                <a:avLst/>
              </a:prstGeom>
              <a:solidFill>
                <a:srgbClr val="4700b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3800000">
                <a:off x="3775320" y="1803600"/>
                <a:ext cx="1080360" cy="1122840"/>
              </a:xfrm>
              <a:prstGeom prst="ellipse">
                <a:avLst/>
              </a:prstGeom>
              <a:noFill/>
              <a:ln w="9360">
                <a:solidFill>
                  <a:srgbClr val="00ae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37160" y="2268720"/>
                <a:ext cx="47160" cy="46440"/>
              </a:xfrm>
              <a:prstGeom prst="ellipse">
                <a:avLst/>
              </a:prstGeom>
              <a:solidFill>
                <a:srgbClr val="00ae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11400" y="1599840"/>
                <a:ext cx="1510560" cy="1601640"/>
              </a:xfrm>
              <a:prstGeom prst="ellipse">
                <a:avLst/>
              </a:prstGeom>
              <a:noFill/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10480" y="3046320"/>
                <a:ext cx="63360" cy="61920"/>
              </a:xfrm>
              <a:prstGeom prst="ellipse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39520" y="1351440"/>
                <a:ext cx="300600" cy="34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2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6019920" y="1219320"/>
            <a:ext cx="2809800" cy="1981080"/>
            <a:chOff x="6019920" y="1219320"/>
            <a:chExt cx="2809800" cy="1981080"/>
          </a:xfrm>
        </p:grpSpPr>
        <p:sp>
          <p:nvSpPr>
            <p:cNvPr id="167" name=""/>
            <p:cNvSpPr/>
            <p:nvPr/>
          </p:nvSpPr>
          <p:spPr>
            <a:xfrm>
              <a:off x="6019920" y="1219320"/>
              <a:ext cx="2809800" cy="1981080"/>
            </a:xfrm>
            <a:prstGeom prst="roundRect">
              <a:avLst>
                <a:gd name="adj" fmla="val 9051"/>
              </a:avLst>
            </a:prstGeom>
            <a:solidFill>
              <a:srgbClr val="e6e6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67520" y="2162160"/>
              <a:ext cx="113760" cy="113760"/>
            </a:xfrm>
            <a:prstGeom prst="ellipse">
              <a:avLst/>
            </a:prstGeom>
            <a:solidFill>
              <a:srgbClr val="dc2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81840" y="2085840"/>
              <a:ext cx="313920" cy="313920"/>
            </a:xfrm>
            <a:prstGeom prst="ellipse">
              <a:avLst/>
            </a:prstGeom>
            <a:noFill/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95960" y="2361960"/>
              <a:ext cx="75960" cy="75960"/>
            </a:xfrm>
            <a:prstGeom prst="ellipse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72160" y="1952640"/>
              <a:ext cx="1133280" cy="1056600"/>
            </a:xfrm>
            <a:prstGeom prst="ellipse">
              <a:avLst/>
            </a:prstGeom>
            <a:noFill/>
            <a:ln w="93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62800" y="2562120"/>
              <a:ext cx="75600" cy="75960"/>
            </a:xfrm>
            <a:prstGeom prst="ellipse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905600" y="1522080"/>
              <a:ext cx="752040" cy="669600"/>
            </a:xfrm>
            <a:prstGeom prst="line">
              <a:avLst/>
            </a:prstGeom>
            <a:ln w="9360">
              <a:solidFill>
                <a:srgbClr val="4700b8"/>
              </a:solidFill>
              <a:prstDash val="sysDashDot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8080" y="2124000"/>
              <a:ext cx="113760" cy="113760"/>
            </a:xfrm>
            <a:prstGeom prst="ellipse">
              <a:avLst/>
            </a:prstGeom>
            <a:solidFill>
              <a:srgbClr val="4700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53120" y="1438200"/>
              <a:ext cx="4093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447920" y="39625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gradFill rotWithShape="0">
            <a:gsLst>
              <a:gs pos="0">
                <a:srgbClr val="2f7575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8006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ffff"/>
                </a:solidFill>
                <a:latin typeface="Comic Sans MS"/>
              </a:rPr>
              <a:t>I pianeti giganti si formano oltre la frost–line secondo il</a:t>
            </a:r>
            <a:r>
              <a:rPr b="0" lang="it-IT" sz="16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modell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57200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Comic Sans MS"/>
              </a:rPr>
              <a:t>I pianeti effettuano incontri ravvicinati </a:t>
            </a:r>
            <a:r>
              <a:rPr b="0" lang="en-US" sz="1600" spc="-1" strike="noStrike">
                <a:solidFill>
                  <a:srgbClr val="f43232"/>
                </a:solidFill>
                <a:latin typeface="Comic Sans MS"/>
              </a:rPr>
              <a:t>(fase caot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96252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gradFill rotWithShape="0">
            <a:gsLst>
              <a:gs pos="0">
                <a:srgbClr val="2f7575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35812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2f7575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343400"/>
            <a:ext cx="2667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Espulsione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66ffff"/>
                </a:solidFill>
                <a:latin typeface="Comic Sans MS"/>
              </a:rPr>
              <a:t>di un piane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66ffff"/>
                </a:solidFill>
                <a:latin typeface="Comic Sans MS"/>
              </a:rPr>
              <a:t>orbita iperbo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Inserimento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66ffff"/>
                </a:solidFill>
                <a:latin typeface="Comic Sans MS"/>
              </a:rPr>
              <a:t>di un alt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43232"/>
                </a:solidFill>
                <a:latin typeface="Comic Sans MS"/>
              </a:rPr>
              <a:t>in orbita eccentric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43232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f43232"/>
                </a:solidFill>
                <a:latin typeface="Comic Sans MS"/>
              </a:rPr>
              <a:t>interna ed inclina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80880" y="6095880"/>
          <a:ext cx="8305560" cy="51768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ff"/>
                          </a:solidFill>
                          <a:latin typeface="Comic Sans MS"/>
                        </a:rPr>
                        <a:t>Le orbite sono interne, eccentriche e con elevate inclinazioni mutu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86360" y="1628640"/>
            <a:ext cx="5057640" cy="4753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3745080" cy="893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89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MPI SCALA PER L’INSTAURARSI DELL’INST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635280" y="5661000"/>
            <a:ext cx="4824360" cy="792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60280"/>
            <a:ext cx="4103640" cy="1727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668920" y="8105400"/>
            <a:ext cx="1800" cy="1025640"/>
          </a:xfrm>
          <a:prstGeom prst="line">
            <a:avLst/>
          </a:prstGeom>
          <a:ln w="9360">
            <a:solidFill>
              <a:srgbClr val="dc2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42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Simulazioni numeriche dell’evoluzione di un sistema di 3 pianeti di massa Giovia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33360"/>
            <a:ext cx="43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8e"/>
                </a:solidFill>
                <a:latin typeface="Arial"/>
              </a:rPr>
              <a:t>Lo scattering gravitazionale accoppiato all’interazione mareale puo’ spiegare le orbite degli ‘Hot Jupit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3384720" cy="3087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3028680" cy="300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4446720"/>
            <a:ext cx="3419640" cy="2411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635280" y="558972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ellar pollution: il pianeta cade sulla st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263700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564000" y="3141720"/>
            <a:ext cx="180000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00000" y="476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VOLUZIONE DINAMICA DI SISTEMI EXTRASOL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47640" y="2637000"/>
            <a:ext cx="669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75605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75605"/>
                </a:solidFill>
                <a:latin typeface="Arial"/>
              </a:rPr>
              <a:t>Risonanze apsid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75605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75605"/>
                </a:solidFill>
                <a:latin typeface="Arial"/>
              </a:rPr>
              <a:t>Risonanze di Koz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227640" y="4941720"/>
            <a:ext cx="2916360" cy="1916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3716280"/>
            <a:ext cx="3456000" cy="576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64000" y="692280"/>
            <a:ext cx="3960720" cy="165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65000"/>
            <a:ext cx="3203640" cy="1440000"/>
          </a:xfrm>
          <a:prstGeom prst="rightArrowCallout">
            <a:avLst>
              <a:gd name="adj1" fmla="val 25002"/>
              <a:gd name="adj2" fmla="val 25000"/>
              <a:gd name="adj3" fmla="val 37079"/>
              <a:gd name="adj4" fmla="val 6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98920" y="692280"/>
            <a:ext cx="554508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sin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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= 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sin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+  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sin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s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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s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+ 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s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sin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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= 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sin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+  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sin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sin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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= 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s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+ e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s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70828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cos </a:t>
            </a: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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= (e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 + (e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22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 e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 cos(</a:t>
            </a: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3213000"/>
            <a:ext cx="626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Con </a:t>
            </a:r>
            <a:r>
              <a:rPr b="1" lang="it-IT" sz="1800" spc="-1" strike="noStrike">
                <a:solidFill>
                  <a:srgbClr val="66ff33"/>
                </a:solidFill>
                <a:latin typeface="Symbol"/>
                <a:ea typeface="Symbol"/>
              </a:rPr>
              <a:t>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= </a:t>
            </a:r>
            <a:r>
              <a:rPr b="1" lang="it-IT" sz="1800" spc="-1" strike="noStrike">
                <a:solidFill>
                  <a:srgbClr val="66ff33"/>
                </a:solidFill>
                <a:latin typeface="Symbol"/>
                <a:ea typeface="Symbol"/>
              </a:rPr>
              <a:t></a:t>
            </a:r>
            <a:r>
              <a:rPr b="1" lang="it-IT" sz="18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- </a:t>
            </a:r>
            <a:r>
              <a:rPr b="1" lang="it-IT" sz="1800" spc="-1" strike="noStrike">
                <a:solidFill>
                  <a:srgbClr val="66ff33"/>
                </a:solidFill>
                <a:latin typeface="Symbol"/>
                <a:ea typeface="Symbol"/>
              </a:rPr>
              <a:t></a:t>
            </a:r>
            <a:r>
              <a:rPr b="1" lang="it-IT" sz="1800" spc="-1" strike="noStrike" baseline="-25000">
                <a:solidFill>
                  <a:srgbClr val="66ff33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  e   </a:t>
            </a:r>
            <a:r>
              <a:rPr b="1" lang="it-IT" sz="1800" spc="-1" strike="noStrike">
                <a:solidFill>
                  <a:srgbClr val="66ff33"/>
                </a:solidFill>
                <a:latin typeface="Symbol"/>
                <a:ea typeface="Symbol"/>
              </a:rPr>
              <a:t></a:t>
            </a:r>
            <a:r>
              <a:rPr b="1" lang="it-IT" sz="1800" spc="-1" strike="noStrike" baseline="-25000">
                <a:solidFill>
                  <a:srgbClr val="66ff33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= g</a:t>
            </a:r>
            <a:r>
              <a:rPr b="1" lang="it-IT" sz="1800" spc="-1" strike="noStrike" baseline="-25000">
                <a:solidFill>
                  <a:srgbClr val="66ff33"/>
                </a:solidFill>
                <a:latin typeface="Arial"/>
              </a:rPr>
              <a:t>i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t + </a:t>
            </a:r>
            <a:r>
              <a:rPr b="1" lang="it-IT" sz="1800" spc="-1" strike="noStrike">
                <a:solidFill>
                  <a:srgbClr val="66ff33"/>
                </a:solidFill>
                <a:latin typeface="Symbol"/>
                <a:ea typeface="Symbol"/>
              </a:rPr>
              <a:t></a:t>
            </a:r>
            <a:r>
              <a:rPr b="1" lang="it-IT" sz="1800" spc="-1" strike="noStrike" baseline="-25000">
                <a:solidFill>
                  <a:srgbClr val="66ff33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371628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5a5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a5a5"/>
                </a:solidFill>
                <a:latin typeface="Arial"/>
              </a:rPr>
              <a:t>S = |e</a:t>
            </a:r>
            <a:r>
              <a:rPr b="1" lang="en-US" sz="1800" spc="-1" strike="noStrike" baseline="-25000">
                <a:solidFill>
                  <a:srgbClr val="ffa5a5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ffa5a5"/>
                </a:solidFill>
                <a:latin typeface="Arial"/>
              </a:rPr>
              <a:t> e</a:t>
            </a:r>
            <a:r>
              <a:rPr b="1" lang="en-US" sz="1800" spc="-1" strike="noStrike" baseline="-25000">
                <a:solidFill>
                  <a:srgbClr val="ffa5a5"/>
                </a:solidFill>
                <a:latin typeface="Arial"/>
              </a:rPr>
              <a:t>22 </a:t>
            </a:r>
            <a:r>
              <a:rPr b="1" lang="en-US" sz="1800" spc="-1" strike="noStrike">
                <a:solidFill>
                  <a:srgbClr val="ffa5a5"/>
                </a:solidFill>
                <a:latin typeface="Arial"/>
              </a:rPr>
              <a:t>+ e</a:t>
            </a:r>
            <a:r>
              <a:rPr b="1" lang="en-US" sz="1800" spc="-1" strike="noStrike" baseline="-25000">
                <a:solidFill>
                  <a:srgbClr val="ffa5a5"/>
                </a:solidFill>
                <a:latin typeface="Arial"/>
              </a:rPr>
              <a:t>12 </a:t>
            </a:r>
            <a:r>
              <a:rPr b="1" lang="en-US" sz="1800" spc="-1" strike="noStrike">
                <a:solidFill>
                  <a:srgbClr val="ffa5a5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fa5a5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ffa5a5"/>
                </a:solidFill>
                <a:latin typeface="Arial"/>
              </a:rPr>
              <a:t>| / |e</a:t>
            </a:r>
            <a:r>
              <a:rPr b="1" lang="en-US" sz="1800" spc="-1" strike="noStrike" baseline="-25000">
                <a:solidFill>
                  <a:srgbClr val="ffa5a5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ffa5a5"/>
                </a:solidFill>
                <a:latin typeface="Arial"/>
              </a:rPr>
              <a:t> e</a:t>
            </a:r>
            <a:r>
              <a:rPr b="1" lang="en-US" sz="1800" spc="-1" strike="noStrike" baseline="-25000">
                <a:solidFill>
                  <a:srgbClr val="ffa5a5"/>
                </a:solidFill>
                <a:latin typeface="Arial"/>
              </a:rPr>
              <a:t>21</a:t>
            </a:r>
            <a:r>
              <a:rPr b="1" lang="en-US" sz="1800" spc="-1" strike="noStrike">
                <a:solidFill>
                  <a:srgbClr val="ffa5a5"/>
                </a:solidFill>
                <a:latin typeface="Arial"/>
              </a:rPr>
              <a:t> + e</a:t>
            </a:r>
            <a:r>
              <a:rPr b="1" lang="en-US" sz="1800" spc="-1" strike="noStrike" baseline="-25000">
                <a:solidFill>
                  <a:srgbClr val="ffa5a5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ffa5a5"/>
                </a:solidFill>
                <a:latin typeface="Arial"/>
              </a:rPr>
              <a:t> e</a:t>
            </a:r>
            <a:r>
              <a:rPr b="1" lang="en-US" sz="1800" spc="-1" strike="noStrike" baseline="-25000">
                <a:solidFill>
                  <a:srgbClr val="ffa5a5"/>
                </a:solidFill>
                <a:latin typeface="Arial"/>
              </a:rPr>
              <a:t>22</a:t>
            </a:r>
            <a:r>
              <a:rPr b="1" lang="en-US" sz="1800" spc="-1" strike="noStrike">
                <a:solidFill>
                  <a:srgbClr val="ffa5a5"/>
                </a:solidFill>
                <a:latin typeface="Arial"/>
              </a:rPr>
              <a:t>)|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378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 S &lt; 1 LIBRAZIONE di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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4788000"/>
            <a:ext cx="2843280" cy="2070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987640" y="4819680"/>
            <a:ext cx="2790720" cy="203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664000" y="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Risonanze apsid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65000"/>
            <a:ext cx="212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ff33"/>
                </a:solidFill>
                <a:latin typeface="Arial"/>
              </a:rPr>
              <a:t>Equazioni della teoria secolare linearizzata per DUE PIAN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941720"/>
            <a:ext cx="2987640" cy="19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HD 1266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66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 = 0.83   a</a:t>
            </a:r>
            <a:r>
              <a:rPr b="1" lang="en-US" sz="2000" spc="-1" strike="noStrike" baseline="-25000">
                <a:solidFill>
                  <a:srgbClr val="0066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 = 2.56 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M</a:t>
            </a:r>
            <a:r>
              <a:rPr b="1" lang="en-US" sz="2000" spc="-1" strike="noStrike" baseline="-25000">
                <a:solidFill>
                  <a:srgbClr val="0066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 = 2.30  M</a:t>
            </a:r>
            <a:r>
              <a:rPr b="1" lang="en-US" sz="2000" spc="-1" strike="noStrike" baseline="-25000">
                <a:solidFill>
                  <a:srgbClr val="0066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 = 1.57 M</a:t>
            </a:r>
            <a:r>
              <a:rPr b="1" lang="en-US" sz="20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66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 = 0.096 e</a:t>
            </a:r>
            <a:r>
              <a:rPr b="1" lang="en-US" sz="2000" spc="-1" strike="noStrike" baseline="-25000">
                <a:solidFill>
                  <a:srgbClr val="0066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 &lt;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003640" y="5805360"/>
            <a:ext cx="1224000" cy="4320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490920"/>
            <a:ext cx="4356000" cy="336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95640" y="3284640"/>
            <a:ext cx="5148360" cy="3979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4000" y="4869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6093000"/>
            <a:ext cx="144360" cy="14436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6165720"/>
            <a:ext cx="144360" cy="14472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43640" y="53737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MIGRAZIONE NEL SISTEMA SOLARE: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66cc"/>
                </a:solidFill>
                <a:latin typeface="Arial"/>
              </a:rPr>
              <a:t>Necessaria per spiegare l’orbita di Plutone e le caratteristiche della Kuiper Be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844640"/>
            <a:ext cx="8640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d60093"/>
                </a:solidFill>
                <a:latin typeface="Arial"/>
              </a:rPr>
              <a:t>I Plutini sono in risonanza 3:2 con Nettuno. Migrazione puo’ spiegare cattura in risonanza (meccanismo di protezione dinam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d60093"/>
                </a:solidFill>
                <a:latin typeface="Arial"/>
              </a:rPr>
              <a:t>Anche la belt ‘calda’ (valori elevati di e e i) sarebbe diretta conseguenza della mi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84640"/>
            <a:ext cx="9144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308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Arial"/>
              </a:rPr>
              <a:t>Nettu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9640" y="2060640"/>
            <a:ext cx="6696360" cy="2303280"/>
          </a:xfrm>
          <a:prstGeom prst="rect">
            <a:avLst/>
          </a:prstGeom>
          <a:solidFill>
            <a:srgbClr val="c2c3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8920" y="333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ISONANZA DI KOZ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49417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33"/>
                </a:solidFill>
                <a:latin typeface="Times New Roman"/>
              </a:rPr>
              <a:t>H e’ una costante del moto e quindi quando </a:t>
            </a:r>
            <a:r>
              <a:rPr b="1" i="1" lang="it-IT" sz="2800" spc="-1" strike="noStrike">
                <a:solidFill>
                  <a:srgbClr val="66ff33"/>
                </a:solidFill>
                <a:latin typeface="Times New Roman"/>
              </a:rPr>
              <a:t>e </a:t>
            </a:r>
            <a:r>
              <a:rPr b="1" lang="it-IT" sz="2800" spc="-1" strike="noStrike">
                <a:solidFill>
                  <a:srgbClr val="66ff33"/>
                </a:solidFill>
                <a:latin typeface="Times New Roman"/>
              </a:rPr>
              <a:t>e’ grande </a:t>
            </a:r>
            <a:r>
              <a:rPr b="1" i="1" lang="it-IT" sz="2800" spc="-1" strike="noStrike">
                <a:solidFill>
                  <a:srgbClr val="66ff33"/>
                </a:solidFill>
                <a:latin typeface="Times New Roman"/>
              </a:rPr>
              <a:t>i</a:t>
            </a:r>
            <a:r>
              <a:rPr b="1" lang="it-IT" sz="2800" spc="-1" strike="noStrike">
                <a:solidFill>
                  <a:srgbClr val="66ff33"/>
                </a:solidFill>
                <a:latin typeface="Times New Roman"/>
              </a:rPr>
              <a:t> e’ piccolo: oscillano in antifase.</a:t>
            </a: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134136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33"/>
                </a:solidFill>
                <a:latin typeface="Times New Roman"/>
              </a:rPr>
              <a:t>Approccio Hamiltoniano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11280" y="2205000"/>
          <a:ext cx="8302680" cy="19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83026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451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200560" y="549360"/>
            <a:ext cx="3943440" cy="2143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292720" y="270828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(3352) Camillo, Kozai con Gi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88000" y="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) Asteroidi 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28464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2) Comete Sun-grazer (ad ex. 1965  VIII Ikeya-Se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407664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3) Satelliti irregolari di Saturno e Giove (Cuk et al.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59280" y="49417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4) Shaping della Kuiper 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59280" y="5445000"/>
            <a:ext cx="41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5) Coinvolta nella crescita delle inclinazioni dei Troiani di Giove (Marzari &amp; Scholl 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16 Cygni B: il piane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3701880"/>
            <a:ext cx="3924360" cy="3156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716360" y="3714840"/>
            <a:ext cx="4032360" cy="3143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516720" y="0"/>
            <a:ext cx="2627280" cy="2602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067280" y="476280"/>
            <a:ext cx="266364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sin i = 2.69 M</a:t>
            </a:r>
            <a:r>
              <a:rPr b="1" lang="it-IT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 = 1.67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 = 0.6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= 850 AU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it-IT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= 100 – 500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= 1.01 M</a:t>
            </a:r>
            <a:r>
              <a:rPr b="1" lang="it-IT" sz="1800" spc="-1" strike="noStrike" baseline="-25000">
                <a:solidFill>
                  <a:srgbClr val="ffff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= 1.03 M</a:t>
            </a:r>
            <a:r>
              <a:rPr b="1" lang="it-IT" sz="1800" spc="-1" strike="noStrike" baseline="-25000">
                <a:solidFill>
                  <a:srgbClr val="ffff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268280"/>
            <a:ext cx="36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Arial"/>
              </a:rPr>
              <a:t>Se l’inclinazione tra il piano orbitale della stella e quello del pianeta e’ maggiore di 40</a:t>
            </a:r>
            <a:r>
              <a:rPr b="1" lang="it-IT" sz="2000" spc="-1" strike="noStrike" baseline="30000">
                <a:solidFill>
                  <a:srgbClr val="ff33cc"/>
                </a:solidFill>
                <a:latin typeface="Arial"/>
              </a:rPr>
              <a:t>o</a:t>
            </a:r>
            <a:r>
              <a:rPr b="1" lang="it-IT" sz="2000" spc="-1" strike="noStrike">
                <a:solidFill>
                  <a:srgbClr val="ff33cc"/>
                </a:solidFill>
                <a:latin typeface="Arial"/>
              </a:rPr>
              <a:t>, Il pianeta e’ in risonanza di Kozai con la componente princip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95640" y="3141720"/>
            <a:ext cx="288720" cy="503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56000" y="3141720"/>
            <a:ext cx="3600360" cy="503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-2043000"/>
            <a:ext cx="8194680" cy="1160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8360" y="2276640"/>
            <a:ext cx="7920000" cy="79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2602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MAZIONE DEI PIANETI IN SISTEMI STELLARI BIN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126828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  <a:ea typeface="Arial"/>
              </a:rPr>
              <a:t>~ 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50%  delle stelle in sistemi bin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Picco del semiasse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  <a:ea typeface="Arial"/>
              </a:rPr>
              <a:t>~ 50 AU, picco dell’eccentricita’ 0.2-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227664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d0b88"/>
                </a:solidFill>
                <a:latin typeface="Arial"/>
              </a:rPr>
              <a:t>DOMANDA: e’ possibile la formazione dei pianeti nonostante le perturbazioni gravitazionali della stella compag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3365640"/>
            <a:ext cx="3492360" cy="3492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564000" y="3429000"/>
            <a:ext cx="475308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1551 IRS5: dischi attorno a ciascuna componente (infrarosso, Rodriguez et al. 1998)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cc"/>
                </a:solidFill>
                <a:latin typeface="Arial"/>
              </a:rPr>
              <a:t>Le masse dei dischi sono circa 0.04 M</a:t>
            </a:r>
            <a:r>
              <a:rPr b="1" lang="it-IT" sz="1800" spc="-1" strike="noStrike" baseline="-25000">
                <a:solidFill>
                  <a:srgbClr val="ff33cc"/>
                </a:solidFill>
                <a:latin typeface="Arial"/>
              </a:rPr>
              <a:t>SUn</a:t>
            </a:r>
            <a:r>
              <a:rPr b="1" lang="it-IT" sz="1800" spc="-1" strike="noStrike">
                <a:solidFill>
                  <a:srgbClr val="ff33cc"/>
                </a:solidFill>
                <a:latin typeface="Arial"/>
              </a:rPr>
              <a:t> &gt; MM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676840" y="836640"/>
            <a:ext cx="3467160" cy="3505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343320" cy="3438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643280" y="4732200"/>
            <a:ext cx="3241800" cy="2125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68360" y="4729320"/>
            <a:ext cx="3311640" cy="21286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Troncamento del disco dovuto alle perturbazioni della secondaria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(Artymowicz &amp; Lubow 1994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4360" y="4437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= 0.3 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32360" y="443700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= 0.3 e =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92360" y="17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cc"/>
                </a:solidFill>
                <a:latin typeface="Arial"/>
              </a:rPr>
              <a:t>Diversi valori di viscos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92360" y="3284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-14, -11, -8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659640" y="476280"/>
            <a:ext cx="2484360" cy="22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80000" y="476280"/>
            <a:ext cx="2592360" cy="1728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3860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the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76720" y="3284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theb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95280" y="2914560"/>
            <a:ext cx="3990960" cy="3943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0" y="0"/>
            <a:ext cx="34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Arial"/>
              </a:rPr>
              <a:t>Il pianeta in Gamma Ceph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04000" y="549360"/>
            <a:ext cx="46800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66ff33"/>
                </a:solidFill>
                <a:latin typeface="Arial"/>
              </a:rPr>
              <a:t>1 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= 1.59 M</a:t>
            </a:r>
            <a:r>
              <a:rPr b="1" lang="it-IT" sz="1800" spc="-1" strike="noStrike" baseline="-25000">
                <a:solidFill>
                  <a:srgbClr val="66ff33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sini = 0.4 M</a:t>
            </a:r>
            <a:r>
              <a:rPr b="1" lang="it-IT" sz="1800" spc="-1" strike="noStrike" baseline="-25000">
                <a:solidFill>
                  <a:srgbClr val="66ff33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a = 18.5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e = 0.44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  <a:ea typeface="Arial"/>
              </a:rPr>
              <a:t>±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 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P = 74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  <a:ea typeface="Arial"/>
              </a:rPr>
              <a:t>±</a:t>
            </a: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 16 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24360" y="549360"/>
            <a:ext cx="251928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Msini = 1.67 M</a:t>
            </a:r>
            <a:r>
              <a:rPr b="1" lang="it-IT" sz="1800" spc="-1" strike="noStrike" baseline="-25000">
                <a:solidFill>
                  <a:srgbClr val="ffff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 = 2.03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±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0.01 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e = 0.2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0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 = 903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±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6  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0360" y="189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l Pian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890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La St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72360" y="350028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Evoluzione planetesi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16360" y="544500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0b88"/>
                </a:solidFill>
                <a:latin typeface="Arial"/>
              </a:rPr>
              <a:t>La fase dei grandi impatti: MIGRAZIONE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28702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-324000" y="2909880"/>
            <a:ext cx="8172720" cy="39481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924360" y="3789360"/>
            <a:ext cx="358560" cy="2519280"/>
          </a:xfrm>
          <a:prstGeom prst="rect">
            <a:avLst/>
          </a:prstGeom>
          <a:solidFill>
            <a:srgbClr val="ff99cc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92720" y="3789360"/>
            <a:ext cx="358920" cy="2519280"/>
          </a:xfrm>
          <a:prstGeom prst="rect">
            <a:avLst/>
          </a:prstGeom>
          <a:solidFill>
            <a:srgbClr val="ff99cc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0"/>
            <a:ext cx="385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Stabilita’ a lungo termine di orbite planetarie in sistemi binari con stelle vicine. (Holman &amp; Wiegert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6364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3404"/>
                </a:solidFill>
                <a:latin typeface="Arial"/>
              </a:rPr>
              <a:t>ALCUNI DEI PROBLEMI APER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981000"/>
            <a:ext cx="9144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Formazione dei pianeti giganti e presenza del core: il modello standard funziona anc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ssima massa di un pianeta (nana brun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66cc"/>
                </a:solidFill>
                <a:latin typeface="Arial"/>
              </a:rPr>
              <a:t>Migrazione planetaria: tempi scala e processi fisici coinvol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8dc6ff"/>
                </a:solidFill>
                <a:latin typeface="Arial"/>
              </a:rPr>
              <a:t>Come fermare le migrazi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5050"/>
                </a:solidFill>
                <a:latin typeface="Arial"/>
              </a:rPr>
              <a:t>I pianeti di tipo terrestre possono sopravvivere in presenza di un gigante gassoso che mig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Gli ‘Hot Jupiters’ possono evapor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66ff"/>
                </a:solidFill>
                <a:latin typeface="Arial"/>
              </a:rPr>
              <a:t>Sistemi come il nostro sono r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e3de0d"/>
                </a:solidFill>
                <a:latin typeface="Arial"/>
              </a:rPr>
              <a:t>La dinamica e stabilita’ di orbite di tipo S e P in sistemi stellare binari (e multipli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356000" y="54936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cc"/>
                </a:solidFill>
                <a:latin typeface="Arial"/>
              </a:rPr>
              <a:t>Migrazione per close encounters (S-U-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965320" cy="3068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2952720" cy="2667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924600" y="5372280"/>
            <a:ext cx="2219400" cy="1485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141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 = (a (1 – e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 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it-IT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cos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981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e z d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2133720"/>
            <a:ext cx="46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66cc"/>
                </a:solidFill>
                <a:latin typeface="Arial"/>
              </a:rPr>
              <a:t>Se </a:t>
            </a:r>
            <a:r>
              <a:rPr b="1" lang="it-IT" sz="1800" spc="-1" strike="noStrike">
                <a:solidFill>
                  <a:srgbClr val="0066cc"/>
                </a:solidFill>
                <a:latin typeface="Arial"/>
              </a:rPr>
              <a:t>H &gt; H</a:t>
            </a:r>
            <a:r>
              <a:rPr b="1" lang="it-IT" sz="1800" spc="-1" strike="noStrike" baseline="-25000">
                <a:solidFill>
                  <a:srgbClr val="0066cc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0066cc"/>
                </a:solidFill>
                <a:latin typeface="Arial"/>
              </a:rPr>
              <a:t>  migrazione verso es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9900"/>
                </a:solidFill>
                <a:latin typeface="Arial"/>
              </a:rPr>
              <a:t>Se </a:t>
            </a: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H &lt; H</a:t>
            </a:r>
            <a:r>
              <a:rPr b="1" lang="it-IT" sz="1800" spc="-1" strike="noStrike" baseline="-25000">
                <a:solidFill>
                  <a:srgbClr val="009900"/>
                </a:solidFill>
                <a:latin typeface="Arial"/>
              </a:rPr>
              <a:t>p</a:t>
            </a:r>
            <a:r>
              <a:rPr b="0" lang="it-IT" sz="1800" spc="-1" strike="noStrike">
                <a:solidFill>
                  <a:srgbClr val="009900"/>
                </a:solidFill>
                <a:latin typeface="Arial"/>
              </a:rPr>
              <a:t> migrazione verso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3429000"/>
            <a:ext cx="5040360" cy="1944720"/>
          </a:xfrm>
          <a:prstGeom prst="rect">
            <a:avLst/>
          </a:prstGeom>
          <a:solidFill>
            <a:srgbClr val="80808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0000" y="357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Migrazione per scattering (solo 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4076640"/>
            <a:ext cx="471636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rvazione dell’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M</a:t>
            </a:r>
            <a:r>
              <a:rPr b="1" lang="ar-SA" sz="1800" spc="-1" strike="noStrike" baseline="-25000">
                <a:solidFill>
                  <a:srgbClr val="000000"/>
                </a:solidFill>
                <a:latin typeface="Arial"/>
                <a:cs typeface="Arial"/>
              </a:rPr>
              <a:t>٭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/ a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+ 1 / a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) =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M</a:t>
            </a:r>
            <a:r>
              <a:rPr b="1" lang="ar-SA" sz="1800" spc="-1" strike="noStrike" baseline="-25000">
                <a:solidFill>
                  <a:srgbClr val="000000"/>
                </a:solidFill>
                <a:latin typeface="Arial"/>
              </a:rPr>
              <a:t>٭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/ a’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mpre migrazione verso l’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1989000"/>
            <a:ext cx="4608360" cy="1150920"/>
          </a:xfrm>
          <a:prstGeom prst="rect">
            <a:avLst/>
          </a:prstGeom>
          <a:solidFill>
            <a:srgbClr val="ff00ff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grazione: 3 processi fisici disti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052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cc"/>
                </a:solidFill>
                <a:latin typeface="Arial"/>
              </a:rPr>
              <a:t>1) Il pianeta interagisce marealmente con il disco di gas (e polvere). Avviene nei primi 3-5 Myr, poi il disco di gas viene dissipato. Caso degli ‘hot Jupiters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249228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) Migrazione per scattering di planetesimi. Avviene nelle fasi finali di formazione dei pianeti e continua fino a che tutti i planetesimi sono stati spazzati via. Il sistema solare. E’ il caso anche di altri pianeti extrasol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465300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dd0b88"/>
                </a:solidFill>
                <a:latin typeface="Arial"/>
              </a:rPr>
              <a:t>3) Migrazione per espulsione di uno o piu’ pianeti dal sistema. Avviene al termine del processo di formazione planetaria, dopo un periodo di evoluzione dinamica caotica. E’ il caso di pianeti extrasolari eccentri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7964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grazione di tipo I: pianeti picco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148428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92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cc"/>
                </a:solidFill>
                <a:latin typeface="Arial"/>
              </a:rPr>
              <a:t>Risonanze di Lindblad e corotanti (gia’ note per i dischi planetari) causano la formazione di onde di densita’ a spirale, trasferimento di momento angolare dal pianeta al disco. Il momento torcente delle risonanze esterne piu’ forte rispetto a quelle interne: </a:t>
            </a:r>
            <a:r>
              <a:rPr b="1" lang="it-IT" sz="1800" spc="-1" strike="noStrike">
                <a:solidFill>
                  <a:srgbClr val="0066cc"/>
                </a:solidFill>
                <a:latin typeface="Arial"/>
              </a:rPr>
              <a:t>migrazione verso l’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27664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otante:      m (n -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it-IT" sz="2400" spc="-1" strike="noStrike" baseline="-24000">
                <a:solidFill>
                  <a:srgbClr val="000000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indblad:        m (n -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) =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ticale: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 (n -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213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2276640"/>
            <a:ext cx="410364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= pattern speed: velocita’ angolare dei termini perturbativi nello sviluppo del potenziale gravitazionale del pian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= m n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+ k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+ p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508640"/>
            <a:ext cx="5329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= j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+ j’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+ p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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+ p’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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+ q 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+ q’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373720"/>
            <a:ext cx="82072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Attenzione: n non e’ Kepleriano per la pressione del gas!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                                                </a:t>
            </a: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n</a:t>
            </a:r>
            <a:r>
              <a:rPr b="1" lang="it-IT" sz="2000" spc="-1" strike="noStrike" baseline="-25000">
                <a:solidFill>
                  <a:srgbClr val="0066cc"/>
                </a:solidFill>
                <a:latin typeface="Arial"/>
              </a:rPr>
              <a:t>gas</a:t>
            </a: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 &lt; n</a:t>
            </a:r>
            <a:r>
              <a:rPr b="1" lang="it-IT" sz="2000" spc="-1" strike="noStrike" baseline="-25000">
                <a:solidFill>
                  <a:srgbClr val="0066cc"/>
                </a:solidFill>
                <a:latin typeface="Arial"/>
              </a:rPr>
              <a:t>K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276640"/>
            <a:ext cx="4249800" cy="187308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5877000"/>
            <a:ext cx="1584360" cy="43164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87280" y="4365720"/>
            <a:ext cx="6193080" cy="503280"/>
          </a:xfrm>
          <a:prstGeom prst="rect">
            <a:avLst/>
          </a:prstGeom>
          <a:solidFill>
            <a:srgbClr val="ffcc99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3851280" cy="2998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6000" y="4365720"/>
            <a:ext cx="619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1" lang="it-IT" sz="2000" spc="-1" strike="noStrike" baseline="-25000">
                <a:solidFill>
                  <a:srgbClr val="000099"/>
                </a:solidFill>
                <a:latin typeface="Arial"/>
              </a:rPr>
              <a:t>I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= (2.7 + 1.1 </a:t>
            </a:r>
            <a:r>
              <a:rPr b="1" lang="it-IT" sz="20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1" lang="it-IT" sz="2000" spc="-1" strike="noStrike" baseline="30000">
                <a:solidFill>
                  <a:srgbClr val="000099"/>
                </a:solidFill>
                <a:latin typeface="Arial"/>
              </a:rPr>
              <a:t>-1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M</a:t>
            </a:r>
            <a:r>
              <a:rPr b="1" lang="it-IT" sz="2000" spc="-1" strike="noStrike" baseline="-25000">
                <a:solidFill>
                  <a:srgbClr val="000099"/>
                </a:solidFill>
                <a:latin typeface="Arial"/>
              </a:rPr>
              <a:t>star</a:t>
            </a:r>
            <a:r>
              <a:rPr b="1" lang="it-IT" sz="2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/ (M</a:t>
            </a:r>
            <a:r>
              <a:rPr b="1" lang="it-IT" sz="2000" spc="-1" strike="noStrike" baseline="-25000">
                <a:solidFill>
                  <a:srgbClr val="000099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99"/>
                </a:solidFill>
                <a:latin typeface="Symbol"/>
                <a:ea typeface="Symbol"/>
              </a:rPr>
              <a:t>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r</a:t>
            </a:r>
            <a:r>
              <a:rPr b="1" lang="it-IT" sz="2000" spc="-1" strike="noStrike" baseline="-25000">
                <a:solidFill>
                  <a:srgbClr val="000099"/>
                </a:solidFill>
                <a:latin typeface="Arial"/>
              </a:rPr>
              <a:t>p</a:t>
            </a:r>
            <a:r>
              <a:rPr b="1" lang="it-IT" sz="2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) (c / r</a:t>
            </a:r>
            <a:r>
              <a:rPr b="1" lang="it-IT" sz="2000" spc="-1" strike="noStrike" baseline="-25000">
                <a:solidFill>
                  <a:srgbClr val="000099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99"/>
                </a:solidFill>
                <a:latin typeface="Symbol"/>
                <a:ea typeface="Symbol"/>
              </a:rPr>
              <a:t></a:t>
            </a:r>
            <a:r>
              <a:rPr b="1" lang="it-IT" sz="2000" spc="-1" strike="noStrike" baseline="-25000">
                <a:solidFill>
                  <a:srgbClr val="000099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it-IT" sz="2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99"/>
                </a:solidFill>
                <a:latin typeface="Symbol"/>
                <a:ea typeface="Symbol"/>
              </a:rPr>
              <a:t></a:t>
            </a:r>
            <a:r>
              <a:rPr b="1" lang="it-IT" sz="2000" spc="-1" strike="noStrike" baseline="-25000">
                <a:solidFill>
                  <a:srgbClr val="000099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2000" spc="-1" strike="noStrike" baseline="30000">
                <a:solidFill>
                  <a:srgbClr val="000099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3097080" cy="3079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5157720"/>
            <a:ext cx="8353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roblema: un pianeta di 10 M</a:t>
            </a:r>
            <a:r>
              <a:rPr b="1" lang="it-IT" sz="2000" spc="-1" strike="noStrike" baseline="-25000">
                <a:solidFill>
                  <a:srgbClr val="ff0000"/>
                </a:solidFill>
                <a:latin typeface="Arial"/>
              </a:rPr>
              <a:t>Terra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a 5 AU in un disco con 0.02 M</a:t>
            </a:r>
            <a:r>
              <a:rPr b="1" lang="it-IT" sz="2000" spc="-1" strike="noStrike" baseline="-25000">
                <a:solidFill>
                  <a:srgbClr val="ff0000"/>
                </a:solidFill>
                <a:latin typeface="Arial"/>
              </a:rPr>
              <a:t>sole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cade nel sole in  8 x 10</a:t>
            </a:r>
            <a:r>
              <a:rPr b="1" lang="it-IT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anni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157720"/>
            <a:ext cx="8137440" cy="720720"/>
          </a:xfrm>
          <a:prstGeom prst="rect">
            <a:avLst/>
          </a:prstGeom>
          <a:solidFill>
            <a:srgbClr val="ff99cc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260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Differenza tra i momenti torcenti esterno e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260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cc"/>
                </a:solidFill>
                <a:latin typeface="Arial"/>
              </a:rPr>
              <a:t>Onde di densita’ causate da risona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00360" y="4365720"/>
            <a:ext cx="31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35280" y="3068640"/>
            <a:ext cx="3168720" cy="647640"/>
          </a:xfrm>
          <a:prstGeom prst="rect">
            <a:avLst/>
          </a:prstGeom>
          <a:solidFill>
            <a:srgbClr val="ffcc99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121280"/>
            <a:ext cx="1698480" cy="273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1000" y="189000"/>
            <a:ext cx="87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l pianeta cresce e si forma un gap in corrispondenza all’orbita del pianeta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grazione di tipo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7850160" cy="2873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24000" y="5661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cc"/>
                </a:solidFill>
                <a:latin typeface="Arial"/>
              </a:rPr>
              <a:t>Variazione di densita’ nel dis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2680" y="4365720"/>
            <a:ext cx="299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cc"/>
                </a:solidFill>
                <a:latin typeface="Symbol"/>
                <a:ea typeface="Symbol"/>
              </a:rPr>
              <a:t></a:t>
            </a:r>
            <a:r>
              <a:rPr b="1" lang="it-IT" sz="2000" spc="-1" strike="noStrike" baseline="-25000">
                <a:solidFill>
                  <a:srgbClr val="0066cc"/>
                </a:solidFill>
                <a:latin typeface="Arial"/>
              </a:rPr>
              <a:t>II</a:t>
            </a: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 = 3 x 10</a:t>
            </a:r>
            <a:r>
              <a:rPr b="1" lang="it-IT" sz="2000" spc="-1" strike="noStrike" baseline="30000">
                <a:solidFill>
                  <a:srgbClr val="0066cc"/>
                </a:solidFill>
                <a:latin typeface="Arial"/>
              </a:rPr>
              <a:t>5</a:t>
            </a: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 (</a:t>
            </a:r>
            <a:r>
              <a:rPr b="1" lang="it-IT" sz="2000" spc="-1" strike="noStrike">
                <a:solidFill>
                  <a:srgbClr val="0066cc"/>
                </a:solidFill>
                <a:latin typeface="Symbol"/>
                <a:ea typeface="Symbol"/>
              </a:rPr>
              <a:t></a:t>
            </a: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 / 10</a:t>
            </a:r>
            <a:r>
              <a:rPr b="1" lang="it-IT" sz="2000" spc="-1" strike="noStrike" baseline="30000">
                <a:solidFill>
                  <a:srgbClr val="0066cc"/>
                </a:solidFill>
                <a:latin typeface="Arial"/>
              </a:rPr>
              <a:t>-4</a:t>
            </a: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) </a:t>
            </a:r>
            <a:r>
              <a:rPr b="1" lang="it-IT" sz="2000" spc="-1" strike="noStrike" baseline="30000">
                <a:solidFill>
                  <a:srgbClr val="0066cc"/>
                </a:solidFill>
                <a:latin typeface="Arial"/>
              </a:rPr>
              <a:t>-1</a:t>
            </a:r>
            <a:r>
              <a:rPr b="1" lang="it-IT" sz="2000" spc="-1" strike="noStrike">
                <a:solidFill>
                  <a:srgbClr val="0066cc"/>
                </a:solidFill>
                <a:latin typeface="Arial"/>
              </a:rPr>
              <a:t> y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252360" y="-458640"/>
            <a:ext cx="10296360" cy="73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12000" y="2781360"/>
            <a:ext cx="2933640" cy="3781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5329080" cy="2571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32000" y="260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ianeti in risonanze di moto med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05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J876, HD82943, 55Cn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70028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0066"/>
                </a:solidFill>
                <a:latin typeface="Arial"/>
              </a:rPr>
              <a:t>Durante la migrazione (per interazione con il disco protoplanetario o con un disco di planetesimi) i pianeti rimangono intrappolati in una risonanza di moto med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4:47:03Z</dcterms:created>
  <dc:creator>Francesco Marzari</dc:creator>
  <dc:description/>
  <dc:language>en-US</dc:language>
  <cp:lastModifiedBy>Francesco Marzari</cp:lastModifiedBy>
  <dcterms:modified xsi:type="dcterms:W3CDTF">2007-06-12T10:00:37Z</dcterms:modified>
  <cp:revision>46</cp:revision>
  <dc:subject/>
  <dc:title>Slide 1</dc:title>
</cp:coreProperties>
</file>