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08062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F44-63C5-4AD1-9236-A0AF6DA7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2358720"/>
            <a:ext cx="6802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640" y="5833080"/>
            <a:ext cx="6802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AF0-555F-447E-BE24-2D6DC2B2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235872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3160" y="235872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7640" y="583308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3160" y="583308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8DA-344E-4B3D-8FEF-D03972EC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7640" y="2358720"/>
            <a:ext cx="219024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7680" y="2358720"/>
            <a:ext cx="219024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8080" y="2358720"/>
            <a:ext cx="219024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640" y="5833080"/>
            <a:ext cx="219024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7680" y="5833080"/>
            <a:ext cx="219024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8080" y="5833080"/>
            <a:ext cx="219024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041-9BB5-4962-BB03-3AF827F1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7640" y="2358720"/>
            <a:ext cx="680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711-BF21-4916-A428-955FA951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2358720"/>
            <a:ext cx="680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46E-E7C9-45BD-ABF7-6858D314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7640" y="2358720"/>
            <a:ext cx="3319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3160" y="2358720"/>
            <a:ext cx="3319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62E-4F78-4B62-AECB-09AA6904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BF9-81E4-44F5-8E70-F6E4E8A3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401760"/>
            <a:ext cx="6802200" cy="77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E6E-A122-4C98-865C-0D3C5BA6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7640" y="235872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3160" y="2358720"/>
            <a:ext cx="3319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7640" y="583308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404-FDAC-4BC0-909C-021BE823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7640" y="2358720"/>
            <a:ext cx="3319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3160" y="235872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3160" y="583308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D60-A840-48EE-98B3-4584065A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7640" y="235872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3160" y="2358720"/>
            <a:ext cx="3319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640" y="5833080"/>
            <a:ext cx="6802200" cy="31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0A0-7246-4452-BB03-8F028CD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7640" y="401760"/>
            <a:ext cx="680220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2358720"/>
            <a:ext cx="6802200" cy="66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9181800"/>
            <a:ext cx="17604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5520" y="9181800"/>
            <a:ext cx="23958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800" y="9181800"/>
            <a:ext cx="17604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21120-F546-4131-BF7D-81E042262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68580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70866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dc2300"/>
                </a:solidFill>
                <a:latin typeface="Baekmuk Batang"/>
              </a:rPr>
              <a:t>Fisica del mezzo circumterrestre e circumplan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371600"/>
            <a:ext cx="6858000" cy="3657600"/>
          </a:xfrm>
          <a:prstGeom prst="flowChartProcess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685800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arte I: Aspetti fisici dell'ambiente circumplane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o magnetico terrestre, origine dovuta alla rotazione planetaria, fasce di Van Allen e moto delle particelle cariche nel campo magnetico dei pianeti, il toro di plasma di Giove, magneto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o solare, campo magnetico solare e interplane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ze non gravitazionali: effetto Poyinting-Robertson (trattazione classica e relativistica) su particelle di polvere, effetto Yarkosky su meteoroidi e asteroidi, gas drag su planetesimi e rilevanza per la formazione planet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Luna, formazione del bulge mareale, interazione mareale tra satellite e pianeta, sincronizzazione spin-orbita, allungamento del giorno terrest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715000"/>
            <a:ext cx="6858000" cy="36576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5241960"/>
            <a:ext cx="6858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Arial"/>
              </a:rPr>
              <a:t>Parte II: Aspetti matematici della dinamica plane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onanze in moto medio, approccio Hamiltoniano e modello del pendolo, ampiezza di risonanza, sovrapposizione di risonanze e caos. Effetto caotico degli incontri gravitazionali ravvici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oria secolare del moto di pianeti e asteroidi. Risonanze secolari e ca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odi di integrazione numerica delle equazioni del moto di pianeti e corpi minori. Metodo Runge-Kutta e integratori simpletti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0000"/>
              <a:buBlip>
                <a:blip r:embed="rId8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sica delle collisioni e sua importanza nei modelli di formazione plane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