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B3124B-4F80-4967-BECF-CBF8792BB5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558-9E29-49EB-9123-7CC17633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DEA-6848-4399-AF5B-FA783F11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983-16A2-4872-9B87-8B12682A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753-92E6-4360-A1F7-3F3169B1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04A-1099-40BF-A52D-00FD5B7F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B75-3729-4325-BE9F-D2956984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F4F-661C-4176-BC0F-3008FD49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4AE-CB5F-4416-9C41-E40999A1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717-1FB1-493D-973F-AD54137D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6A5-EBCA-4F88-BD22-2542941E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2CD-6278-4788-B216-79790B69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478-C094-41FD-ACF4-7F455F49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0AC68-6CF9-4A94-988F-8084048808E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astro.estec.esa.nl/Hipparco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628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roprietà delle stel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F73-1158-44A1-9B52-06E2528117C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dice di colo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w some p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5016600"/>
            <a:ext cx="3809880" cy="1841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1600200"/>
            <a:ext cx="2819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li di spettri stellari per  T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40,000, 30,000, 20,000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L’indice di color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B-V =f(T</a:t>
            </a:r>
            <a:r>
              <a:rPr b="1" i="1" lang="en-GB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4508640"/>
            <a:ext cx="56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3000       3500          4000        4500         5000         5500         6000        6500     7000 Angstr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907920"/>
            <a:ext cx="5905440" cy="3694320"/>
            <a:chOff x="0" y="907920"/>
            <a:chExt cx="5905440" cy="369432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rcRect l="0" t="8232" r="0" b="10807"/>
            <a:stretch/>
          </p:blipFill>
          <p:spPr>
            <a:xfrm>
              <a:off x="0" y="907920"/>
              <a:ext cx="590544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143000" y="349884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1080" y="349884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06760" y="3270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66ff33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34120" y="5159520"/>
            <a:ext cx="3809880" cy="16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861-290F-4915-A33C-7AE0B508C5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89320" cy="5205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24280" y="762120"/>
            <a:ext cx="3429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ibrazione per calcolare l’indice 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B-V =f(T</a:t>
            </a:r>
            <a:r>
              <a:rPr b="1" i="1" lang="en-GB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* L’indice di colore osservato deve essere corretto per l’estinzione interstella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(B-V)</a:t>
            </a:r>
            <a:r>
              <a:rPr b="1" i="1" lang="en-GB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7C9-4B9F-4975-8824-1E5631413E4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gnitudine assoluta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gnitudine apparente della stella se fosse ad una distanza di 10 p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M = m + 5 log(d/10)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-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ve 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d è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n pc e m è la magnitudine appa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 magnitudini sono misurate in un intervallo di lunghezza d’onda, ex. UBV. Per la teoria è meglio l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gnitudine bolometric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efinita come  la magnitudine assoluta misurata su tutto lo spettro. La </a:t>
            </a: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correzione bolometric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è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BC = M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Arial"/>
              </a:rPr>
              <a:t>bol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– M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Arial"/>
              </a:rPr>
              <a:t>v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 differenza in magnitudine si misura come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i="1" lang="en-GB" sz="2800" spc="-1" strike="noStrike" baseline="-25000">
                <a:solidFill>
                  <a:srgbClr val="ff0000"/>
                </a:solidFill>
                <a:latin typeface="Arial"/>
              </a:rPr>
              <a:t>bol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– M</a:t>
            </a:r>
            <a:r>
              <a:rPr b="0" i="1" lang="en-GB" sz="2800" spc="-1" strike="noStrike" baseline="-25000">
                <a:solidFill>
                  <a:srgbClr val="ff0000"/>
                </a:solidFill>
                <a:latin typeface="Arial"/>
              </a:rPr>
              <a:t>bol</a:t>
            </a:r>
            <a:r>
              <a:rPr b="0" i="1" lang="en-GB" sz="2800" spc="-1" strike="noStrike" baseline="30000">
                <a:solidFill>
                  <a:srgbClr val="ff0000"/>
                </a:solidFill>
                <a:latin typeface="Wingdings"/>
                <a:ea typeface="Wingdings"/>
              </a:rPr>
              <a:t>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 = -2.5 log L/L</a:t>
            </a:r>
            <a:r>
              <a:rPr b="0" i="1" lang="en-GB" sz="2800" spc="-1" strike="noStrike" baseline="-25000">
                <a:solidFill>
                  <a:srgbClr val="ff0000"/>
                </a:solidFill>
                <a:latin typeface="Wingdings"/>
                <a:ea typeface="Wingdings"/>
              </a:rPr>
              <a:t>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39640" y="-14436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agnitudine assoluta e magnitudine bolometr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327-9457-4BD8-9F49-8CEC9EE1796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-1800"/>
            <a:ext cx="8820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er stelle di sequenza principale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321080" cy="4335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3797280" cy="2933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90792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rrezione bolometrica esempio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067280" y="1557360"/>
            <a:ext cx="7746840" cy="1906560"/>
            <a:chOff x="4067280" y="1557360"/>
            <a:chExt cx="7746840" cy="1906560"/>
          </a:xfrm>
        </p:grpSpPr>
        <p:sp>
          <p:nvSpPr>
            <p:cNvPr id="141" name=""/>
            <p:cNvSpPr/>
            <p:nvPr/>
          </p:nvSpPr>
          <p:spPr>
            <a:xfrm>
              <a:off x="11630160" y="2944800"/>
              <a:ext cx="18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369520" y="2944800"/>
              <a:ext cx="2606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109240" y="2944800"/>
              <a:ext cx="260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7280" y="2944800"/>
              <a:ext cx="7041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630160" y="2487600"/>
              <a:ext cx="182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369520" y="2487600"/>
              <a:ext cx="260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109240" y="2487600"/>
              <a:ext cx="260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7280" y="2487600"/>
              <a:ext cx="704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630160" y="1557360"/>
              <a:ext cx="18252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369520" y="1557360"/>
              <a:ext cx="260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09240" y="1557360"/>
              <a:ext cx="26028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67280" y="1557360"/>
              <a:ext cx="704196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31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7280" y="1557360"/>
              <a:ext cx="77454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67280" y="3462480"/>
              <a:ext cx="77454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67280" y="1557360"/>
              <a:ext cx="1440" cy="19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812680" y="1557360"/>
              <a:ext cx="1440" cy="19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2743200" cy="505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476360" y="1844640"/>
            <a:ext cx="1905120" cy="324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55640" y="2205000"/>
            <a:ext cx="3371760" cy="352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71720" y="3198960"/>
            <a:ext cx="16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2195640" y="2637000"/>
            <a:ext cx="1209600" cy="26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215-8993-431F-9912-5214490D22D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Il diagramma HR da Hippar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3886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477 stelle singole con misura di distanza precise entro il 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863880" cy="4983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213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92428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IPPARC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h-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ision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a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lecting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ellite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ine limite: V= 12.4. Completezza, magnitudine V = 7.3-9. Prossima missione  sarà GA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126-7BA6-4BAD-A801-8AC14A59477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zione massa luminosità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19112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r le poche stelle di sequenza principale dicui si conosce la massa esiste una relazione massa-luminosit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1" i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i="1" lang="en-GB" sz="24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ve  n=3-5. La pendenza cambia agli estremi, meno pendente per stelle di grande o piccola mas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ora nel diagramma HS al crescere di L cresce anche la massa (in sequenza principa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03640" cy="3718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495680" y="548640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sogna interpretare teoricamente le relazioni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M-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L-T</a:t>
            </a:r>
            <a:r>
              <a:rPr b="1" i="1" lang="en-GB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65D-4C11-43E1-9609-E0A3166B816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191120" cy="3562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426744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D5F-4B48-4541-8F8A-D2A9A82F813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tà e Metallicità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60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tri due parametri importanti delle stelle (e che possono essere stimati) son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l’et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 l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metallicit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 Et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ossono essere stimate dalla Te, L e M sulla base dei modelli di evoluzione stella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omposizi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iene misurata com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ff66ff"/>
                </a:solidFill>
                <a:latin typeface="Arial"/>
              </a:rPr>
              <a:t>X,Y,Z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azione di massa di  H, He e degli altri elem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0.747 ;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0.236 ;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0.0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66ff"/>
                </a:solidFill>
                <a:latin typeface="Arial"/>
              </a:rPr>
              <a:t>Z</a:t>
            </a: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presenta l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etallicit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Si misura come rapporto tra la quantità di Fe e di H (misurate dalle righe di assorbimento) nella stella rispetto alla stessa quantitò nel sole e si indica c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ff00"/>
                </a:solidFill>
                <a:latin typeface="Symbol"/>
                <a:ea typeface="Symbol"/>
              </a:rPr>
              <a:t>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Fe/H</a:t>
            </a:r>
            <a:r>
              <a:rPr b="1" i="1" lang="en-GB" sz="2400" spc="-1" strike="noStrike">
                <a:solidFill>
                  <a:srgbClr val="00ff00"/>
                </a:solidFill>
                <a:latin typeface="Symbol"/>
                <a:ea typeface="Symbol"/>
              </a:rPr>
              <a:t>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 solito si rappresenta in scala logaritmica quindi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 esempio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[Fe/H] = -1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ca che la stella ha una quantità di metalli pari a 1/10 quella del sole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925-5AFE-4FBE-99D4-1616720FC47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Gli ammassi stellar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000" y="5805000"/>
            <a:ext cx="34290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C3293 - Open clus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3412800" cy="426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392640" cy="4241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40360" y="580536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7 Tuc – Globula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0EB-F7EF-4101-A0C9-8964C287581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11280" y="0"/>
            <a:ext cx="7632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elle alla stessa distanz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gate dinamic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essa e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essa composizione chi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vaporano con il t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500280"/>
            <a:ext cx="40672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massi aperti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le Pleiadi…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a 10 fino a 1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4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elle di popolazione I ricche di metall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vaporano con il temp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3500280"/>
            <a:ext cx="52196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massi globulari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Omega Centauri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– 1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st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ecchi, formati da stelle di Popolazione II povere di metal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irca 200 nella nostra galassia, su orbite ellitti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57720"/>
            <a:ext cx="9144000" cy="2879640"/>
          </a:xfrm>
          <a:prstGeom prst="rect">
            <a:avLst/>
          </a:prstGeom>
          <a:solidFill>
            <a:srgbClr val="33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3357720"/>
            <a:ext cx="1440" cy="2879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217-5203-4699-A018-2DFD51100F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Il sole e’ una stel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11640" y="1557360"/>
            <a:ext cx="3581280" cy="331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49719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interno delle stelle non è osservabile: misure fisiche indirette. Neutrini solari emessi dal core. Eliosismologia: vibrazioni della superificie solare che possono essere usate per studiare la struttura.  I MODELLI di struttura stellare devono essere testati su queste osservazion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3456000" cy="33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7B5-53EC-4327-8AAA-9522F33428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880" y="3962520"/>
            <a:ext cx="47246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n un ammasso l’età t e Z devono essere gli stessi. Le uniche differenze nel diagramma HD sono dovute alla massa inizi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L’età determina le differenze nei diagrammi HR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2890800" cy="3352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638680" y="609480"/>
            <a:ext cx="3262320" cy="5410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15000" y="22860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mmassi aper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empio di diagramma HR per ammasso globul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25C-A6EE-4A54-9015-8FBAB127D6F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Sono 4 I parametri fondamentali delle stelle che possono essere osservati e confrontati con I modelli: 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M, R, L, T</a:t>
            </a:r>
            <a:r>
              <a:rPr b="1" i="1" lang="en-GB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ff66ff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 e </a:t>
            </a:r>
            <a:r>
              <a:rPr b="1" i="1" lang="en-GB" sz="2400" spc="-1" strike="noStrike">
                <a:solidFill>
                  <a:srgbClr val="ff66ff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 possono essere misurati direttamente per un numero ridotto di stel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’età, la composizione chimica e M determinano la posizione della stella nel diagramma H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Gli ammassi sono ottimi laboratori perchè le stelle hanno tutte la stessa distanza, età, e 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408-4644-4947-BDC8-6012AD2B60D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228600"/>
            <a:ext cx="84582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ltri indicatori di distanza: le variabili Ceph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00200"/>
            <a:ext cx="64008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feidi classi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 Virgi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R Lyr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3200400"/>
            <a:ext cx="77724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elle pulsanti: raggio, temperatura efficace e tipo spettrale cambiano con un periodo costante che va da 0.2 a circa 100 giorni. Esiste una RELAZIONE PERIODO-LUMINOSITA'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 = A + B log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e permette di calcolarne la distanza una volta tarata la formula su quelle vici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228-8463-4F5D-A7B2-41800884B7CB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04000" cy="48164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ss (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Luminosità (</a:t>
            </a:r>
            <a:r>
              <a:rPr b="1" i="1" lang="en-GB" sz="2400" spc="-1" strike="noStrike">
                <a:solidFill>
                  <a:srgbClr val="ff66ff"/>
                </a:solidFill>
                <a:latin typeface="Arial"/>
              </a:rPr>
              <a:t>L</a:t>
            </a: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ergia totale irradiata per secondo i.e. potenza (in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aggio (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peratura effettiva  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mperatura di un corpo nero con lo stesso raggio della stella che irraggerebbe lo stesso ammontare di energi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L= 4</a:t>
            </a:r>
            <a:r>
              <a:rPr b="1" i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i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GB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en-GB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i="1" lang="en-GB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è   la costante di Stefan-Boltzmann  (5.67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1425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ARAMETRI FONDAMENTALI DI UNA STELLA: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305000" y="2928960"/>
                <a:ext cx="1401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37A-6BC9-4D55-A3C0-36559A4EE4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FLUSSO DI ENERGIA E DISTANZA STELL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l flusso di energia dipende dalla distanza della stell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F = L /4</a:t>
            </a:r>
            <a:r>
              <a:rPr b="1" i="1" lang="en-GB" sz="2000" spc="-1" strike="noStrike">
                <a:solidFill>
                  <a:srgbClr val="00ff00"/>
                </a:solidFill>
                <a:latin typeface="Symbol"/>
                <a:ea typeface="Symbol"/>
              </a:rPr>
              <a:t></a:t>
            </a: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 d è noto, allora si può calcolare L (F è misura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 calcolare la distanza si usa la 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rallax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- il moto stellare apparente dovuto al moto della Terra attorno al So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68280" y="4992840"/>
            <a:ext cx="7293240" cy="1866240"/>
            <a:chOff x="368280" y="4992840"/>
            <a:chExt cx="7293240" cy="1866240"/>
          </a:xfrm>
        </p:grpSpPr>
        <p:sp>
          <p:nvSpPr>
            <p:cNvPr id="60" name=""/>
            <p:cNvSpPr/>
            <p:nvPr/>
          </p:nvSpPr>
          <p:spPr>
            <a:xfrm>
              <a:off x="1066680" y="5105520"/>
              <a:ext cx="457200" cy="10666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95280" y="5105520"/>
              <a:ext cx="1800" cy="10666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5638680"/>
              <a:ext cx="2210040" cy="18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95280" y="5105520"/>
              <a:ext cx="2210040" cy="533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295280" y="5637240"/>
              <a:ext cx="2210040" cy="536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8280" y="514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a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63760" y="533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9560" y="639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5280" y="6400800"/>
              <a:ext cx="22100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24440" y="4992840"/>
              <a:ext cx="3637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Per piccoli angoli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1 au/</a:t>
              </a:r>
              <a:r>
                <a:rPr b="0" i="1" lang="en-GB" sz="2400" spc="-1" strike="noStrike">
                  <a:solidFill>
                    <a:srgbClr val="ffffff"/>
                  </a:solidFill>
                  <a:latin typeface="Arial"/>
                </a:rPr>
                <a:t>d  (tg(p) = 1 au/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= 1/</a:t>
              </a:r>
              <a:r>
                <a:rPr b="0" i="1" lang="en-GB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parse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n p misurato in arcsec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0D7-7C97-47C6-B0C0-522A765DE9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69228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elescopi da Terra hanno risoluzione di circa ~ 0.1” e quindi misurano distanze fino a 10 pc (1 pc -&gt; 1”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HST ha una risoluzione di 0.05” (~ 20 p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pparcos ha misurato  10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bright stars con risolu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~0.00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aia dovrebbe arrivare a 0.0001” (10000 p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915-8CCD-4F18-9974-04271BFC79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E’ possibile misurare I raggi stellari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836640"/>
            <a:ext cx="88200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ametro angolare del sole a 10 pc è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10pc  = 5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9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dians =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c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nfrontato con la risoluzione di Hubble: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~0.05 arcs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62120" y="2178000"/>
            <a:ext cx="8381880" cy="4681080"/>
            <a:chOff x="762120" y="2178000"/>
            <a:chExt cx="8381880" cy="4681080"/>
          </a:xfrm>
        </p:grpSpPr>
        <p:sp>
          <p:nvSpPr>
            <p:cNvPr id="74" name=""/>
            <p:cNvSpPr/>
            <p:nvPr/>
          </p:nvSpPr>
          <p:spPr>
            <a:xfrm>
              <a:off x="762120" y="6216480"/>
              <a:ext cx="670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 raggi di  ~600 stelle sono stati misurati con tecniche come interferometria o fanno parte di binarie a eclisse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2895480" y="2178000"/>
              <a:ext cx="6248520" cy="39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0F1-A9A7-466D-99D1-3DA2543FD981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Il diagramma Hertzsprung-Russe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700080" y="1523880"/>
            <a:ext cx="5215320" cy="4619880"/>
            <a:chOff x="3700080" y="1523880"/>
            <a:chExt cx="5215320" cy="46198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343400" cy="40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752640" y="5638680"/>
              <a:ext cx="503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Colour Index (B-V)   –0.6                          0            +0.6                    +2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00080" y="5867280"/>
              <a:ext cx="495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pectral type             O          B                 A      F       G       K             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04920" y="1905120"/>
            <a:ext cx="41907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, </a:t>
            </a: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, </a:t>
            </a: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L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 e </a:t>
            </a: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en-GB" sz="2000" spc="-1" strike="noStrike" baseline="-25000">
                <a:solidFill>
                  <a:srgbClr val="00ff00"/>
                </a:solidFill>
                <a:latin typeface="Arial"/>
              </a:rPr>
              <a:t>e 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non variano indipendentemente ma sono correlate</a:t>
            </a:r>
            <a:r>
              <a:rPr b="1" lang="en-GB" sz="2000" spc="-1" strike="noStrike" baseline="-25000">
                <a:solidFill>
                  <a:srgbClr val="00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ue relazioni fondamentali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L – T  diagramma di 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Hertzsprung-Russell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 (HR) o 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diagramma colore-magnitud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91E-6A1E-4C94-9B77-C46EC85A89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8604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Come costruire diagrammi colore-magnitudin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) Misurare le 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~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telle è difficile: sono necessari spettri e modelli di atmosfe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) Le magnitudini sono misurate a differenti lunghezze d’onda: il sistema fotometrico standard è il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UBV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90720" y="4572000"/>
            <a:ext cx="6707160" cy="1554120"/>
            <a:chOff x="990720" y="4572000"/>
            <a:chExt cx="6707160" cy="1554120"/>
          </a:xfrm>
        </p:grpSpPr>
        <p:sp>
          <p:nvSpPr>
            <p:cNvPr id="86" name=""/>
            <p:cNvSpPr/>
            <p:nvPr/>
          </p:nvSpPr>
          <p:spPr>
            <a:xfrm>
              <a:off x="6578640" y="5607000"/>
              <a:ext cx="111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14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60840" y="5607000"/>
              <a:ext cx="1117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13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3400" y="5607000"/>
              <a:ext cx="111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8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25960" y="5607000"/>
              <a:ext cx="111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9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08160" y="5607000"/>
              <a:ext cx="1117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6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90720" y="5607000"/>
              <a:ext cx="111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800" spc="-1" strike="noStrike">
                  <a:solidFill>
                    <a:srgbClr val="ffffff"/>
                  </a:solidFill>
                  <a:latin typeface="Arial"/>
                </a:rPr>
                <a:t>W/n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78640" y="5089680"/>
              <a:ext cx="1117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80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60840" y="5089680"/>
              <a:ext cx="1117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65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43400" y="5089680"/>
              <a:ext cx="1117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55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25960" y="5089680"/>
              <a:ext cx="1117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44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08160" y="5089680"/>
              <a:ext cx="1117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36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5089680"/>
              <a:ext cx="1117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/n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78640" y="4572000"/>
              <a:ext cx="111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60840" y="4572000"/>
              <a:ext cx="1117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43400" y="4572000"/>
              <a:ext cx="111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25960" y="4572000"/>
              <a:ext cx="111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08160" y="4572000"/>
              <a:ext cx="1117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0720" y="4572000"/>
              <a:ext cx="111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Ban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4572000"/>
              <a:ext cx="1117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5089680"/>
              <a:ext cx="6705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5607000"/>
              <a:ext cx="6705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6124680"/>
              <a:ext cx="67053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90720" y="4572000"/>
              <a:ext cx="144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8160" y="4572000"/>
              <a:ext cx="1800" cy="155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25960" y="4572000"/>
              <a:ext cx="1440" cy="155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572000"/>
              <a:ext cx="1440" cy="155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60840" y="4572000"/>
              <a:ext cx="1800" cy="155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78640" y="4572000"/>
              <a:ext cx="1440" cy="155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4572000"/>
              <a:ext cx="180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96080" y="5089680"/>
              <a:ext cx="1800" cy="10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08160" y="4572000"/>
              <a:ext cx="55879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5089680"/>
              <a:ext cx="1440" cy="10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B8B-45B0-4A8D-883E-D70D24DFFE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183520" cy="4663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333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ratteristiche dei filtri UBV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78E-1EF9-43CB-8039-D01BA088950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phen Smartt</dc:creator>
  <dc:description/>
  <dc:language>en-US</dc:language>
  <cp:lastModifiedBy>marzari</cp:lastModifiedBy>
  <cp:revision>0</cp:revision>
  <dc:subject/>
  <dc:title>MSci Astrophysics 210PHY412 </dc:title>
</cp:coreProperties>
</file>