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D06-F0A3-497B-AAEC-D24B7D56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F1F-8085-466E-AA72-18282A5B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FCE-1757-4BAB-8A91-2D6F739A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D75-8F4D-403C-A425-91C28A29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3BE-E223-45C7-B6CC-6053624A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DEB-9224-4BD5-B99B-97FFDC4C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B9B-3DBF-4F48-BDE9-1213CCED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BB0-687B-41B7-A4B0-42D77BA7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6A3-695F-4B69-AEBF-D46D84D6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4CA-58E6-4193-A3E2-F52F99E8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6C5-2C79-4499-BF51-9E6B77A7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23F-DE55-488E-BD9A-42DF302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0026-35D2-47AB-B5B9-CE9C6FD79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696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 stelle sono tenute assieme dalla gravit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l collasso è impedito dalla pressione termica interna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l bilanciamento tra queste due forze determina la struttura delle ste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 stella irradia energia nello spazio. Se le proprietà termiche sono costanti deve esserci una sorgente di energ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a teoria per la struttura delle stelle deve descrive l’origine dell’energia e le leggi del trasporto dell’energia alla superific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422100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cciamo le seguenti due approssimazioni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iamo che le proprietà delle stelle siano costanti nel temp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iamo che le stelle siano sferiche e simmetriche rispetto al cent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760" y="105264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 cosa determina la struttura fisica delle stel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602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quazioni di struttura stellare 1 e 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B2A-57F5-4A70-A7EA-A2795FCAE5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i sono 4 equazioni di struttura stell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biamo considerato le prime due, i.e. quella del supporto idrostatico e quella di conservazione della mass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biamo derivato il temposcala dinamic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biamo dimostrato che è valida per la maggioranza delle stelle l’ipotesi di simmetria sferic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3BF-C333-4152-97B5-F8FE2AFB3B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 stell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isolate, statiche e a simmetria sferic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i sono 4 equazioni di base  che descrivono la loro struttura (dipendenza solo radiale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Equazione di equilibrio idrostatico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er qulasiasi valore di r le forze di pressione bilanciano quelle di gravità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Conservazione della ma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Conservazione dell’energ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er qualsiasi r la variazione nel flusso di energia è legato ad un cambiamento della produzione locale di energ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Equazione del trasporto radiativ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lazione tra il flusso di energia e il gradiente locale di temperatur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653000"/>
            <a:ext cx="914400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 queste equazioni bisogna aggiunge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Una equazione di st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’opacit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l rate di produzione di energia nel 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38E6-053C-4E5F-99C2-50C41E0242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92600" y="1557360"/>
            <a:ext cx="3551400" cy="35416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55760" y="1895400"/>
            <a:ext cx="3956040" cy="4024080"/>
            <a:chOff x="455760" y="1895400"/>
            <a:chExt cx="3956040" cy="4024080"/>
          </a:xfrm>
        </p:grpSpPr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293000" y="346680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53" name=""/>
            <p:cNvGraphicFramePr/>
            <p:nvPr/>
          </p:nvGraphicFramePr>
          <p:xfrm>
            <a:off x="455760" y="1895400"/>
            <a:ext cx="2135160" cy="328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5760" y="1895400"/>
                      <a:ext cx="213516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901800" y="3186000"/>
                  <a:ext cx="15732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4293000" y="346680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57" name=""/>
            <p:cNvGraphicFramePr/>
            <p:nvPr/>
          </p:nvGraphicFramePr>
          <p:xfrm>
            <a:off x="2386440" y="2931840"/>
            <a:ext cx="858600" cy="360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86440" y="2931840"/>
                      <a:ext cx="8586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686160" y="4487760"/>
            <a:ext cx="3725640" cy="1431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86160" y="4487760"/>
                      <a:ext cx="3725640" cy="14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" name=""/>
          <p:cNvSpPr/>
          <p:nvPr/>
        </p:nvSpPr>
        <p:spPr>
          <a:xfrm>
            <a:off x="0" y="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Equilibrio idrosta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2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l bilanciamento tra la forza di attrazione gravitazionale e la spinta idrostatica porta all’equilibrio idrosta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-684360" y="148428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assa dell’elemento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1844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(r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densità in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0500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ilanciamento delle forze nella direzione radial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565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Forza verso l’esterno dovuto alla pressione idrost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500280"/>
            <a:ext cx="532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2) Forza verso l’interno combinazione della pressione idrostatica a </a:t>
            </a:r>
            <a:r>
              <a:rPr b="0" i="1" lang="it-IT" sz="1600" spc="-1" strike="noStrike">
                <a:solidFill>
                  <a:srgbClr val="ffff00"/>
                </a:solidFill>
                <a:latin typeface="Arial"/>
              </a:rPr>
              <a:t>r + </a:t>
            </a:r>
            <a:r>
              <a:rPr b="0" i="1" lang="it-IT" sz="16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i="1" lang="it-IT" sz="1600" spc="-1" strike="noStrike">
                <a:solidFill>
                  <a:srgbClr val="ffff00"/>
                </a:solidFill>
                <a:latin typeface="Arial"/>
              </a:rPr>
              <a:t> r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  e forza di grav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FD3-C59C-41F4-97BE-C9E7EF5590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3716280"/>
            <a:ext cx="3456000" cy="1081080"/>
          </a:xfrm>
          <a:prstGeom prst="rect">
            <a:avLst/>
          </a:prstGeom>
          <a:solidFill>
            <a:srgbClr val="c0c0c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80880"/>
            <a:ext cx="3504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ll’equilibrio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133720"/>
            <a:ext cx="4724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nsiderando un elemento infinitesimo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5909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66560" y="684360"/>
            <a:ext cx="4564080" cy="2503440"/>
            <a:chOff x="466560" y="684360"/>
            <a:chExt cx="4564080" cy="2503440"/>
          </a:xfrm>
        </p:grpSpPr>
        <p:graphicFrame>
          <p:nvGraphicFramePr>
            <p:cNvPr id="73" name=""/>
            <p:cNvGraphicFramePr/>
            <p:nvPr/>
          </p:nvGraphicFramePr>
          <p:xfrm>
            <a:off x="466560" y="684360"/>
            <a:ext cx="4564080" cy="143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6560" y="684360"/>
                      <a:ext cx="456408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523800" y="2513160"/>
            <a:ext cx="2687760" cy="674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3800" y="2513160"/>
                      <a:ext cx="268776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" name=""/>
          <p:cNvSpPr/>
          <p:nvPr/>
        </p:nvSpPr>
        <p:spPr>
          <a:xfrm>
            <a:off x="468360" y="3284640"/>
            <a:ext cx="4724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 quindi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1280" y="3789360"/>
          <a:ext cx="332424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789360"/>
                    <a:ext cx="33242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419720" y="378936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quazione dell’equilibrio idrosta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580000" y="549360"/>
            <a:ext cx="2982960" cy="224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5FD-5C1E-4CC7-BF3D-A97513B016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447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quazione della conservazione della mass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 massa 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M(r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ontenuta entro un raggio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della stella è determinata dalla densità del gas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 r)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821040" cy="381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4360" y="4508640"/>
            <a:ext cx="4038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 limite per 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57360" y="2514600"/>
          <a:ext cx="4095720" cy="18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360" y="2514600"/>
                    <a:ext cx="409572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11280" y="155736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iamo un guscio sottile della stella di raggio interno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 esterno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r+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r.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l volume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è uguale 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8D6-78F1-4E62-BD26-A515F0A7B1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343400" y="2895480"/>
            <a:ext cx="41148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le forze non si bilanciano allora ci sarà una accelerazione risultant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ll’elemento </a:t>
            </a:r>
            <a:r>
              <a:rPr b="1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Accuratezza dell’equilibrio idrostatic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997360"/>
            <a:ext cx="734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 indichiamo c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g=GM(r)/r</a:t>
            </a:r>
            <a:r>
              <a:rPr b="0" i="1" lang="en-GB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GB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’accelerazione di gravità, allor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3000" y="1584360"/>
            <a:ext cx="5986440" cy="2598840"/>
            <a:chOff x="243000" y="1584360"/>
            <a:chExt cx="5986440" cy="2598840"/>
          </a:xfrm>
        </p:grpSpPr>
        <p:graphicFrame>
          <p:nvGraphicFramePr>
            <p:cNvPr id="95" name=""/>
            <p:cNvGraphicFramePr/>
            <p:nvPr/>
          </p:nvGraphicFramePr>
          <p:xfrm>
            <a:off x="243000" y="1584360"/>
            <a:ext cx="5986440" cy="143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000" y="1584360"/>
                      <a:ext cx="5986440" cy="143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506520" y="3489480"/>
            <a:ext cx="289260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520" y="3489480"/>
                      <a:ext cx="289260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9" name=""/>
          <p:cNvSpPr/>
          <p:nvPr/>
        </p:nvSpPr>
        <p:spPr>
          <a:xfrm>
            <a:off x="468360" y="4437000"/>
            <a:ext cx="662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Questa è l’equazione generalizzata dell’equilibrio idrostatic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694-311A-40FA-AA2A-ACD4B1680B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04640"/>
            <a:ext cx="737244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niamo ci sia una forza risultante sull’elemento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 che sia pari a una frazione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della forza gravitazional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773360"/>
            <a:ext cx="75837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 consegeunza c’e’ una accelerazione pari a:  a =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 e lo spostamento spazialein funzione del tempo risulta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1268280"/>
          <a:ext cx="1879560" cy="3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18795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184400" y="1943280"/>
          <a:ext cx="22536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4400" y="1943280"/>
                    <a:ext cx="2253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95280" y="2492280"/>
          <a:ext cx="218268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2492280"/>
                    <a:ext cx="21826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04920" y="3809880"/>
            <a:ext cx="7543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95280" y="4005360"/>
                <a:ext cx="1859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1" name=""/>
          <p:cNvGraphicFramePr/>
          <p:nvPr/>
        </p:nvGraphicFramePr>
        <p:xfrm>
          <a:off x="5649840" y="3967200"/>
          <a:ext cx="1629000" cy="113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9840" y="3967200"/>
                    <a:ext cx="162900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50920" y="3357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puo’ ottenere un valore approssimato del tempo richiesto ad una stella per collassar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4365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he per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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 diven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544500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è il Temposcala Dinam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7EA-359C-479B-994F-1A0768210E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343400" y="274320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838080"/>
            <a:ext cx="4800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stelle ruotano e quindi risultano appiattite ai poli come I pianeti. Vogliamo ora stimare l’ammonstare di questo appiattimento (flattening). Consideriamo un elemento di massa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 prossimità della superficie di una stella di massa M e raggio r.  La forza centripeta è data da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Quanto accurata è l’ipotesi di simmetria sferica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81480" y="762120"/>
            <a:ext cx="3706920" cy="3336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35280" y="3645000"/>
            <a:ext cx="8458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49600" y="2946240"/>
          <a:ext cx="94932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9600" y="2946240"/>
                    <a:ext cx="9493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06280" y="4043520"/>
          <a:ext cx="5577120" cy="103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80" y="4043520"/>
                    <a:ext cx="55771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24000" y="530064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llora l’ipotesi di simmetria sferica è buon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F3C-21E2-4D30-A0F6-A2B1A55CE4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9696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87640" y="5490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2819520"/>
            <a:ext cx="4114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91440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06440" y="1003320"/>
          <a:ext cx="358776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003320"/>
                    <a:ext cx="358776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72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ve  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=2</a:t>
            </a:r>
            <a:r>
              <a:rPr b="0" i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/P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con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  P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eriodo di rotazione della stella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llora l’ipotesi di simmetria sferica è valida se P &gt;&gt; t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r il sol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i="1" lang="en-GB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~2000s 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P~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ese.  In conclusi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Per la maggior parte delle stelle si può ignorare l’asfericità.</a:t>
            </a:r>
            <a:r>
              <a:rPr b="0" lang="en-GB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900000" y="476280"/>
            <a:ext cx="687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può legare la precedente relazione a t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55A-DE67-4D4E-A483-45EEB374D6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9:46:16Z</dcterms:created>
  <dc:creator>Stephen Smartt</dc:creator>
  <dc:description/>
  <dc:language>en-US</dc:language>
  <cp:lastModifiedBy>marzari</cp:lastModifiedBy>
  <dcterms:modified xsi:type="dcterms:W3CDTF">2005-11-09T09:55:59Z</dcterms:modified>
  <cp:revision>189</cp:revision>
  <dc:subject/>
  <dc:title>MSci Astrophysics 210PHY412 </dc:title>
</cp:coreProperties>
</file>