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9C28-1506-4332-8FAE-4D1AF461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152F-2569-4221-A4BB-F8C366F8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1DF-887F-4F49-9F0B-B41BE454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6ED6-A227-42A0-8DA3-9DA5B461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51C-722D-434E-ACA3-E31839E7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CB13-21D3-475A-A35F-B884AACD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A56-43F3-47CF-8AAE-5CE64183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F48-87B9-4168-B2FF-082B41D6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109-55DB-499A-BE0B-D7635880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668B-71D2-44AE-9C0D-9D07B77C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1724-5D2F-462E-B828-D2F7D4D5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7D08-5F47-4FE5-B177-1F091E00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5229-50C5-43D6-97BB-F169C59ED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48428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Teorema del Viriale e stato fisico del gas stell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6BE2-12C5-4D6D-963A-D9709813E0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Stato fisico del materiale stella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90792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densità media del sole può essere facilmente stimata co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33520" y="1295280"/>
                <a:ext cx="3070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Sup>
                          <m:e>
                            <m:r>
                              <m:t xml:space="preserve">p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kgm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468360" y="1989000"/>
            <a:ext cx="8229600" cy="2438280"/>
            <a:chOff x="468360" y="1989000"/>
            <a:chExt cx="8229600" cy="2438280"/>
          </a:xfrm>
        </p:grpSpPr>
        <p:sp>
          <p:nvSpPr>
            <p:cNvPr id="152" name=""/>
            <p:cNvSpPr/>
            <p:nvPr/>
          </p:nvSpPr>
          <p:spPr>
            <a:xfrm>
              <a:off x="468360" y="1989000"/>
              <a:ext cx="82296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’energia cinetica dei gas in una stella è molto maggiore del potenziale di ionizzazione e quindi le particelle sono ionizzata: plasma. Può sopportare grandi pressioni pur comportandosi ancora come un gas perfetto. Un gas può considerarsi perfetto se la distanza media tra le particelle è molto maggiore delle loro dimensioni. La dimensione nucleare e’ 10</a:t>
              </a:r>
              <a:r>
                <a:rPr b="0" lang="en-GB" sz="18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m confrontata con quella atomica di 10</a:t>
              </a:r>
              <a:r>
                <a:rPr b="0" lang="en-GB" sz="1800" spc="-1" strike="noStrike" baseline="30000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m. Quindi il plasma si comporta come gas perfetto a temperature più elevate.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7558200" y="2141280"/>
              <a:ext cx="1066680" cy="685800"/>
              <a:chOff x="7558200" y="2141280"/>
              <a:chExt cx="1066680" cy="685800"/>
            </a:xfrm>
          </p:grpSpPr>
          <p:sp>
            <p:nvSpPr>
              <p:cNvPr id="154" name=""/>
              <p:cNvSpPr/>
              <p:nvPr/>
            </p:nvSpPr>
            <p:spPr>
              <a:xfrm>
                <a:off x="7558200" y="2293560"/>
                <a:ext cx="106668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ffffff"/>
                    </a:solidFill>
                    <a:latin typeface="Wingdings"/>
                    <a:ea typeface="Wingdings"/>
                  </a:rPr>
                  <a:t></a:t>
                </a:r>
                <a:r>
                  <a:rPr b="0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594560" y="2141280"/>
                <a:ext cx="304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278600" y="2446200"/>
              <a:ext cx="1066680" cy="685800"/>
              <a:chOff x="4278600" y="2446200"/>
              <a:chExt cx="1066680" cy="685800"/>
            </a:xfrm>
          </p:grpSpPr>
          <p:sp>
            <p:nvSpPr>
              <p:cNvPr id="157" name=""/>
              <p:cNvSpPr/>
              <p:nvPr/>
            </p:nvSpPr>
            <p:spPr>
              <a:xfrm>
                <a:off x="4278600" y="2598480"/>
                <a:ext cx="106668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ffffff"/>
                    </a:solidFill>
                    <a:latin typeface="Wingdings"/>
                    <a:ea typeface="Wingdings"/>
                  </a:rPr>
                  <a:t></a:t>
                </a:r>
                <a:r>
                  <a:rPr b="0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14960" y="2446200"/>
                <a:ext cx="304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468360" y="4149720"/>
            <a:ext cx="7848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iamo ora la pressione di radiazione che può essere scritta co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11280" y="4724280"/>
          <a:ext cx="1197000" cy="6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24280"/>
                    <a:ext cx="119700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952880" y="56386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067280" y="4724280"/>
          <a:ext cx="3240000" cy="6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724280"/>
                    <a:ext cx="324000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411280" y="486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573408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ove a è la costante di radi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67F-C914-413F-BDEA-4B1F022963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6858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frontiamo la pressione del gas con la pressione di radiazione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440" y="1125360"/>
            <a:ext cx="8656560" cy="2211480"/>
            <a:chOff x="487440" y="1125360"/>
            <a:chExt cx="8656560" cy="221148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733320" y="1125360"/>
                  <a:ext cx="282564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T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/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kT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T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kρ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71" name=""/>
            <p:cNvGraphicFramePr/>
            <p:nvPr/>
          </p:nvGraphicFramePr>
          <p:xfrm>
            <a:off x="487440" y="1755720"/>
            <a:ext cx="8656560" cy="1581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440" y="1755720"/>
                      <a:ext cx="8656560" cy="15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3" name=""/>
          <p:cNvSpPr/>
          <p:nvPr/>
        </p:nvSpPr>
        <p:spPr>
          <a:xfrm>
            <a:off x="457200" y="34290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indi la pressione di radiazione appare trascurabile nel sole. Alla fine, senza sapere l’origine dell’energia generata all0interno di una stella siamo stati in grado di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derivare un valore medio della temperatura interna del Sol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ff9900"/>
                </a:solidFill>
                <a:latin typeface="Arial"/>
              </a:rPr>
              <a:t>calcolare che è composto da plasma ideal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e che la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pressione di radiazione è trascurabile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74E-203A-4386-B8BC-76CA8E65AE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Dipendenza di P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 dalla massa stellare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05740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90792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pressione di radiazione può tuttavia diventare importante per stelle di grande massa. Infatti se noi sostituiamo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con M/V otteniam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73200" y="1905120"/>
            <a:ext cx="4190760" cy="2782800"/>
            <a:chOff x="673200" y="1905120"/>
            <a:chExt cx="4190760" cy="2782800"/>
          </a:xfrm>
        </p:grpSpPr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685800" y="1905120"/>
                  <a:ext cx="3681360" cy="13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T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k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pr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num>
                        <m:den>
                          <m:r>
                            <m:t xml:space="preserve">9</m:t>
                          </m:r>
                          <m:r>
                            <m:t xml:space="preserve">k</m:t>
                          </m:r>
                        </m:den>
                      </m:f>
                      <m:f>
                        <m:num>
                          <m:sSubSup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3</m:t>
                              </m:r>
                            </m:sup>
                          </m:sSubSup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80" name=""/>
            <p:cNvGraphicFramePr/>
            <p:nvPr/>
          </p:nvGraphicFramePr>
          <p:xfrm>
            <a:off x="673200" y="2855880"/>
            <a:ext cx="4190760" cy="183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2855880"/>
                      <a:ext cx="419076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2" name="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ra la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può diventare significativa ad alte temperatu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129F-3883-4FCA-921E-F9E1A3A931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-24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essione al centro di una stella: valore minim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7650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’ possibile ricavare il valore minimo della pressione al centro senza informazioni sulla composizione o stato fisic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0960" y="1749600"/>
            <a:ext cx="7831080" cy="3603600"/>
            <a:chOff x="480960" y="1749600"/>
            <a:chExt cx="7831080" cy="3603600"/>
          </a:xfrm>
        </p:grpSpPr>
        <p:sp>
          <p:nvSpPr>
            <p:cNvPr id="46" name=""/>
            <p:cNvSpPr/>
            <p:nvPr/>
          </p:nvSpPr>
          <p:spPr>
            <a:xfrm>
              <a:off x="4197240" y="1849680"/>
              <a:ext cx="41148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7" name=""/>
            <p:cNvGraphicFramePr/>
            <p:nvPr/>
          </p:nvGraphicFramePr>
          <p:xfrm>
            <a:off x="480960" y="1825920"/>
            <a:ext cx="2666880" cy="74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0960" y="1825920"/>
                      <a:ext cx="2666880" cy="74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" name=""/>
            <p:cNvGraphicFramePr/>
            <p:nvPr/>
          </p:nvGraphicFramePr>
          <p:xfrm>
            <a:off x="4365360" y="1749600"/>
            <a:ext cx="2311560" cy="75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65360" y="1749600"/>
                      <a:ext cx="231156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3622680" y="2633760"/>
                  <a:ext cx="35956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P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den>
                      </m:f>
                      <m:r>
                        <m:t xml:space="preserve">/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M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den>
                      </m:f>
                      <m:r>
                        <m:t xml:space="preserve">º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P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M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-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num>
                        <m:den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pr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3587760" y="3602160"/>
                  <a:ext cx="261936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GM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  <m:sSup>
                                <m:e>
                                  <m:r>
                                    <m:t xml:space="preserve">pr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  <m:r>
                        <m:rPr>
                          <m:lit/>
                          <m:nor/>
                        </m:rPr>
                        <m:t xml:space="preserve">dM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53" name=""/>
            <p:cNvGraphicFramePr/>
            <p:nvPr/>
          </p:nvGraphicFramePr>
          <p:xfrm>
            <a:off x="2949480" y="4492800"/>
            <a:ext cx="4214880" cy="86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49480" y="4492800"/>
                      <a:ext cx="4214880" cy="86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5" name=""/>
          <p:cNvGrpSpPr/>
          <p:nvPr/>
        </p:nvGrpSpPr>
        <p:grpSpPr>
          <a:xfrm>
            <a:off x="250920" y="2781360"/>
            <a:ext cx="3276000" cy="2286000"/>
            <a:chOff x="250920" y="2781360"/>
            <a:chExt cx="3276000" cy="2286000"/>
          </a:xfrm>
        </p:grpSpPr>
        <p:sp>
          <p:nvSpPr>
            <p:cNvPr id="56" name=""/>
            <p:cNvSpPr/>
            <p:nvPr/>
          </p:nvSpPr>
          <p:spPr>
            <a:xfrm>
              <a:off x="326880" y="2781360"/>
              <a:ext cx="3200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i dividono tra loro le eq.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0920" y="3619440"/>
              <a:ext cx="3200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i integra (Ms massa stella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6880" y="4610160"/>
              <a:ext cx="3200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Un limite superiore è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68360" y="5589720"/>
            <a:ext cx="359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Il raggio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i="1" lang="it-IT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e quin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987640" y="5516640"/>
          <a:ext cx="1513080" cy="71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87640" y="5516640"/>
                    <a:ext cx="15130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4643280" y="558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7395-A938-416E-A294-C463815021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9144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indi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0606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endo che la pressione sulla superficie della stella sia 0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09560" y="1293840"/>
            <a:ext cx="1738440" cy="2209680"/>
            <a:chOff x="709560" y="1293840"/>
            <a:chExt cx="1738440" cy="2209680"/>
          </a:xfrm>
        </p:grpSpPr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709560" y="1293840"/>
                  <a:ext cx="173844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&gt;</m:t>
                      </m:r>
                      <m:f>
                        <m:num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8</m:t>
                          </m:r>
                          <m:sSubSup>
                            <m:e>
                              <m:r>
                                <m:t xml:space="preserve">p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4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68" name=""/>
            <p:cNvGraphicFramePr/>
            <p:nvPr/>
          </p:nvGraphicFramePr>
          <p:xfrm>
            <a:off x="903240" y="2643120"/>
            <a:ext cx="1262160" cy="86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03240" y="2643120"/>
                      <a:ext cx="1262160" cy="86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0" name=""/>
          <p:cNvSpPr/>
          <p:nvPr/>
        </p:nvSpPr>
        <p:spPr>
          <a:xfrm>
            <a:off x="457200" y="38862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 il so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=4.5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3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4.5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 vedrà che queste non sono condizioni normali per un ga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565360"/>
            <a:ext cx="2232000" cy="10810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F93-89CA-4ABD-A36E-E62E1AA937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Teorema del Viriale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9144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e prima si prendono le due equazioni e si dividono tra lor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1700280"/>
            <a:ext cx="373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 moltiplicano I due lati per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573360"/>
            <a:ext cx="3733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 integra su tutta la stell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68360" y="1604880"/>
            <a:ext cx="7199280" cy="4217760"/>
            <a:chOff x="468360" y="1604880"/>
            <a:chExt cx="7199280" cy="4217760"/>
          </a:xfrm>
        </p:grpSpPr>
        <p:graphicFrame>
          <p:nvGraphicFramePr>
            <p:cNvPr id="78" name=""/>
            <p:cNvGraphicFramePr/>
            <p:nvPr/>
          </p:nvGraphicFramePr>
          <p:xfrm>
            <a:off x="468360" y="1604880"/>
            <a:ext cx="3738240" cy="74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1604880"/>
                      <a:ext cx="3738240" cy="74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3349440" y="2442960"/>
            <a:ext cx="3606840" cy="790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49440" y="2442960"/>
                      <a:ext cx="360684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4073400" y="3433680"/>
            <a:ext cx="3073320" cy="790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3433680"/>
                      <a:ext cx="307332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" name=""/>
            <p:cNvSpPr/>
            <p:nvPr/>
          </p:nvSpPr>
          <p:spPr>
            <a:xfrm>
              <a:off x="3933720" y="4197240"/>
              <a:ext cx="373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ffffff"/>
                  </a:solidFill>
                  <a:latin typeface="Arial"/>
                </a:rPr>
                <a:t>V è il volume contenuto entro il raggio  r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7000" y="4578120"/>
              <a:ext cx="4572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i integra per parti l’espressione a destra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86" name=""/>
            <p:cNvGraphicFramePr/>
            <p:nvPr/>
          </p:nvGraphicFramePr>
          <p:xfrm>
            <a:off x="809640" y="5033880"/>
            <a:ext cx="4343400" cy="788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9640" y="5033880"/>
                      <a:ext cx="4343400" cy="78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8" name=""/>
          <p:cNvSpPr/>
          <p:nvPr/>
        </p:nvSpPr>
        <p:spPr>
          <a:xfrm>
            <a:off x="762120" y="594360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 centro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=0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e sulla superfici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263700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er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i="1" lang="en-GB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12000" y="4797360"/>
          <a:ext cx="3132000" cy="51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2000" y="4797360"/>
                    <a:ext cx="31320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084720" y="5445000"/>
            <a:ext cx="305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Con B(x) integrale del differenziale  (B(x) è P in questo caso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4653000"/>
            <a:ext cx="3492360" cy="1584360"/>
          </a:xfrm>
          <a:prstGeom prst="rect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7B36-9D05-4805-9A88-74292431DF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62064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in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62120" y="1219320"/>
                <a:ext cx="35049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57200" y="21337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l termine a destra è l’Energia potenziale  gravitazionale  della stella (energia rilasciata nel formare la stella con gas dall’infinit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20040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 indichiamo tale energia con -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allora il teorema del Viriale diventa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076640"/>
            <a:ext cx="6781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89080" y="4308480"/>
          <a:ext cx="3306960" cy="10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9080" y="4308480"/>
                    <a:ext cx="33069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533520" y="571500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4E0-32D1-4A74-9633-8723611CF2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emperatura minima di una stella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91440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pressione, di cui abbiamo ricavato un valore minimo, è una variabile importante sia nell’equazione di equilibrio idrostatico che nel teorema del Virial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ali sono I processi fisici che danno origine alla pressione all’interno di una stella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95280" y="2708280"/>
            <a:ext cx="8153280" cy="3201840"/>
            <a:chOff x="395280" y="2708280"/>
            <a:chExt cx="8153280" cy="3201840"/>
          </a:xfrm>
        </p:grpSpPr>
        <p:sp>
          <p:nvSpPr>
            <p:cNvPr id="106" name=""/>
            <p:cNvSpPr/>
            <p:nvPr/>
          </p:nvSpPr>
          <p:spPr>
            <a:xfrm>
              <a:off x="4433760" y="2708280"/>
              <a:ext cx="41148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5280" y="2708280"/>
              <a:ext cx="81532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90440" indent="-190440">
                <a:lnSpc>
                  <a:spcPct val="100000"/>
                </a:lnSpc>
                <a:spcBef>
                  <a:spcPts val="451"/>
                </a:spcBef>
                <a:buClr>
                  <a:srgbClr val="66ff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66ff33"/>
                  </a:solidFill>
                  <a:latin typeface="Arial"/>
                </a:rPr>
                <a:t>Pressione del gas </a:t>
              </a:r>
              <a:r>
                <a:rPr b="1" i="1" lang="en-GB" sz="1800" spc="-1" strike="noStrike">
                  <a:solidFill>
                    <a:srgbClr val="66ff33"/>
                  </a:solidFill>
                  <a:latin typeface="Arial"/>
                </a:rPr>
                <a:t>P</a:t>
              </a:r>
              <a:r>
                <a:rPr b="1" i="1" lang="en-GB" sz="1800" spc="-1" strike="noStrike" baseline="-25000">
                  <a:solidFill>
                    <a:srgbClr val="66ff33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ressione di radiazione </a:t>
              </a:r>
              <a:r>
                <a:rPr b="1" i="1" lang="en-GB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1" i="1" lang="en-GB" sz="1800" spc="-1" strike="noStrike" baseline="-25000">
                  <a:solidFill>
                    <a:srgbClr val="ffff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471240" y="2784240"/>
              <a:ext cx="8013960" cy="3125880"/>
              <a:chOff x="471240" y="2784240"/>
              <a:chExt cx="8013960" cy="3125880"/>
            </a:xfrm>
          </p:grpSpPr>
          <p:sp>
            <p:nvSpPr>
              <p:cNvPr id="109" name=""/>
              <p:cNvSpPr/>
              <p:nvPr/>
            </p:nvSpPr>
            <p:spPr>
              <a:xfrm>
                <a:off x="471240" y="2784240"/>
                <a:ext cx="7467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84200" y="4613040"/>
                <a:ext cx="80010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90440" indent="-19044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" name=""/>
                  <p:cNvSpPr txBox="1"/>
                  <p:nvPr/>
                </p:nvSpPr>
                <p:spPr>
                  <a:xfrm>
                    <a:off x="1322280" y="5170320"/>
                    <a:ext cx="2260440" cy="739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M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12" name=""/>
          <p:cNvSpPr/>
          <p:nvPr/>
        </p:nvSpPr>
        <p:spPr>
          <a:xfrm>
            <a:off x="395280" y="3933720"/>
            <a:ext cx="8137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 dimostra che all’interno di una stella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è trascurabil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P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è dominata da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 farlo bisgna prima stimare la </a:t>
            </a:r>
            <a:r>
              <a:rPr b="0" lang="en-GB" sz="1800" spc="-1" strike="noStrike">
                <a:solidFill>
                  <a:srgbClr val="ff9900"/>
                </a:solidFill>
                <a:latin typeface="Arial"/>
              </a:rPr>
              <a:t>minima temperatura medi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di una stel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4653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 parte d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5300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nergia potenziale gravitazion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CEA7-53B1-4822-B2F8-0A5E016EFA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91440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 limite superiore a tale energia è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860640"/>
            <a:ext cx="8604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pressione totale è data dalla somma di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P = P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+P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iamo che la stella sia composta da un gas ideale e c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sia trascuarb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87280" y="1557360"/>
            <a:ext cx="5156280" cy="2313000"/>
            <a:chOff x="1187280" y="1557360"/>
            <a:chExt cx="5156280" cy="2313000"/>
          </a:xfrm>
        </p:grpSpPr>
        <p:graphicFrame>
          <p:nvGraphicFramePr>
            <p:cNvPr id="119" name=""/>
            <p:cNvGraphicFramePr/>
            <p:nvPr/>
          </p:nvGraphicFramePr>
          <p:xfrm>
            <a:off x="1187280" y="1557360"/>
            <a:ext cx="5156280" cy="91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87280" y="1557360"/>
                      <a:ext cx="5156280" cy="91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1542960" y="3083040"/>
                  <a:ext cx="363204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</m:e>
                      </m:nary>
                      <m:r>
                        <m:rPr>
                          <m:lit/>
                          <m:nor/>
                        </m:rPr>
                        <m:t xml:space="preserve">dV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>
                              <m:r>
                                <m:t xml:space="preserve">P</m:t>
                              </m:r>
                            </m:num>
                            <m:den>
                              <m:r>
                                <m:t xml:space="preserve">ρ</m:t>
                              </m:r>
                            </m:den>
                          </m:f>
                        </m:e>
                      </m:nary>
                      <m:r>
                        <m:rPr>
                          <m:lit/>
                          <m:nor/>
                        </m:rPr>
                        <m:t xml:space="preserve">d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2" name=""/>
          <p:cNvSpPr/>
          <p:nvPr/>
        </p:nvSpPr>
        <p:spPr>
          <a:xfrm>
            <a:off x="609480" y="26668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dM=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dV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 il teorema del Viriale divent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98600" y="4624560"/>
          <a:ext cx="4618080" cy="197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600" y="4624560"/>
                    <a:ext cx="4618080" cy="19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800600" y="4800600"/>
            <a:ext cx="401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quazione di stato di un gas ide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D34-6BA6-4597-863C-F236D08468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38088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in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600200"/>
            <a:ext cx="7507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tilizzando la diseguaglianza scritta in precedenza,  ottenia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962520"/>
            <a:ext cx="7467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’integrale a sinistra può essere pensato come la somma di tutte le Temperature di tutti gli elementi di massa dM all’interno della stella. We Allora la temperatura media della stella risulta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82760" y="787320"/>
            <a:ext cx="4089240" cy="5867640"/>
            <a:chOff x="482760" y="787320"/>
            <a:chExt cx="4089240" cy="5867640"/>
          </a:xfrm>
        </p:grpSpPr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482760" y="787320"/>
                  <a:ext cx="393696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>
                              <m:r>
                                <m:t xml:space="preserve">P</m:t>
                              </m:r>
                            </m:num>
                            <m:den>
                              <m:r>
                                <m:t xml:space="preserve">ρ</m:t>
                              </m:r>
                            </m:den>
                          </m:f>
                        </m:e>
                      </m:nary>
                      <m:r>
                        <m:rPr>
                          <m:lit/>
                          <m:nor/>
                        </m:rPr>
                        <m:t xml:space="preserve">dM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</m:num>
                            <m:den>
                              <m:r>
                                <m:t xml:space="preserve">m</m:t>
                              </m:r>
                            </m:den>
                          </m:f>
                        </m:e>
                      </m:nary>
                      <m:r>
                        <m:rPr>
                          <m:lit/>
                          <m:nor/>
                        </m:rPr>
                        <m:t xml:space="preserve">d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558720" y="2106720"/>
                  <a:ext cx="3225960" cy="178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Ω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T</m:t>
                                  </m:r>
                                </m:num>
                                <m:den>
                                  <m:r>
                                    <m:t xml:space="preserve">m</m:t>
                                  </m:r>
                                </m:den>
                              </m:f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dM</m:t>
                          </m:r>
                          <m:r>
                            <m:t xml:space="preserve">&gt;</m:t>
                          </m:r>
                          <m:f>
                            <m:num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M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⇒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dM</m:t>
                          </m:r>
                          <m:r>
                            <m:t xml:space="preserve">&gt;</m:t>
                          </m:r>
                          <m:f>
                            <m:num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M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m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r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2" name=""/>
            <p:cNvGrpSpPr/>
            <p:nvPr/>
          </p:nvGrpSpPr>
          <p:grpSpPr>
            <a:xfrm>
              <a:off x="4114800" y="4419720"/>
              <a:ext cx="457200" cy="533160"/>
              <a:chOff x="4114800" y="4419720"/>
              <a:chExt cx="457200" cy="533160"/>
            </a:xfrm>
          </p:grpSpPr>
          <p:sp>
            <p:nvSpPr>
              <p:cNvPr id="133" name=""/>
              <p:cNvSpPr/>
              <p:nvPr/>
            </p:nvSpPr>
            <p:spPr>
              <a:xfrm>
                <a:off x="4114800" y="4572000"/>
                <a:ext cx="457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114800" y="4419720"/>
                <a:ext cx="304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35" name=""/>
            <p:cNvGraphicFramePr/>
            <p:nvPr/>
          </p:nvGraphicFramePr>
          <p:xfrm>
            <a:off x="749160" y="5079960"/>
            <a:ext cx="2463840" cy="1575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49160" y="5079960"/>
                      <a:ext cx="2463840" cy="157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7" name=""/>
          <p:cNvSpPr/>
          <p:nvPr/>
        </p:nvSpPr>
        <p:spPr>
          <a:xfrm>
            <a:off x="468360" y="5634000"/>
            <a:ext cx="1944720" cy="122400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9F7-EFBE-47E0-916D-82D77C1192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90792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 esempio per il sole si ha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68360" y="1557360"/>
          <a:ext cx="604512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60451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468360" y="2781360"/>
            <a:ext cx="7467480" cy="1600200"/>
            <a:chOff x="468360" y="2781360"/>
            <a:chExt cx="7467480" cy="1600200"/>
          </a:xfrm>
        </p:grpSpPr>
        <p:sp>
          <p:nvSpPr>
            <p:cNvPr id="144" name=""/>
            <p:cNvSpPr/>
            <p:nvPr/>
          </p:nvSpPr>
          <p:spPr>
            <a:xfrm>
              <a:off x="468360" y="2781360"/>
              <a:ext cx="74674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H e’ l’elemento più abbondante elemento nelle stelle e per idrogeno completamente ionizzato </a:t>
              </a: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m/m</a:t>
              </a:r>
              <a:r>
                <a:rPr b="0" i="1" lang="en-GB" sz="18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=1/2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(ci sono due particelle, p + e</a:t>
              </a:r>
              <a:r>
                <a:rPr b="0" lang="en-GB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–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,per ciascun atomo di H)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. Inoltre per ogni altro elemento, </a:t>
              </a: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m/m</a:t>
              </a:r>
              <a:r>
                <a:rPr b="0" i="1" lang="en-GB" sz="18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è minore e quin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25560" y="4000320"/>
              <a:ext cx="762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25560" y="384804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–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743200" y="4508640"/>
            <a:ext cx="185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2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CCE-9274-4194-834C-CC72AB9054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09:46:16Z</dcterms:created>
  <dc:creator>Stephen Smartt</dc:creator>
  <dc:description/>
  <dc:language>en-US</dc:language>
  <cp:lastModifiedBy>marzari</cp:lastModifiedBy>
  <cp:lastPrinted>2005-04-14T09:46:38Z</cp:lastPrinted>
  <dcterms:modified xsi:type="dcterms:W3CDTF">2005-11-18T08:14:06Z</dcterms:modified>
  <cp:revision>206</cp:revision>
  <dc:subject/>
  <dc:title>MSci Astrophysics 210PHY412 </dc:title>
</cp:coreProperties>
</file>