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2E8-70A4-4A82-8921-74A59F95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CAC-1F4C-404B-9496-FCFF737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8B3-6841-487B-8929-C19B120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02D-EE12-47EC-A1D4-F220D7B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421-7DD4-4E11-A7C5-794486BF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9CC-10BB-4B66-A824-B3ACFDE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26F-B803-46BF-AE12-E64AC46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8C5-288C-40F8-9D67-45B7EBE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D0B-FFE5-49D1-9805-732E833D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85B-DA51-4816-8765-6FD6296C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356-B996-4326-9513-5B085B9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6DF-A472-42A0-99AE-38BB62E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44B2-9710-4047-A05A-F9B63761E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170028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Convezion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167-07C7-4690-9374-47B3FA081B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stituendo queste espressioni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nella condizione per l’instabilità convettiva ottenuta in precedenza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828800"/>
            <a:ext cx="8147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cordando che la cella deve rimanere alla stessa pressione del materiale circostante il limte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→0 dà la seguen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1125360"/>
            <a:ext cx="5346720" cy="2965320"/>
            <a:chOff x="539640" y="1125360"/>
            <a:chExt cx="5346720" cy="2965320"/>
          </a:xfrm>
        </p:grpSpPr>
        <p:graphicFrame>
          <p:nvGraphicFramePr>
            <p:cNvPr id="104" name=""/>
            <p:cNvGraphicFramePr/>
            <p:nvPr/>
          </p:nvGraphicFramePr>
          <p:xfrm>
            <a:off x="539640" y="1125360"/>
            <a:ext cx="534672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1125360"/>
                      <a:ext cx="534672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3030480" y="2692080"/>
            <a:ext cx="204840" cy="32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30480" y="2692080"/>
                      <a:ext cx="2048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1973160" y="3335040"/>
            <a:ext cx="2120760" cy="75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73160" y="3335040"/>
                      <a:ext cx="21207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"/>
          <p:cNvSpPr/>
          <p:nvPr/>
        </p:nvSpPr>
        <p:spPr>
          <a:xfrm>
            <a:off x="457200" y="41911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spressione a sinistra rappresenta la variazione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lla cella ed è anche la variazione che avrebbe il materiale circostante se ci fosse una relazione di tipo adiabatico tra densità e pressione al variare di r.  A destra c’è la reale variazione della densità con il raggio del materiale stellare.  Possiamo ora dividere entrambi I membri per dP/dr (che è negativa e quindi il segno di diseguaglianza cambia) e otten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2565360"/>
          <a:ext cx="2520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2565360"/>
                    <a:ext cx="2520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6EF-29D3-455D-AB19-38107AED9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9718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un gas ideale con trascurabile pressione di radiazione (interno stellare) con m massa media delle particelle, vale l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ziando quest’ultima equazione si ottie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4360" y="369720"/>
            <a:ext cx="6581520" cy="5764320"/>
            <a:chOff x="684360" y="369720"/>
            <a:chExt cx="6581520" cy="5764320"/>
          </a:xfrm>
        </p:grpSpPr>
        <p:graphicFrame>
          <p:nvGraphicFramePr>
            <p:cNvPr id="117" name=""/>
            <p:cNvGraphicFramePr/>
            <p:nvPr/>
          </p:nvGraphicFramePr>
          <p:xfrm>
            <a:off x="2188800" y="369720"/>
            <a:ext cx="2033280" cy="242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88800" y="369720"/>
                      <a:ext cx="2033280" cy="24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84360" y="3670200"/>
            <a:ext cx="6581520" cy="110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3670200"/>
                      <a:ext cx="6581520" cy="11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2531880" y="5422680"/>
            <a:ext cx="1667880" cy="7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31880" y="5422680"/>
                      <a:ext cx="1667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3" name=""/>
          <p:cNvSpPr/>
          <p:nvPr/>
        </p:nvSpPr>
        <p:spPr>
          <a:xfrm>
            <a:off x="380880" y="6248520"/>
            <a:ext cx="721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ndo questa e l’equazione per l’instabilità convettiva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307-9123-4716-9F82-5313B0431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0" y="189000"/>
          <a:ext cx="15303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9000"/>
                    <a:ext cx="1530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1268280"/>
            <a:ext cx="83534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a è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la condizione all’interno della stella perchè si verifichi instabilità convettiva in termini del gradiente di temperatu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In altre parole, un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gas è convettivamente instabile se il gradiente di temperatura è maggiore del gradiente adiabatico.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viene soddisfatta questa condizione, ci sono moti su larga scala per il trasporto di energia.  Ci sono 2 vie per soddisfare questo crite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vicino 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gradiente di temperatura è elev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, se il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ilascio di energia al centro della stella è grande, allora ci vuole un gradiente elevato di T per trasportarlo verso l’estern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ppure, negli strati esterni della stella il gas può essere solo parzialmente ionizzato. Allora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na consistente quantità di calore che viene utilizzato per aumentare la temperatura viene assorbito dal processo di ionizzazione. Il calore specifico a V costante è quasi uguale al calore specifico a P constante e quindi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~1. In questo caso, una stella può avere uno strato convettivo esterno freddo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0"/>
            <a:ext cx="2519280" cy="1224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A7-B5FD-4A21-9CF5-CAC7C47EDA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6094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Generazione di energia nelle stell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1440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 quanta energia ha bisogno il sole perchè conservi il suo flusso attuale?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1640" y="2421000"/>
          <a:ext cx="8712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421000"/>
                    <a:ext cx="8712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F35-A49A-4A63-B7C8-7B9347576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quazione per la produzione di energi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14400"/>
            <a:ext cx="4343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a terza equazione di struttura stell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una stell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immetria sferica con trasporto di energia radiale e non dipendente dal tempo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L(r)=flusso di energia attraverso una sfera di raggio 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L(r+</a:t>
            </a: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r)=flusso di energia attraverso una sfera di raggio r +</a:t>
            </a: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l guscio è sottile, all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90204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36400" y="5027760"/>
          <a:ext cx="367524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5027760"/>
                    <a:ext cx="36752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6B3-F95B-4BDA-9CE4-D6A04FEA4B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a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 = produzione di energia per unità di massa e per unità di volum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Wkg</a:t>
            </a:r>
            <a:r>
              <a:rPr b="1" lang="en-GB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llora l’energia prodotta nel guscio è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002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servazione dell’energia porta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4200" y="1282680"/>
            <a:ext cx="3633840" cy="3468600"/>
            <a:chOff x="484200" y="1282680"/>
            <a:chExt cx="3633840" cy="3468600"/>
          </a:xfrm>
        </p:grpSpPr>
        <p:graphicFrame>
          <p:nvGraphicFramePr>
            <p:cNvPr id="57" name=""/>
            <p:cNvGraphicFramePr/>
            <p:nvPr/>
          </p:nvGraphicFramePr>
          <p:xfrm>
            <a:off x="484200" y="2023920"/>
            <a:ext cx="3633840" cy="272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2023920"/>
                      <a:ext cx="3633840" cy="27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662040" y="1282680"/>
                  <a:ext cx="1554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p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ρ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dr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533520" y="487692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a è l’equazione della produzione di energia. Ci sono 5 incognite: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P(r), M(r), L(r), </a:t>
            </a:r>
            <a:r>
              <a:rPr b="1" i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 vuole l’equazione del trasporto di energia!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6EC-7CA9-4761-A653-4590619734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asporto di energ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9144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838080"/>
            <a:ext cx="853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istono 3 modi per trasportare energi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nvezion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– movimenti di massa del 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nduzi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– scambio di energia per collis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adiazion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– trasporto di energia per emissione e assorbimento di foton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le domina nelle stel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ergia di una singola particella che può essere trasportata ~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3kT/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è confrontabile con l’energia tipica di un fotone ~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hc/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uttavia le densità di particelle nel plasma è molto maggiore e questo sembrerebbe favorire la conduz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508640"/>
            <a:ext cx="746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UTTA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an free path (cammino libero medio)  di un fotone ~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an free path di una particella ~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I fotoni si muovono attraverso gradienti di temperatura molto facilmente e trasportano più facilmente energia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domina il trasporto radia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7C2-76D8-49A5-8591-93004DD00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144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e tipica delle granule: 10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Convezione nel s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467160" cy="359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887640" cy="25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DC6-4DAE-431D-AC22-A1C088484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vezion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914400"/>
            <a:ext cx="388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vezione avviene soltanto quando il gradiente di temperatura supera un certo limit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nsideriamo un elemento convettivo ad una distanza r dal centro della stella in equilibrio con il gas circonsta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di sollevarl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 Si espande ad un nuovo valor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P- </a:t>
            </a:r>
            <a:r>
              <a:rPr b="1" i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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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97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60948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1814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i valori potrebbero non coincidere con quelli del gas circostante: 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P- </a:t>
            </a:r>
            <a:r>
              <a:rPr b="1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l’elemento di gas è più dens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profonda (convettivamente stab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è meno denso continua a salire–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nvettivamente instab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435-4FD0-4A8F-8D14-E18F49A2D4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dizione per l’instabilità è quin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34136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condizioni per il verificarsi dell’instabilità dipendono 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nto si espande l’elemento per la diminuzione di 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nto cala la densità del gas con l’altez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6370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cciamo due assunzioni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lemento sale adiabaticamente (senza scambio di calore) cioè  vale l’equ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lemento sale con una velocità minore della velocità del suono. Durante il moto le onde sonore possono ridurre le differenze di pressione tra l’elemento e l’ambiente (no onde di shock).  Quindi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=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a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gni istante di t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9417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7800" y="860400"/>
                <a:ext cx="17607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ρ</m:t>
                    </m:r>
                    <m:r>
                      <m:t xml:space="preserve">&lt;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Dρ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"/>
          <p:cNvGraphicFramePr/>
          <p:nvPr/>
        </p:nvGraphicFramePr>
        <p:xfrm>
          <a:off x="2268360" y="3284640"/>
          <a:ext cx="174024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84640"/>
                    <a:ext cx="174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7200" y="57913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328464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c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2AC-DB82-44E8-88F1-1DEAF39F7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808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o che  V è inversamente proporzionale a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(M=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) , abbia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eguagliando I due valori di P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 e 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i ottie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99736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è piccolo si può espandere (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il teorema del binom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calcoliamo come varia la densità del material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una variazione infinitesim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9200" y="609480"/>
            <a:ext cx="7242120" cy="5662800"/>
            <a:chOff x="349200" y="609480"/>
            <a:chExt cx="7242120" cy="5662800"/>
          </a:xfrm>
        </p:grpSpPr>
        <p:graphicFrame>
          <p:nvGraphicFramePr>
            <p:cNvPr id="94" name=""/>
            <p:cNvGraphicFramePr/>
            <p:nvPr/>
          </p:nvGraphicFramePr>
          <p:xfrm>
            <a:off x="468360" y="609480"/>
            <a:ext cx="162396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609480"/>
                      <a:ext cx="16239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6640" y="2079720"/>
                  <a:ext cx="228456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dP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ρ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ρ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g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p>
                            <m:e>
                              <m:r>
                                <m:t xml:space="preserve">ρ</m:t>
                              </m:r>
                            </m:e>
                            <m:sup>
                              <m:r>
                                <m:t xml:space="preserve">g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     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7" name=""/>
            <p:cNvGraphicFramePr/>
            <p:nvPr/>
          </p:nvGraphicFramePr>
          <p:xfrm>
            <a:off x="349200" y="3363840"/>
            <a:ext cx="7242120" cy="12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0" y="3363840"/>
                      <a:ext cx="72421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806400" y="5605560"/>
                  <a:ext cx="18050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r 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0FB-043C-4582-ABD9-0B6FC7AB9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15T11:21:09Z</cp:lastPrinted>
  <dcterms:modified xsi:type="dcterms:W3CDTF">2005-11-18T08:24:58Z</dcterms:modified>
  <cp:revision>196</cp:revision>
  <dc:subject/>
  <dc:title>MSci Astrophysics 210PHY412 </dc:title>
</cp:coreProperties>
</file>