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wmf" ContentType="image/x-wmf"/>
  <Override PartName="/ppt/media/image26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F8F-095E-439C-9124-BA4E436C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01C-4C27-4CBC-9C83-B47B6C6B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960-2295-4175-AC1B-2820753B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BE5-F720-4798-A818-468F2A90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1F4-0DF8-4320-ADC9-06CE0E86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A66-AB5A-4959-9F3F-32EBE8B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DA4-31A2-439F-B75D-77D2186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B61-D137-4194-98FE-22300DD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04F-2040-4669-AC2F-E9C8828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6D2-8E2C-4BB1-9DE3-F2FF021F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4C2-BD2B-4A8C-BF9F-FEA5FE1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6D3-6688-424A-B1BB-45424DC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280D-41AA-468B-90B0-FE450671D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verything2.com/index.pl?node=MeV" TargetMode="External"/><Relationship Id="rId3" Type="http://schemas.openxmlformats.org/officeDocument/2006/relationships/hyperlink" Target="http://www.everything2.com/index.pl?node=MeV" TargetMode="External"/><Relationship Id="rId4" Type="http://schemas.openxmlformats.org/officeDocument/2006/relationships/hyperlink" Target="http://www.everything2.com/index.pl?node=MeV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Reazioni Nucleari nelle stel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7E2-D1DC-4EA2-A708-36AFA529BF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duzione di energia e dei neutrin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69228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’energia rilasciata nella formazione di una particella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è data dalla differenza in mas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484280"/>
          <a:ext cx="761184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6118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22050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gni diramazione che completa questa trasformazione deve trasformare 2 p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in due n, anche 2 neutrini sono prodotti, che portano via energia.  Questi neutrini sono l’unica prova diretta che avengono reazioni nucleari all’interno del sole.  Il flusso medio di energia nei neutrini è  ~0.26MeV per la creazione di deuterio (PPI/II) e  ~7.2MeV per il decadimento Beta (PPIII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sperimenti per I neutrini solari: Super-Kamiokande (Giappone), GALLAX (Italia), SAGE (Russia), SNO (Canada). Non vengono misurati abbastanza neutrini solari (solo 1/3): perchè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erchè ci sono le oscillazioni dei neutrini (hanno massa) durante il tragitto dal Sole alla Terra. Quindi I neutrini dell’Elettrone possono diventare neutrini del Muone o del Tau. L’esperimento all’SNO ha mostrato che sommando I 3 tipi di neutrini si ottiene con buona approssimazione il flusso solare previsto dai modell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7BA-D971-4BB1-BA06-B5590553E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3059280" cy="765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777240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l ciclo C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95680"/>
            <a:ext cx="3962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+ p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+ 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962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92280"/>
            <a:ext cx="914544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All’inizio una stella contiene solo una frazione di elementi pesanti (2%) di cui i più abbondanti sono Carbonio, Ossigeno e Azoto (CNO). Questi nuclei possono indurre una catena di fusione dell’H agendo come catalizzatori. Il processo è noto come ciclo CNO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E37-A3C4-4093-9FF5-14E7448F63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Dipendenza dalla Temperatura delle varie diramazioni (PP e CNO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catene PP e il ciclo CNO hanno diverse dipendenze dalla temperatura. Il rate di produzione di energia nei due casi è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16000" y="2060640"/>
          <a:ext cx="6191280" cy="9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060640"/>
                    <a:ext cx="619128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0920" y="2997360"/>
          <a:ext cx="667692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997360"/>
                    <a:ext cx="66769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24000" y="400536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si equagliano le temperature in cui I due processi danno lo stesso ammontare di energia si ottiene l’espressione approssimat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16000" y="4581360"/>
          <a:ext cx="3940200" cy="126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581360"/>
                    <a:ext cx="3940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24000" y="5805360"/>
            <a:ext cx="8497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 di sotto di questa temperatura dominano le catene PP, sopra domina il ciclo CNO. Questo avviene per stelle co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ssa maggiore del sole, cioè 1.2-1.5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Wingdings"/>
                <a:ea typeface="Wingdings"/>
              </a:rPr>
              <a:t>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205000"/>
            <a:ext cx="226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PP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he indica il tipo di PP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472-6EDC-4D91-AB43-496193EB7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4087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776760"/>
            <a:ext cx="406728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927-08C8-4AD3-9718-0AC1C9A64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 reazione triplo-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: la fusione dell’H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987640" y="2997360"/>
                <a:ext cx="5904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D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DM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M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692280"/>
            <a:ext cx="856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più semplice reazione in un gas di He è la fusione di due nuclei di He. Non c’è una configurazione stabile co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=8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 esempio l’isotopo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del Berillio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 ha una vita media di soli 2.6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-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 un terzo nucleo di He può essere aggiunti al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 prima che decada formando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per mezzo della reazione  “triple-alpha”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5181480" cy="26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148360" y="4111560"/>
          <a:ext cx="3995640" cy="7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4111560"/>
                    <a:ext cx="39956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219640" y="508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Notevole dipendenza dalla Temperatura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5F8-39EF-4DD1-9DE0-B8BDCB14D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usione del Carbonio e dell’Ossigen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8534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fusione del Carbonio richiete temperature maggiori di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, mentre quelle di fusione dell’ossigeno maggiori di 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. Le interazioni tra C e O sono trascularbili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773360"/>
            <a:ext cx="396252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C +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C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Mg +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Mg + 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Na +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Ne +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 + 2</a:t>
            </a: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773360"/>
            <a:ext cx="39621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+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 +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 + 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P + 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28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i +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1" lang="en-US" sz="1800" spc="-1" strike="noStrike" baseline="30000">
                <a:solidFill>
                  <a:srgbClr val="ff7c80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Mg + 2</a:t>
            </a:r>
            <a:r>
              <a:rPr b="1" lang="en-US" sz="1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4197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branching ratios delle reazioni dipendono dalla Temperatu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~13MeV (~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.2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JKg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+ 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~16MeV (~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4.8 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JKg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este reazioni producono p, n,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he sono immediatamente catturati da nuceli pesanti portando alla formazione di isotop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9D6-2F4C-48F1-ADED-51AA76F6EB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usione del Silicio e equilibrio nucleare statistico (NSE)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843280" cy="185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881440" cy="357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22936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724280"/>
            <a:ext cx="82184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 +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 +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Questo produce Ne a T~1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K ma si inverte a temperature maggiori di 1.5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fusione del Si è accompaganta da un complicato intreccio di reazioni di fotodissiociazione e cattura. Alla fine ri raggiunge l’equilibrio statistico nucle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2119320" cy="198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76720" y="227664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4005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uttavia le reazioni sono complicate e avvengono reazioni di fotodissociazione. Ad esempi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84464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urata approx. 1 gio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45A-9F22-44FD-BF3D-F8CF61DE65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iassunto dei maggiori processi di fusi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413000"/>
          <a:ext cx="8640360" cy="4330080"/>
        </p:xfrm>
        <a:graphic>
          <a:graphicData uri="http://schemas.openxmlformats.org/drawingml/2006/table">
            <a:tbl>
              <a:tblPr/>
              <a:tblGrid>
                <a:gridCol w="1102320"/>
                <a:gridCol w="1100520"/>
                <a:gridCol w="1102320"/>
                <a:gridCol w="1994760"/>
                <a:gridCol w="3340440"/>
              </a:tblGrid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uclear Fu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66ff33"/>
                          </a:solidFill>
                          <a:latin typeface="Arial"/>
                        </a:rPr>
                        <a:t>thresho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rodu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Energy per nucleon (Me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~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.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,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+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O,Ne,Ma,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O+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Mg,S,P,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~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Nuc eq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Co,Fe,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&lt;0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1F2-278D-491D-AA3A-95109B01B5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08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ormazione degli elementi pesanti: I processi r ed s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052640"/>
            <a:ext cx="80769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 I nuclei e I neutroni liberi prodotti duranto la fusione del C,O e Si avvengono dei processi di cattura (cattura neutronica).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La cattura dei neutroni da parte dei nuclei pesan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non è limitiata dalla barriera Coulombiana e quindi procede anche a temperature basse.  L’unico possibile ostacolo è la mancanza di neutroni, altrimenti se ci sono abbastanza n sono possibili le seguenti reazion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(A,  Z)      + 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1, Z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1,  Z) + 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2, Z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2,  Z) + 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+3, Z)    …et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si forma un isotopo radioattivo,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ecaderà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eando nuovi elemen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24000" y="6308640"/>
            <a:ext cx="7924680" cy="1676520"/>
            <a:chOff x="324000" y="6308640"/>
            <a:chExt cx="7924680" cy="1676520"/>
          </a:xfrm>
        </p:grpSpPr>
        <p:sp>
          <p:nvSpPr>
            <p:cNvPr id="153" name=""/>
            <p:cNvSpPr/>
            <p:nvPr/>
          </p:nvSpPr>
          <p:spPr>
            <a:xfrm>
              <a:off x="324000" y="6308640"/>
              <a:ext cx="79246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362480" y="7147080"/>
              <a:ext cx="304920" cy="444240"/>
              <a:chOff x="4362480" y="7147080"/>
              <a:chExt cx="304920" cy="444240"/>
            </a:xfrm>
          </p:grpSpPr>
          <p:sp>
            <p:nvSpPr>
              <p:cNvPr id="155" name=""/>
              <p:cNvSpPr/>
              <p:nvPr/>
            </p:nvSpPr>
            <p:spPr>
              <a:xfrm>
                <a:off x="4364280" y="72230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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62480" y="7147080"/>
                <a:ext cx="304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362480" y="7527960"/>
              <a:ext cx="304920" cy="444240"/>
              <a:chOff x="4362480" y="7527960"/>
              <a:chExt cx="304920" cy="444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364280" y="76039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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62480" y="7527960"/>
                <a:ext cx="304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324000" y="4437000"/>
            <a:ext cx="79200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(A+N,  Z) 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J(A+N, Z+1) +  e</a:t>
            </a:r>
            <a:r>
              <a:rPr b="0" lang="en-GB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il nuovo elemento è stabile allora riprenderà il processo di cattura neutronica, altrimenti può andare incontro ad una serie ulteriore di decadiment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(A+N,  Z+1) 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K(A+N, Z+2) +  e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(A+N,  Z+2)  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L(A+N, Z+3) +  e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6381720"/>
            <a:ext cx="1443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581360"/>
            <a:ext cx="1443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6093000"/>
            <a:ext cx="144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66E-A976-46ED-BA53-49143C094E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28600"/>
            <a:ext cx="8458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ue sono I processi importanti: cattura neutronica e decadiment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nuclei stabili possono soltanto catturare neutroni. I nuclei instabili possono sia catturare neutroni che avere il decadiment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2438280"/>
            <a:ext cx="8077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2914920" cy="24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12076" t="9802" r="17323" b="50395"/>
          <a:stretch/>
        </p:blipFill>
        <p:spPr>
          <a:xfrm>
            <a:off x="3924360" y="3357720"/>
            <a:ext cx="4841640" cy="2047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628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 seconda che la cattura neutronica sia più veloce o meno veloce del decadimento si palra di processo R o processo S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781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cesso R (Rapid..): esemp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5734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tà per particella </a:t>
            </a:r>
            <a:r>
              <a:rPr b="1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cieè elettrone (</a:t>
            </a:r>
            <a:r>
              <a:rPr b="1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positr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6C1-EBC7-45DA-BEE9-A2B1128022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nergia di legame del nucleo atomic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83808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 descrizione di una reazione nucleare è la seguente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4000" y="1197000"/>
          <a:ext cx="7899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7899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0880" y="1981080"/>
            <a:ext cx="8294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v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=  numero barionico, o numero nucleonico  (massa nuclear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Z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= carica nucle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l nucleo è definito univocamente da due interi, 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A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i="1" lang="en-GB" sz="2000" spc="-1" strike="noStrike">
                <a:solidFill>
                  <a:srgbClr val="ff7c80"/>
                </a:solidFill>
                <a:latin typeface="Arial"/>
              </a:rPr>
              <a:t>Z</a:t>
            </a:r>
            <a:r>
              <a:rPr b="1" i="1" lang="en-GB" sz="2000" spc="-1" strike="noStrike" baseline="-25000">
                <a:solidFill>
                  <a:srgbClr val="ff7c80"/>
                </a:solidFill>
                <a:latin typeface="Arial"/>
              </a:rPr>
              <a:t>i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789360"/>
            <a:ext cx="87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ogni reazione nucleare si devono conservare le seguenti quantità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Numero barionico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– protoni, neutroni e le loro antiparticel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Numero leptonico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– electroni, positroni, neutrini, and anti-neutrini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Ca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le antiparticlle hanno numeri barionici e leptonici invers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EB2-279F-4EDE-81FF-1A7E9D967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cessi 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5776" t="8399" r="18898" b="9096"/>
          <a:stretch/>
        </p:blipFill>
        <p:spPr>
          <a:xfrm>
            <a:off x="228600" y="3124080"/>
            <a:ext cx="3505320" cy="288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22048" r="0" b="0"/>
          <a:stretch/>
        </p:blipFill>
        <p:spPr>
          <a:xfrm>
            <a:off x="4876920" y="1981080"/>
            <a:ext cx="4267080" cy="249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016160" y="2666880"/>
            <a:ext cx="62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3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cattura neutronica è lento e il decadimento avviene prima di una seconda cattu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FA8-ADEC-4F00-86E4-F153C9EF1E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260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mmari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37160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iamo analizzato I vari processi responsabili della produzione di energia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all’interno delle stel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Abbiamo visto il principio alla base della produzione di energia durante la fus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Sono stati descritti le catene  PP e il ciclo C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Abbiamo analizzato le reazioni triplo-</a:t>
            </a:r>
            <a:r>
              <a:rPr b="1" lang="en-GB" sz="2400" spc="-1" strike="noStrike">
                <a:solidFill>
                  <a:srgbClr val="66ff33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e la fusione dell’H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Sono discussi gli stadi finali di fusione di C,O, 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Abbiamo descritto I processi R ed S alla base dell’origine degli elementi più pesanti del F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733-96F6-43CA-AC64-78012AAD41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838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La massa totale dei nuclei è minore della somma delle masse dei costituenti e la differenza è dovuta alla energia di legame del nucleo composto. Secondo la relazione di Einstein, la differenza in massa è l’energia di legame: </a:t>
            </a:r>
            <a:r>
              <a:rPr b="1" i="1" lang="en-GB" sz="2000" spc="-1" strike="noStrike">
                <a:solidFill>
                  <a:srgbClr val="66ff33"/>
                </a:solidFill>
                <a:latin typeface="Arial"/>
              </a:rPr>
              <a:t>E=mc</a:t>
            </a:r>
            <a:r>
              <a:rPr b="1" i="1" lang="en-GB" sz="2000" spc="-1" strike="noStrike" baseline="30000">
                <a:solidFill>
                  <a:srgbClr val="66ff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Una quantità importante è l’energia di legame per nucleone data da (A = numero barionico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700280"/>
          <a:ext cx="571500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57150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55640" y="4292640"/>
          <a:ext cx="136836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292640"/>
                    <a:ext cx="13683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DA3-4ECD-497C-A253-9466A4338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372360" cy="506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ergia di legame per nucleone: come v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1197000"/>
            <a:ext cx="27003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l trend generale è una crescita di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con la massa atomica fino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=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6 (Fe).  Quindi scende in modo monoton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’e’ una crescita molto ripida all’inizio, quindi 2H, 3He, to 4He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la fusione dei H da’ molto piu’ energia per unità di massa che la fusione di He to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nergia si guadagna dalla fusione di elementi leggeri in pesanti o per fissione di elementi pesanti quando siamo oltre il 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245-EE7B-415D-B64D-83230B958A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azioni di fusi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8839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erifichiamo ora in quali condizioni si può verificare la fusione e se queste condizioni sussistono all’interno delle stel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questo caso solo l’interazione forte e le forze elettromagnetiche che entrano in gioc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ue nuclei carichi positivamente devono superare la barriera coulombiana (forza a lungo raggio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GB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 entrare nel raggio delle forze di interazione forte  (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m, dimensione tipica dei nucle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2562480" cy="311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3276720"/>
            <a:ext cx="4724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733920"/>
            <a:ext cx="5486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Effetto tunnel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99"/>
                </a:solidFill>
                <a:latin typeface="Arial"/>
              </a:rPr>
              <a:t>V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 (energia potenziale coulombiana in funzione della distanza tra I due nucle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Symbol"/>
                <a:ea typeface="Symbol"/>
              </a:rPr>
              <a:t>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funzione d’onda che penetra attraverso la barriera coulombiana con una energia cinetica E</a:t>
            </a:r>
            <a:r>
              <a:rPr b="1" lang="en-GB" sz="2000" spc="-1" strike="noStrike" baseline="-25000">
                <a:solidFill>
                  <a:srgbClr val="ff3399"/>
                </a:solidFill>
                <a:latin typeface="Arial"/>
              </a:rPr>
              <a:t>kin </a:t>
            </a: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 minore della barriera coulombia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021-6A34-45D6-A253-B50D93A4DA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Effetto tunn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 probabilità che ha una particella di penetrare la barriera Coulombiana è data da: (penetration probability calcolata da Gam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989000"/>
          <a:ext cx="22590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22590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386064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La velocità termica in un gas è data da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99"/>
                </a:solidFill>
                <a:latin typeface="Arial"/>
              </a:rPr>
              <a:t>Le velocità sono distributite secondo una Maxwelliana in un gas perfetto e quindi si h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3360" y="5516640"/>
          <a:ext cx="479880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5516640"/>
                    <a:ext cx="47988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780000" y="1844640"/>
            <a:ext cx="482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umero di protoni in ciascun nuc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1.6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0-19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8.85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10-12 C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=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6.6260755   10</a:t>
            </a:r>
            <a:r>
              <a:rPr b="0" lang="it-IT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j-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v= velocità relativa dei nucle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859280" y="3573360"/>
          <a:ext cx="1295280" cy="96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573360"/>
                    <a:ext cx="129528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649-F5EA-4728-83B2-34446EC324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l picco di Gamo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197000"/>
            <a:ext cx="4051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 fusione occorre con il massimo di probabilità quando l’eneriga si trova nel picco di Gamow, prodotto della Maxwelliana e della probabilità di tunnelling.  L’area sotto il picco determina il rate di reazione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3684600" cy="3305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4800600"/>
            <a:ext cx="8675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iù alta è la carica dei nuclei, maggiore è la forza repulsiva e maggiore deve essere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Arial"/>
              </a:rPr>
              <a:t>k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e quindi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T,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ffinchè avvenga la reazione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Le reazioni tra elementi leggeri avvengono a temperature più basse rispetto a quelli con maggiore Z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B29-C291-472E-97C7-132AB216C1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Le principali reazioni nucleari nelle stel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278136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700280"/>
            <a:ext cx="8820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Le catene PP  (H -&gt; H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Il ciclo CNO    (H -&gt; H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La reazione triplo-alpha (He -&gt; C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Combustione Carbonio: C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+ C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-&gt; O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Combustione Ossigeno: O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+ O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-&gt; Mg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Combustione silicio: Si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28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+ Si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28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-&gt; Fe</a:t>
            </a:r>
            <a:r>
              <a:rPr b="1" lang="en-GB" sz="3200" spc="-1" strike="noStrike" baseline="30000">
                <a:solidFill>
                  <a:srgbClr val="66ff33"/>
                </a:solidFill>
                <a:latin typeface="Arial"/>
              </a:rPr>
              <a:t>56</a:t>
            </a:r>
            <a:r>
              <a:rPr b="1" lang="en-GB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8195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BDC-C40A-41D9-AE0C-9D82B9E0F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76720" y="0"/>
            <a:ext cx="4067280" cy="765000"/>
          </a:xfrm>
          <a:prstGeom prst="rect">
            <a:avLst/>
          </a:prstGeom>
          <a:solidFill>
            <a:srgbClr val="ffcc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449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2000"/>
            <a:ext cx="475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 branching ratios delle varie reazioni dipendono dalle condizioni in cui avviene il bruciamento di H (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,</a:t>
            </a:r>
            <a:r>
              <a:rPr b="0" i="1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bbondanze). La transizione da PPI a PPII avviene a T &gt; 1.3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pra T= 3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K domina la  PPIII sul PPI e PPII ma avviene anche un’altro processo, il ciclo CN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1700280"/>
            <a:ext cx="399564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7c80"/>
                </a:solidFill>
                <a:latin typeface="Arial"/>
              </a:rPr>
              <a:t>PPI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) (1.442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eV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5.493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2.859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7c80"/>
                </a:solidFill>
                <a:latin typeface="Arial"/>
              </a:rPr>
              <a:t>PPII: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) (1.442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MeV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5.493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.586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Li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2) (0.861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7.347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7c80"/>
                </a:solidFill>
                <a:latin typeface="Arial"/>
              </a:rPr>
              <a:t>PPIII: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) (1.442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MeV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5.493 MeV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1.586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0.135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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-&gt; 2He</a:t>
            </a:r>
            <a:r>
              <a:rPr b="0" lang="it-IT" sz="16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(18.074 Me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765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3 diverse diramazioni della catena protone-pro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LE CATENE 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F7B-295D-4851-9481-894C69A39B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cp:lastPrinted>2005-04-20T15:57:52Z</cp:lastPrinted>
  <dcterms:modified xsi:type="dcterms:W3CDTF">2005-11-17T14:20:13Z</dcterms:modified>
  <cp:revision>301</cp:revision>
  <dc:subject/>
  <dc:title>MSci Astrophysics 210PHY412 </dc:title>
</cp:coreProperties>
</file>