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AE9-5BE6-4B6A-B8D6-9F1AA10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B9E-0C35-4A38-A457-71531C73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7B7-83EC-42FA-8577-504CB673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72A-8381-4712-903B-4B0AB135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718-A067-4951-B8BC-0E8AB19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1A5-7564-4148-97EC-2677AA3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9F5-334C-4A34-8D57-F950434D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796-6ADA-4FE7-B7B8-14E3BCD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170-5980-42D7-AED4-3D0D31F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892-F0C4-4F01-A0A8-5FAD3B8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BBE-AB86-4D56-A000-0B96878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1EA-6FCA-4A6D-B7B4-6C94956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AE6-6E7B-460F-8483-C0B02BE63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4560" y="191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0000"/>
                </a:solidFill>
                <a:latin typeface="Arial"/>
              </a:rPr>
              <a:t>Modelli politropic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8FB-9D0A-419A-B44B-C0CE9A31D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333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bisogna determinare la massa in funzione del raggio. L’equazione di conservazione della massa d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1219320"/>
                <a:ext cx="1447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59280" y="1197000"/>
            <a:ext cx="50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grando e sostituendo: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=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797360"/>
            <a:ext cx="820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di sapere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possiamo ricavare un’espressione per la struttura inter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4398840"/>
            <a:ext cx="18432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2565360"/>
          <a:ext cx="840744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65360"/>
                    <a:ext cx="84074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08000" y="1989000"/>
          <a:ext cx="453708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989000"/>
                    <a:ext cx="4537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95280" y="5589720"/>
          <a:ext cx="528624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5589720"/>
                    <a:ext cx="52862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940360" y="5734080"/>
            <a:ext cx="25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a cui si ricava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85B-81D7-4A96-926B-EBACB4C962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pend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i può calcolare la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Massa in funzione di </a:t>
            </a:r>
            <a:r>
              <a:rPr b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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e quindi di r (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r = </a:t>
            </a:r>
            <a:r>
              <a:rPr b="1" i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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nsità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i="1" lang="it-IT" sz="2400" spc="-1" strike="noStrike">
                <a:solidFill>
                  <a:srgbClr val="66ff33"/>
                </a:solidFill>
                <a:latin typeface="Arial"/>
              </a:rPr>
              <a:t> =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i="1" lang="it-IT" sz="2400" spc="-1" strike="noStrike" baseline="-25000">
                <a:solidFill>
                  <a:srgbClr val="66ff33"/>
                </a:solidFill>
                <a:latin typeface="Arial"/>
              </a:rPr>
              <a:t>c</a:t>
            </a:r>
            <a:r>
              <a:rPr b="1" i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2400" spc="-1" strike="noStrike" baseline="30000">
                <a:solidFill>
                  <a:srgbClr val="66ff33"/>
                </a:solidFill>
                <a:latin typeface="Arial"/>
              </a:rPr>
              <a:t>n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la pressione 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P = K </a:t>
            </a:r>
            <a:r>
              <a:rPr b="1" lang="it-IT" sz="24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2400" spc="-1" strike="noStrike" baseline="30000">
                <a:solidFill>
                  <a:srgbClr val="66ff33"/>
                </a:solidFill>
                <a:latin typeface="Arial"/>
              </a:rPr>
              <a:t>(n+1)/n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K può essere determinato direttamente dall’equazione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75120" y="2276640"/>
            <a:ext cx="4268880" cy="4437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292640"/>
            <a:ext cx="4032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figura, il modello politropo per il Sole con n=3 viene confrontato con il modello standard.  L’accordo è particolarmente buono in prossimità del centro della Sole buono mentre nelle regioni esterne convettive la differenza è significa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708280"/>
          <a:ext cx="4103640" cy="84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708280"/>
                    <a:ext cx="41036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35640" y="1268280"/>
                <a:ext cx="237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n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d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95280" y="1628640"/>
            <a:ext cx="475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fine, la Temperatura può essere ottenuta eguagliando l’equazione di stato di un gas perfetto con l’equazione di stato politrop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553-97B3-40DE-B7B2-4390D13DD9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7939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lla tabella vengono riportati per confronto I valori ottenuti tramite il modello politropo e il modello standar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27280" y="2349360"/>
          <a:ext cx="3673080" cy="2374560"/>
        </p:xfrm>
        <a:graphic>
          <a:graphicData uri="http://schemas.openxmlformats.org/drawingml/2006/table">
            <a:tbl>
              <a:tblPr/>
              <a:tblGrid>
                <a:gridCol w="1224000"/>
                <a:gridCol w="1224720"/>
                <a:gridCol w="1224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=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i="1" lang="en-GB" sz="1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g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g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1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m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57200" y="63244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62A-811D-44E2-BFF9-D4A552966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ichiamiamo alle equazioni di struttur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144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5280" y="1197000"/>
            <a:ext cx="3833640" cy="1750320"/>
            <a:chOff x="395280" y="1197000"/>
            <a:chExt cx="3833640" cy="175032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95280" y="1197000"/>
                  <a:ext cx="1263600" cy="75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95280" y="2133720"/>
                  <a:ext cx="130968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369160" y="1197000"/>
                  <a:ext cx="878760" cy="80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9" name=""/>
            <p:cNvGraphicFramePr/>
            <p:nvPr/>
          </p:nvGraphicFramePr>
          <p:xfrm>
            <a:off x="2293200" y="2133720"/>
            <a:ext cx="1935720" cy="81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3200" y="2133720"/>
                      <a:ext cx="1935720" cy="81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4859280" y="14842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condizioni al contorn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=0, L=0 a M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, T=0 a M=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767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queste vanno aggiunte 3 relazioni 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,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assumendo che 1)  il materiale stellare si comporta come un gas ideale con pressione di radiazione trascurabile, e 2) che le leggi per l’opacità e la generazione di energia siano approssimabili da leggi di potenz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85800" y="4495680"/>
                <a:ext cx="17193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ℜ</m:t>
                            </m:r>
                            <m:r>
                              <m:t xml:space="preserve">ρ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ρT</m:t>
                            </m:r>
                          </m:e>
                          <m:sup>
                            <m:r>
                              <m:t xml:space="preserve">η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419640" y="494172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ono costanti e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0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no costanti per una fissata composizione chim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2F2-AA6E-45F4-9B64-07DA17C9D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s’è un modello stellare semplificat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0792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equazioni di struttura stellare sono 7, non lineari, accoppiate e quindi devono essere risolte simultaneamente. Hanno due punti con condizioni al contorno defini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luzioni semplici (cioe’ analitiche) si basano sull’assunzione che esistano delle quantità che variano lentamente dal centro della stella fino alla superficie e che quindi dipendano poco d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E’ difficile trovare tali quantità. Ad esempio,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 di 3 ordini di grandezza e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i 14! L’unica cosa che può essere assunta come uniforme è la composizione chimica, nell’ipotesi che I processi convettivi rimescolino il contenuto della stell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Modelli politropic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utilizza una relazione semplice tra la pressione e la densità e si assume che sia valida su tutta la stella.  Allora le equazioni per l’equilibrio idrostatico e la conservazione della massa possono essere risolte indipendentemenete dalla altre 5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 dell’avvento dei computer, I modelli politropici giocavano un ruolo importante nelle sviluppo delle teorie di struttura stella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6AE-27DF-4FEE-B58D-C4173AE49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Modelli politropic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692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parte dall’equazione di equilibrio idrostatico (in funzione di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126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si moltiplica per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deriva rispetto ad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349360"/>
            <a:ext cx="52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destra si sostituisce l’equazione di conservazione della mas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365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 prende ora un’equazione di stato del ti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4005360"/>
          <a:ext cx="277992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005360"/>
                    <a:ext cx="27799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24160" y="1450800"/>
            <a:ext cx="18396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8360" y="1197000"/>
                <a:ext cx="2547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9640" y="2205000"/>
                <a:ext cx="24526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089160" y="4711680"/>
            <a:ext cx="184320" cy="366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11280" y="3357720"/>
                <a:ext cx="27622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4</m:t>
                    </m:r>
                    <m:r>
                      <m:t xml:space="preserve">pG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68360" y="486900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ove si assume per convenzione che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l’indice adiabatico sia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= 1+1/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n,  K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a una costante mentre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n è l’indice politropic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a pressione è funzione della sola densità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 Per i gas perfetti in genere  si usa l’espressione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Questo implica una relazione tra pressione e Temperatur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5877000"/>
          <a:ext cx="136836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877000"/>
                    <a:ext cx="1368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32B-9FFF-4F48-947B-43D3915FE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141300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soluzione di questa equazione differenziale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(r)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 0 ≤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≤ 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è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amata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politropa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richiede due condizioni al contorno (centro e superficie). Una politropa è definita da 3 parametri: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66ff33"/>
                </a:solidFill>
                <a:latin typeface="Arial"/>
              </a:rPr>
              <a:t>K, n, e 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 Una volta risolta questa equazione, è possibile calcolare le restanti quantità fisiche in funzione del raggio, come la pressione, l’energia, o la densità medi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trovare la soluzione, conviene introdurre  una variabile adimensional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finita tra 0 ≤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≤ 1 c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508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arriva quindi alla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equazione di Lane-Emden di indice  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1800" y="5084640"/>
          <a:ext cx="8782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5084640"/>
                    <a:ext cx="8782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519280" y="855720"/>
            <a:ext cx="184320" cy="366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35280" y="189000"/>
                <a:ext cx="34768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n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d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755640" y="3789360"/>
          <a:ext cx="194472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360"/>
                    <a:ext cx="194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68360" y="26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ottiene così la seguente equazio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3789360"/>
            <a:ext cx="554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adizionalmente, </a:t>
            </a:r>
            <a:r>
              <a:rPr b="1" lang="it-IT" sz="1800" spc="-1" strike="noStrike">
                <a:solidFill>
                  <a:srgbClr val="ff9900"/>
                </a:solidFill>
                <a:latin typeface="Symbol"/>
                <a:ea typeface="Symbol"/>
              </a:rPr>
              <a:t></a:t>
            </a:r>
            <a:r>
              <a:rPr b="1" lang="it-IT" sz="1800" spc="-1" strike="noStrike" baseline="-25000">
                <a:solidFill>
                  <a:srgbClr val="ff9900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ff9900"/>
                </a:solidFill>
                <a:latin typeface="Arial"/>
              </a:rPr>
              <a:t> si assume la densità centrale della ste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432-583C-4611-99C1-AC5D298F4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oluzioni dell’equazione di Lane-Emde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837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’ possibile risolvere l’equazione analiticamente solo per 3 valori dell’indic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1600200"/>
                <a:ext cx="27529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80880" y="472428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e soluzioni hanno le seguenti condizioni al contorno al centr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0840" y="5492880"/>
          <a:ext cx="285732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492880"/>
                    <a:ext cx="2857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356000" y="5661000"/>
            <a:ext cx="266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i.e. r=0 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F92-E4E9-43D6-AA54-4B7864E53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57200"/>
            <a:ext cx="2971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luzioni numeriche per l’equazione di Lane-Emden per (da sinistra a destra)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 0,1,2,3,4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 confrontare con I casi analitici no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488200" cy="463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227640" y="2637000"/>
                <a:ext cx="200844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80880" y="5181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soluzioni decrescono monotonicamente e si h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0 a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i.e. il raggio della stella).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 n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≥ 5 si hanno casi non fisici di stelle di raggio infinit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08C-D3BC-4DC9-BB04-DC0AEB8ED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335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n &l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5 la soluzione diventa minore di 0 per un valore finito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quindi si può stimare il raggi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Nella tabella qui sotto sono riportati I valori dei raggi stellare in funzione di 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1640" y="1700280"/>
          <a:ext cx="6476760" cy="23428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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3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1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4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3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435640" y="184464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q</m:t>
                                </m:r>
                              </m:num>
                              <m:den>
                                <m: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1835280" y="4797360"/>
            <a:ext cx="2014560" cy="409320"/>
            <a:chOff x="1835280" y="4797360"/>
            <a:chExt cx="2014560" cy="4093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826000" y="4797360"/>
                  <a:ext cx="1023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835280" y="4873320"/>
                  <a:ext cx="8809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α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"/>
          <p:cNvSpPr/>
          <p:nvPr/>
        </p:nvSpPr>
        <p:spPr>
          <a:xfrm>
            <a:off x="826920" y="486900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5445000"/>
            <a:ext cx="7991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er n=0 stella a densità costante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,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er n=1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non dipende da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c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e quindi il raggio non dipende da densità cent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B58-D43A-495C-8F0A-1197D517E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C67F-A378-49C6-BA72-D494D44F2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aratura’ dei modelli politrop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ndiamo un modello con n=3 per il Sole (conosciuto come il modello standard di Eddington). Per i dati sul Sole adottiamo il cosiddetto modello standard del Sol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(SSM - Bahcall 1998, Physics Letters B, 433, 1)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 di tutto convertiamo le quantità adimensionali raggi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densità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 quantità fisiche in m e kg 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46440" y="79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56536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determinare il fattore di scala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icordiamo che alla superficie (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0) abbi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R è il valore del raggio stellare (il sole nel nostro caso)mentr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il valore di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lla superfici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13080" y="3117960"/>
          <a:ext cx="118764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3117960"/>
                    <a:ext cx="11876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4920" y="5791320"/>
            <a:ext cx="7619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ns.ias.edu/~jnb/SNdata/solarmodels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8672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dati dell’SSM sono disponibili a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26T09:00:46Z</cp:lastPrinted>
  <dcterms:modified xsi:type="dcterms:W3CDTF">2005-11-28T11:17:26Z</dcterms:modified>
  <cp:revision>196</cp:revision>
  <dc:subject/>
  <dc:title>MSci Astrophysics 210PHY412 </dc:title>
</cp:coreProperties>
</file>