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617-5E84-490F-BAB8-CE7852C3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301-492C-45E1-9254-A60733A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6CE-8FD6-4A0C-8348-FB125031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234-77F2-4209-BA75-D2A14F5D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D0E-D66C-406F-A700-0E8476A8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EF5-BE9E-4782-8EE4-EEFD6A1A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CDE-49FE-4A90-97A6-3F14A5BF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87E-BB4D-449B-A135-B98E5904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ACA-9C73-4B7C-84DA-C693BED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27E-5C3E-4DD7-A307-6A9B096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505-016D-4806-8417-AAEEEE5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805-8F82-4848-9EB3-B45DEE2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9DD1-6F28-442A-BAE4-984B08329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spiff.rit.edu/classes/phys230/lectures/star_age/evol_hr.swf" TargetMode="External"/><Relationship Id="rId5" Type="http://schemas.openxmlformats.org/officeDocument/2006/relationships/hyperlink" Target="http://rainman.astro.uiuc.edu/ddr/stellar/beginner.html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odelli numerici di evoluzione stellare: il “gruppo di Ginevra” (Schaller et al.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4289400"/>
            <a:ext cx="2562480" cy="256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311640" cy="446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5280" y="1268280"/>
            <a:ext cx="525780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Esempio: traccia evolutiva del Sole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1) Fusione di H. Main Sequ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2-3) Fusione H continua in guscio sottile. Gigante ross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4) Helium flas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5-6) L’elio diminuisce e brucia solo in gusci sottili attorno al nucle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7) Fine della fusione dell’el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6ff33"/>
                </a:solidFill>
                <a:latin typeface="Arial"/>
              </a:rPr>
              <a:t>Dopo la fine della fusione dell’elio la stella espelle il materiale esterno e si raffredda in una nana bianca (fase non coperta dai modelli del gruppo di Ginevra).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72360" y="4303800"/>
            <a:ext cx="2592360" cy="2554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61080"/>
            <a:ext cx="34196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piff.rit.edu/classes/phys230/lectures/star_age/evol_hr.swf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t-IT" sz="12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://rainman.astro.uiuc.edu/ddr/stellar/beginner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SITI CON ANIMAZIONI DI EVOLUZI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4F2-76EA-4BC4-BE52-D8F508351F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5412" r="49965" b="55408"/>
          <a:stretch/>
        </p:blipFill>
        <p:spPr>
          <a:xfrm>
            <a:off x="380880" y="1244520"/>
            <a:ext cx="3591000" cy="386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19106" t="5927" r="13895" b="52055"/>
          <a:stretch/>
        </p:blipFill>
        <p:spPr>
          <a:xfrm>
            <a:off x="4114800" y="1143000"/>
            <a:ext cx="4902120" cy="4145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525780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7 Tuc : ammasso globulare. Età di circa  8-10 Gy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410080"/>
            <a:ext cx="3276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C188 ammasso aperto vecchio, età di circa  7 Gy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6028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Sito per il calcolo delle isocrone:  http://www-laog.obs.ujf-grenoble.fr/activites/starevol/FILES/iso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2C3-FBBE-464C-8FCC-F8C93CEF69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biamo mostrato esempi di evoluzione stell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 vite medie in sequenza principali dipendono dalla massa iniziale della stell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à degli ammassi stellari. Isocr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ttimo accordo tra I modelli e I diagrammi di H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60D-946E-4BD5-93D8-3FD610A1D8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ima della sequenza principale: protostell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144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219320"/>
            <a:ext cx="3200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4610160" cy="47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88000" y="2133720"/>
            <a:ext cx="417672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Protostella. Fredda ma estesa (per tipo solare quasi 20 volte le dimensioni finali. Lumino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Il collasso gravitazionale accelera. La temperatura aumenta ma le dimensioni si riducono. Meno lumino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Inizia la fusione di H, il collasso rallenta, la Temperatura aumen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Equilibrio idrostatico. La stella entra in sequenza princip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41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Tracce evolutive di Hayashi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C8F-0954-493A-B8BA-B20295D45D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ita media in sequenza principal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5400" y="189000"/>
            <a:ext cx="2838600" cy="21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126828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32720" y="2492280"/>
          <a:ext cx="2209680" cy="3335400"/>
        </p:xfrm>
        <a:graphic>
          <a:graphicData uri="http://schemas.openxmlformats.org/drawingml/2006/table">
            <a:tbl>
              <a:tblPr/>
              <a:tblGrid>
                <a:gridCol w="1104840"/>
                <a:gridCol w="110484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a M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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79132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3960720" cy="3514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052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vita media di una stella è circa proporzioanle all’inverso del cubo della mas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4464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li ammassi stellari le stelle si sono formate allo stesso tempo e quindi è possibile calcolare l’età dell’ammasso a partire dal punto di turn-off o biforcazione del diagramma di H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789360"/>
            <a:ext cx="230508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 stelle con vita media inferiore all’età dell’ammasso hanno lasciato la sequenza princip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 stelle con vita media più lunga sono ancora in sequenza princip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6AB-E0DE-490E-A9AF-CA8B8A7D88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e 5 sezioni del diagramma H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914400"/>
            <a:ext cx="800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Nota che le masse sono approssimate e ci possono essere sovrapposizioni ai bordi.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0033"/>
                </a:solidFill>
                <a:latin typeface="Arial"/>
              </a:rPr>
              <a:t>Nane brun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l limite inferiore di massa è 0.08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or 80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Jup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. Oggetti di massa inferiore hanno temperature troppo basse per innescare la fusione di H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Nane Ross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stelle la cui vita media in sequenza principale supera l’età dell’Universo (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1-2x10</a:t>
            </a:r>
            <a:r>
              <a:rPr b="0" lang="en-GB" sz="16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yr). I modelli danno un limite superiore per le stelle che sono ancora in sequenza principale di  0.7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9900"/>
                </a:solidFill>
                <a:latin typeface="Arial"/>
              </a:rPr>
              <a:t>Stelle di piccola mas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elle con massa compresa nell’intervallo 0.7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 ≤ 2 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Al termine della loro vita perdono massa e danno origine a nane bianche e nebulose planetari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66ff33"/>
                </a:solidFill>
                <a:latin typeface="Arial"/>
              </a:rPr>
              <a:t>Stelle di massa intermed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elle con massa nell’intervallo 2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 ≤ 8-10 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Hanno tracce evolutive simili a quelle di piccola massa ma hanno una maggiore luminosità. Alla fine danno origine a nane bianche e nebulose planetarie di massa maggior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ffff"/>
                </a:solidFill>
                <a:latin typeface="Arial"/>
              </a:rPr>
              <a:t>Stelle di grande mass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M &gt;8-10 M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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Evoluzione significativamente diverse e brevi vite medi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FFC-42B0-464E-A78E-0BDDCE43BC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cessi convettivi: l’overshoo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144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xing length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descrizione dei processi convettivi contiene un parametro libero chiamato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xing length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l).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 assume che gli elementi convettivi abbiano una dimensione carattersitica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che si muovano verticalmente di una distanza comparabile 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a che la turbolenza porti allo scambio di calore con il materiale circostante. Se si assume che le celle si spostino adiabaticamente in equilibrio di pressione con l’ambiente e che esse siano accelerate dalla spinta di Archimede, allora il trasporto di energia per convezione ha la seguente espressi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55680" y="3462480"/>
          <a:ext cx="468936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462480"/>
                    <a:ext cx="46893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867280" y="480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3357720"/>
            <a:ext cx="309744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Luminosità L è l’energia per unità di tempo e di area che passa attraverso un guscio di raggio e e va verso l’est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tezza di scala della pressione=distanza in cui la pressione di riduce di un fattore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6C7-9C83-4F3E-A8EC-8410ABD680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espressione per l è utile solo se si può scegliere un valore per l.  Un valore che viene considerato ragionevole è l’altezza di scala della pressi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371600"/>
                <a:ext cx="809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8088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scelta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uò portare a modelli diversi di struttura stellare in particolare per stelle fredde. La struttura del sole può essere riprodotta con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1.6,  ma nienete è noto sul valore di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 le altre stelle. Manca ancora una teoria in grado di predirre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3860640"/>
            <a:ext cx="7924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vershooting convet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a succede al confine tra una regione convettiva e una non-convettiva? Un elemento convettivo entra in una zona non-convettiva con una certa velocità finita.  Questo fenomeno si chiam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vershooting convettivo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n è importante per il trasporto di energia, ma comporta un maggiore mixing chimico e può essere importante per la tarda evoluzione stella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FD0-D0BA-4AF8-B9C7-14A461DD4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372360" y="2421000"/>
            <a:ext cx="2592360" cy="3024000"/>
          </a:xfrm>
          <a:prstGeom prst="rect">
            <a:avLst/>
          </a:prstGeom>
          <a:solidFill>
            <a:srgbClr val="96969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ocrone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49360"/>
            <a:ext cx="8785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n è possibile seguire l’evoluzione di una stella nel tempo. Ma possiamo guardare gli ammassi stellare per vedere l’evoluzione stellare all’oper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787480"/>
            <a:ext cx="3780000" cy="378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268280"/>
            <a:ext cx="871380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socr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a curva che descrive le proprietà delle stelle per una data età e in funzione quindi della massa.  Al contrario una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raccia evoluti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ostra le proprietà di una stella con massa fissata al variare dell’età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2565360"/>
            <a:ext cx="244800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Le isocrone sono utili per gli ammassi. Tutte le stelle sono nate allo stesso tempo con la stessa composizione.  Il grafico delle stelle di differente massa nel piano Log</a:t>
            </a: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(L/L</a:t>
            </a:r>
            <a:r>
              <a:rPr b="0" i="1" lang="en-GB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</a:t>
            </a: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) vs.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Log</a:t>
            </a:r>
            <a:r>
              <a:rPr b="0" i="1" lang="en-GB" sz="1800" spc="-1" strike="noStrike">
                <a:solidFill>
                  <a:srgbClr val="66ff33"/>
                </a:solidFill>
                <a:latin typeface="Arial"/>
              </a:rPr>
              <a:t>Teff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rappresenta un’isocro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852640"/>
            <a:ext cx="266400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S: Sequenza Princip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O: Turn 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GB:  Red Giant Branch; Helium flash si trova sulla punta dell’RGB (Tip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B: Horizontal Bran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ap: Schwarzschild gap nel  H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GB:  Asymptotic Giant Bran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WD: Nane Bian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AD0-8A0F-4E61-BD9C-2FAC66032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odellizzazione degli ammassi stellar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8380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3660" t="4864" r="0" b="0"/>
          <a:stretch/>
        </p:blipFill>
        <p:spPr>
          <a:xfrm>
            <a:off x="304920" y="1523880"/>
            <a:ext cx="6324480" cy="5168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81680" y="1600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ilizzo dei modelli di Ginevra per le isocrone stellari di ammassi ver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6B8-B445-4CBC-A3D3-06AB392D61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43400" y="27432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empi di isocrone negli ammassi stell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7369" t="52055" r="17717" b="6958"/>
          <a:stretch/>
        </p:blipFill>
        <p:spPr>
          <a:xfrm>
            <a:off x="152280" y="838080"/>
            <a:ext cx="4622760" cy="393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6327" t="51024" r="18064" b="4639"/>
          <a:stretch/>
        </p:blipFill>
        <p:spPr>
          <a:xfrm>
            <a:off x="4800600" y="838080"/>
            <a:ext cx="4343400" cy="3957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502920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C6231 ammasso giovane. Il log età è 6.75 = circa 6 My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029200"/>
            <a:ext cx="3276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Pleiade: dal modello di Ginevra si ottiene un’isocrona di 100 My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7C0-7CF6-4D9D-A5FC-E80E47D75A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dcterms:modified xsi:type="dcterms:W3CDTF">2005-07-29T07:56:22Z</dcterms:modified>
  <cp:revision>220</cp:revision>
  <dc:subject/>
  <dc:title>MSci Astrophysics 210PHY412 </dc:title>
</cp:coreProperties>
</file>