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12.gif" ContentType="image/gif"/>
  <Override PartName="/ppt/media/image17.pct" ContentType="image/x-pict"/>
  <Override PartName="/ppt/media/image16.jpeg" ContentType="image/jpeg"/>
  <Override PartName="/ppt/media/image8.pct" ContentType="image/x-pict"/>
  <Override PartName="/ppt/media/image15.pct" ContentType="image/x-pict"/>
  <Override PartName="/ppt/media/image14.png" ContentType="image/png"/>
  <Override PartName="/ppt/media/image6.pct" ContentType="image/x-pict"/>
  <Override PartName="/ppt/media/image11.pct" ContentType="image/x-pict"/>
  <Override PartName="/ppt/media/image1.jpeg" ContentType="image/jpeg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DE0-0CC0-41BE-9700-C4FBB960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B78-2974-4B9E-B3EB-52DF690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EA6-E597-4302-87CE-CCE1CAA2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7F0-78D6-402E-B96B-E407FFD7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BB9-E68C-4BE5-81BB-45751F61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4E2-94C5-4FBE-9C15-95F2F381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A64-7E4C-40E3-9025-75F389AE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A65-08D2-4E7B-AC29-62CD6B8B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F44-07B1-4AAE-8B34-CC6413CF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088-113A-4170-AA7C-2F4987FC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9DB-876D-4BB6-A146-DA06B01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5F6-FC6C-4CAD-8224-C82F7F7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9C2C-CF23-4CB2-86D0-994FD91C82F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tructure and evolution of star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18288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12:White dwarfs, neutron stars and black h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19104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492-DCA1-416C-960D-39041F4F6E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generate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914400"/>
            <a:ext cx="800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re is not a sharp transition between relativistically degenerate and non-relativistically degenerate gas. Similarly there is no sharp transition between an ideal gas and a completely degenerate one.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artial degeneracy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tuation requires much more complex solution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36232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80988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4038480" y="3276720"/>
            <a:ext cx="4876920" cy="2895480"/>
            <a:chOff x="4038480" y="3276720"/>
            <a:chExt cx="4876920" cy="2895480"/>
          </a:xfrm>
        </p:grpSpPr>
        <p:sp>
          <p:nvSpPr>
            <p:cNvPr id="101" name=""/>
            <p:cNvSpPr/>
            <p:nvPr/>
          </p:nvSpPr>
          <p:spPr>
            <a:xfrm>
              <a:off x="4038480" y="3276720"/>
              <a:ext cx="41148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4191120" y="3429000"/>
              <a:ext cx="3657600" cy="23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943600" y="3733560"/>
              <a:ext cx="1600200" cy="15998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4267080"/>
              <a:ext cx="10670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sothermal degenerate C/O cor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6440" y="5754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504960"/>
              <a:ext cx="1066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in non-degenerate surface layer of H or H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4920" y="2362320"/>
            <a:ext cx="784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White dwar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insically faint, hot stars. Typical observed masses 0.1-1.4M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lculate typical radius and density of a white dwarf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=5.67x10</a:t>
            </a:r>
            <a:r>
              <a:rPr b="0" lang="en-GB" sz="14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Wm</a:t>
            </a:r>
            <a:r>
              <a:rPr b="0" lang="en-GB" sz="14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14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C72-B06B-40BD-AAD4-52CAC283F1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791320" cy="3473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3962520"/>
            <a:ext cx="5334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6920" indent="-196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f WD discovered in Globular cluster M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uster age ~ 13My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Ds represent cooling se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 intrinsic brightness as main-sequence members, but much hotter (hence blu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46920" y="536400"/>
            <a:ext cx="3097080" cy="5862960"/>
            <a:chOff x="6046920" y="536400"/>
            <a:chExt cx="3097080" cy="586296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rcRect l="16677" t="15034" r="16213" b="13603"/>
            <a:stretch/>
          </p:blipFill>
          <p:spPr>
            <a:xfrm>
              <a:off x="6046920" y="2133720"/>
              <a:ext cx="3097080" cy="42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10280" y="3159000"/>
              <a:ext cx="4572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0080" y="5364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3276720"/>
              <a:ext cx="457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AFC-4AAB-4170-A908-992CEABFE3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handrasekhar ma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600200"/>
                <a:ext cx="54691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n-relativistic degenerate ga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lativistic degenerate ga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544760" y="84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ll the equations of state for a degenerate gas - what could these be used for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880" y="2743200"/>
            <a:ext cx="8229600" cy="3016080"/>
            <a:chOff x="380880" y="2743200"/>
            <a:chExt cx="8229600" cy="3016080"/>
          </a:xfrm>
        </p:grpSpPr>
        <p:sp>
          <p:nvSpPr>
            <p:cNvPr id="121" name=""/>
            <p:cNvSpPr/>
            <p:nvPr/>
          </p:nvSpPr>
          <p:spPr>
            <a:xfrm>
              <a:off x="4343400" y="2819520"/>
              <a:ext cx="41148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57200" y="3505320"/>
                  <a:ext cx="195264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Kρ</m:t>
                          </m:r>
                        </m:e>
                        <m:sup>
                          <m:r>
                            <m:t xml:space="preserve">g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Kρ</m:t>
                          </m:r>
                        </m:e>
                        <m:sup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1700280" y="29494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880" y="2743200"/>
              <a:ext cx="8153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 polytrope of index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n=1.5 with K=K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uld describe non-relativistic case, and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n=3, K=K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uld describe relativistic case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33520" y="4876920"/>
                  <a:ext cx="2904840" cy="88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rPr>
                          <m:lit/>
                          <m:nor/>
                        </m:rPr>
                        <m:t xml:space="preserve">=-</m:t>
                      </m:r>
                      <m:r>
                        <m:t xml:space="preserve">4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α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dq</m:t>
                                  </m:r>
                                </m:num>
                                <m:den>
                                  <m:r>
                                    <m:t xml:space="preserve">dx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"/>
            <p:cNvSpPr/>
            <p:nvPr/>
          </p:nvSpPr>
          <p:spPr>
            <a:xfrm>
              <a:off x="1770120" y="4176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343400"/>
              <a:ext cx="81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ow recall from Lecture 7, the mass of a polytropic star is given b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148-846D-4103-ACD4-E096C352D7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is, and eliminat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substituting in for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(as from Lecture 7). We obtain a relation between stellar mass and radi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086600" y="1066680"/>
                <a:ext cx="15080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 from Lec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pGρ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7200" y="1066680"/>
                <a:ext cx="37339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p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3048120"/>
                <a:ext cx="40384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   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q</m:t>
                                </m:r>
                              </m:num>
                              <m:den>
                                <m:r>
                                  <m:t xml:space="preserve">d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57200" y="2286000"/>
            <a:ext cx="807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constants that vary with polytropic index n (from solution of Lane-Emden equation shown in Lecture 7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54240" y="4656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1911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=1.5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on between mass - radius, and mass density bec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3520" y="4572000"/>
                <a:ext cx="20653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ρ</m:t>
                            </m:r>
                          </m:e>
                        </m:bar>
                        <m:r>
                          <m:t xml:space="preserve">µ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µ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633840" y="561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7150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degenerate gaseous spheres with higher and higher masses, what will happen 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16A-13B6-4568-AABC-CB4A9F75F4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nsity becomes so high that the degenerate gas becomes relativistic, hence the degenerate gaseous sphere is still a polytrope but with index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7432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tituting in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s us this limiting mass. First found by Chandrasekhar in 1931, it is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ndrasekhar m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09480" y="3505320"/>
                <a:ext cx="43117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m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3322800" y="464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ing the values for the constants we 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~0 ;     M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= 1.46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He, C, O…. composi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0560" y="1523880"/>
            <a:ext cx="6624720" cy="960480"/>
            <a:chOff x="520560" y="1523880"/>
            <a:chExt cx="6624720" cy="96048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520560" y="1523880"/>
                  <a:ext cx="201780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M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4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p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3548160" y="16938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4800600" y="1600200"/>
                  <a:ext cx="234468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t xml:space="preserve">pM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K</m:t>
                                  </m:r>
                                </m:num>
                                <m:den>
                                  <m:r>
                                    <m:t xml:space="preserve">pG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3641760" y="1676520"/>
              <a:ext cx="63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09480" y="5029200"/>
                <a:ext cx="2951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1FE-E459-46BD-AE69-42ACB7AFB8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asured WD mas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990720"/>
            <a:ext cx="4038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estimates for 129 white dwar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Bergeron et al. 1992, Ap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95680" y="838080"/>
            <a:ext cx="4352760" cy="4538880"/>
            <a:chOff x="4495680" y="838080"/>
            <a:chExt cx="4352760" cy="453888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1711710" t="2027339" r="398595" b="354496"/>
            <a:stretch/>
          </p:blipFill>
          <p:spPr>
            <a:xfrm>
              <a:off x="4495680" y="838080"/>
              <a:ext cx="4352760" cy="45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497120" y="2438280"/>
              <a:ext cx="10670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04920" y="1752480"/>
            <a:ext cx="304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ean M = 0.56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0.14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514600"/>
            <a:ext cx="3810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ow is mass determined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sharp peak, and lack of high mass objec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FB9-5B5B-4D37-9AE8-1BC455CE15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served mass-radius re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838080"/>
            <a:ext cx="7391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/radius relation and initial mass vs. final mass estimate for WD in stellar clusters. How would you estimate the initial mass of the progenitor star of a WD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37453" t="236331" r="1737578" b="1945504"/>
          <a:stretch/>
        </p:blipFill>
        <p:spPr>
          <a:xfrm>
            <a:off x="4495680" y="1828800"/>
            <a:ext cx="3673440" cy="4110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rcRect l="0" t="1463669" r="1775031" b="672752"/>
          <a:stretch/>
        </p:blipFill>
        <p:spPr>
          <a:xfrm>
            <a:off x="304920" y="1828800"/>
            <a:ext cx="376848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0164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019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ester &amp; Reimers 1996, A&amp;A, 313, 810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ite dwarfs in open clusters (NGC251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153-7986-428D-BD9B-17E89FB8FF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utron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8305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see in next lecture that the collapse of the Fe core of a massive star results in neutron star formatio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au (1932) - postulated formation of “one gigantic nucleus” from stars more compact than critical value. Walter Baade and Fritz Zwicky (1934) suggested they come from supernov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743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utrons are fermions - neutron stars supported from gravitational collapse by neutron degenerac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 structure can be approximated by a polytrope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=1.5 (ignoring relativistic effects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leads to similar mass/radius relation. But constant of proportionality for neutron star calculations implies much smaller radi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9480" y="4648320"/>
                <a:ext cx="34876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09480" y="5257800"/>
            <a:ext cx="64771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1.4M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S has  R~10-15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m c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nuclear densit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3A2-B742-4ACA-9272-E061EB318A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9907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04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istic treatment of the equation of state imposes upper limit on NS mass. Above this mass, degeneracy pressure unable to balance self-gravit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105520" cy="3944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1143000"/>
            <a:ext cx="3657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lication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Theory of Relativity requi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actions between neutrons (strong force)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e and maximum mass equations too complex for this cou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3733920"/>
            <a:ext cx="2590920" cy="11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er Crust: Fe and n-rich nuclei, relativistic degenerate e–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ner Crust: n-rich nuclei, relativistic degenerate e–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ior: superfluid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e: unknown, pions ?quarks 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962520"/>
            <a:ext cx="3124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ous calculations predict M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1.5 – 3M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1E6-6FAB-4F86-A699-72BCBA3807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utron star proper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7621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utron stars are predicted to rotate fast and have large magnetic fields. Simple argument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952880"/>
            <a:ext cx="76964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itial rotation period uncertain, but lets say similar to typical WDs (e.g. 40Eri B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a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WD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=1350s)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NS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~ 4 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etic field strengths in WDs typically measured at B=5x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Gauss, hence B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N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4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auss (compare wit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~2 Gauss!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ilar luminosity to Sun, but mostly in X-rays (optically very fai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8600" y="1523880"/>
                <a:ext cx="8697960" cy="32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gular momentum                Magnetic field                 Luminosity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p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p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  L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s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p>
                        </m:sSup>
                        <m:r>
                          <m:t xml:space="preserve">W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a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´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29 A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  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5C5-C15C-4B9E-B611-059D89AA5A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tudent will lear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derive the equation of state of a degenerate 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polytropic models can be applied to  degenerate stars - white dwar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derive the stable upper mass limit for white dwar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he theoretical relations compare to observ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 neutron star is and what are their possible ma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w to measure the masses of black-holes and what are the likely production mechanis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D95-6C58-4905-9B8D-868EBC1BBA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overy of neutron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144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7: Hewish and Bell discovered regularly spaced radio pulse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1.337s, repeating from same point in sky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x. 1500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ulsa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w known, with periods on ran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0.002 &lt;  P &lt;  4.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Macintosh HD:Users:stephensmartt:My Documents:My Pictures:Movies:Crab1b.mpe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2921040" cy="1206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3303360" cy="3683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22096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b puls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- embedded in Crab nebula, which is remnant of supernova historically recorded in 1054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343400"/>
            <a:ext cx="4267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ab pulsar emits X-ray, optical, radio pulses P=0.033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trum is power law from hard X-rays to the 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chrotron radiation: relativistic electrons spiralling around magnetic field lin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2971800"/>
            <a:ext cx="289584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4495680"/>
            <a:ext cx="304920" cy="152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3" name=""/>
          <p:cNvCxnSpPr/>
          <p:nvPr/>
        </p:nvCxnSpPr>
        <p:spPr>
          <a:xfrm flipH="1">
            <a:off x="2285640" y="3352320"/>
            <a:ext cx="1967760" cy="12106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00B-2A04-44FE-8516-697E3E8B4E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lsar mechan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90720"/>
            <a:ext cx="3886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ly rotating NS with strong dipole magnetic fiel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ic field axis is not aligned with rotational axi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trum of Crab pulsar is non-thermal. Suggestive of synchrotron radiation - relativistic charged particles emit radiation dependent on particle energ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d particles (e-) accelerated along magnetic field lines, radiation is beamed in the the acceleration direction. If axes are not aligned, leads to the “lighthouse effect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432320" cy="3301920"/>
          </a:xfrm>
          <a:prstGeom prst="rect">
            <a:avLst/>
          </a:prstGeom>
          <a:ln w="0">
            <a:noFill/>
          </a:ln>
        </p:spPr>
      </p:pic>
      <p:pic>
        <p:nvPicPr>
          <p:cNvPr id="198" name="Macintosh HD:Users:stephensmartt:My Documents:My Pictures:Movies:side6_pulsar.gif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236196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121-6845-4F54-883F-5B492B74F0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ack Ho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9907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on of a black hole is entirely based on theory of General Relativity - beyond scope of this course. But simple arguments can be illustrat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4038480" cy="3633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55640" y="2503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7524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ack holes are completely collapsed objects - radius of the “star” becomes so small that the escape velocity approaches the speed of ligh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cape velocity for particle from an object of mas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radiu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hotons cannot escape, the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esc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&gt;c.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chwarzschild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dius 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3886200"/>
            <a:ext cx="3919680" cy="2540160"/>
            <a:chOff x="457200" y="3886200"/>
            <a:chExt cx="3919680" cy="254016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" y="3886200"/>
                  <a:ext cx="179856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sc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M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57200" y="5562720"/>
                  <a:ext cx="3919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º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num>
                        <m:den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 km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o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8CF-8FA8-4CB2-809E-928CADFF85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0880" y="1219320"/>
          <a:ext cx="4343400" cy="172692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  <a:gridCol w="14479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(M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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k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k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k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x10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m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049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ze of black holes determined by mass. Example Schwarzschild radius for various masses given b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1143000"/>
            <a:ext cx="373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vent horizon is located a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everything within the event horizon is lost. The event horizon hides the singularity from the outside Univers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3276720"/>
            <a:ext cx="3581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more practical question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ould collapse to from a black hol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an we detect them and measure their mass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67080" y="308304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A1E-067F-4747-870B-1272B84165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ssive stars end their life”</a:t>
            </a:r>
            <a:br>
              <a:rPr sz="32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ger et al., 2003, ApJ, 591, 288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7620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9D1-6335-493B-9066-A266F21709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lack hole and neutron star masses from binary syste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6324480"/>
            <a:ext cx="746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om J. Caseres, 2005, astro-ph/050307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391520" cy="552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4D7-B5E7-41D0-BFA0-15283A0582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to determine compact object mas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914400"/>
            <a:ext cx="2438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P = orbital 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GB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= semiamplitude of companion st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i = inclination of the orbit to the line of sight (90</a:t>
            </a:r>
            <a:r>
              <a:rPr b="0" i="1" lang="en-GB" sz="1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for orbit seen edge 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n-GB" sz="1400" spc="-1" strike="noStrike" baseline="-25000">
                <a:solidFill>
                  <a:srgbClr val="ffffff"/>
                </a:solidFill>
                <a:latin typeface="Arial"/>
              </a:rPr>
              <a:t>BH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and M</a:t>
            </a:r>
            <a:r>
              <a:rPr b="0" i="1" lang="en-GB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= masses of invisible object and companion st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Keplers Laws giv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0" r="0" b="416632"/>
          <a:stretch/>
        </p:blipFill>
        <p:spPr>
          <a:xfrm>
            <a:off x="152280" y="1143000"/>
            <a:ext cx="6248520" cy="413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553080" y="3429000"/>
                <a:ext cx="22831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p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52280" y="5638680"/>
            <a:ext cx="8610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LHS is measured from observations, and is called 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mass function f(m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(m) &lt; M</a:t>
            </a:r>
            <a:r>
              <a:rPr b="1" i="1" lang="en-GB" sz="1800" spc="-1" strike="noStrike" baseline="-25000">
                <a:solidFill>
                  <a:srgbClr val="ffffff"/>
                </a:solidFill>
                <a:latin typeface="Arial"/>
              </a:rPr>
              <a:t>BH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always, since si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1 and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we have firm lower limit on BH mass from relatively simple measu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DF0-24FC-482B-B105-8DC659B90B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re is an upper limit to the mass of a white dwarf - we do not see WDs with masses &gt; 1.4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see in next lectures what the implications of this are for other phenomena in the Universe. It actually led to the discovery of dark energy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ollapse of massive stars produces two types of remnants - neutron stars and black ho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ir masses have been measured in X-ray emitting binary system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S masses are clustered around 1.4 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aximum limit for a stable neutron star is 3-5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lower limits for masses of compact objects have been determined which have values much greater than this lim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se are the best stellar mass black hole candidates - with masses of 5-15 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y may be the collapsed remnants of very massive star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BE4-2BD4-402E-AE7F-1C0F361631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 and rec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far have assumed that stars are composed of ideal g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 lecture on low mass sta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veral times have mentioned degeneracy pressure - in the case of low-intermediate mass stars, they develop a degenerate He co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generacy pressure can resist the gravitational coll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ll develop this idea in this le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ll use our knowledge of polytropes and the Lane-Emden equ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 lecture on high mass sta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w that high mass stars develop Fe core at the end of their l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will happen when core is composed of F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0DD-45FC-4F29-B24E-2F9848A638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ation of state of a degenerate g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27432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990720"/>
            <a:ext cx="8305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densities, gas particles may be so close, that that interactions between them cannot be neglected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asic physical principle will become important as we increase the density and pressure of a highly ionised ideal ga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819520"/>
            <a:ext cx="8305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uli exclusion principle - the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gas must obey the law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more than two electrons (of opposite spin) can occupy the same quantum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quantum cell of an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defined in phase space, and given by 6 valu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, y, z, p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olume of allowed phase space is given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electrons in this cell must be at mos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33520" y="5334120"/>
                <a:ext cx="3429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xDyDzD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D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D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77760" y="396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259-409A-4FE2-825B-5427E3856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80880"/>
            <a:ext cx="89154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centre of a star, as the density incre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–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ome crowded, eventually 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ccupy almost same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me of phase space “full” (from exclusion princip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ssible for another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occupy space, unless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ly diffe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a group of electrons occupying a volu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position space which have momenta in the ran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+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olume of momentum space occupied by these electrons is given by the volume of a spherical shell of radiu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ckness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me of phase space occupied i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olume occupied in position space multiplied by volume occupied in momentum sp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80880" y="2971800"/>
                <a:ext cx="990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33520" y="4267080"/>
                <a:ext cx="1927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p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V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04920" y="4876920"/>
            <a:ext cx="8381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quantum states in this volume is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vided by volume of a quantum state (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33520" y="5562720"/>
                <a:ext cx="13111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E2B-F94E-4F16-A156-89805DD041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049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number of electrons with moment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ran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+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uli’s exclusion principle tells 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33520" y="1066680"/>
                <a:ext cx="22730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dp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p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998800" y="203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1337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mpletely degenerate ga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one in which all of momentum states up to some critical valu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filled, while the states with momenta greater th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emp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33520" y="3048120"/>
                <a:ext cx="30225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p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09480" y="47242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ess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mean rate of transport of momentum across unit area (see Appendix C of Tayl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09480" y="5638680"/>
                <a:ext cx="24876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227560" y="3259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105520" y="3352680"/>
                <a:ext cx="36115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pV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sSubSup>
                          <m:e>
                            <m:r>
                              <m:t xml:space="preserve">p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62520" y="3429000"/>
            <a:ext cx="106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21320" y="5334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541008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= velocit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–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th momentum 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E16-C187-407E-B83A-62054607F9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relation betwee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and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ory of special rela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7200" y="762120"/>
                <a:ext cx="21416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860640" y="789120"/>
                <a:ext cx="26496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57200" y="198108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=rest mass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ining the three expressions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, P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e obtain pressure of a completely degenerate 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33520" y="3048120"/>
                <a:ext cx="44132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57200" y="42670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relativistic degenerate ga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&lt;&lt;m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4800600"/>
                <a:ext cx="39862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sSubSup>
                          <m:e>
                            <m:r>
                              <m:t xml:space="preserve">p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8BC-D2D8-4A9A-87AB-A3CE0F31AF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049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defin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=N/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cal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33520" y="762120"/>
                <a:ext cx="14983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sSubSup>
                          <m:e>
                            <m:r>
                              <m:t xml:space="preserve">p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33520" y="2438280"/>
                <a:ext cx="2728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897200" y="15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752480"/>
            <a:ext cx="73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lectron degeneracy pressure for a non-relativistic degenerate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0384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istic degenerate ga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&gt;&gt; m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 ; when v approaches c and momentum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∞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43040" y="4965840"/>
                <a:ext cx="2462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cn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817-3016-489D-B0AC-F45ED0FF21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m is to obtain equation of state for a degenerate gas. We must conver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to mass density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using similar arguments to derivation of mean molecular weight: lecture 7). For each mass of H (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there is one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. For He and  heavier elements there is approximately 1/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–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" y="1600200"/>
                <a:ext cx="4014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ρX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7200" y="2590920"/>
                <a:ext cx="7464600" cy="31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Equation of state of non-relativistic degenerate ga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Equation of state of a relativistic degenerate ga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80880" y="571500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completely degenerate gas the pressure depend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he density and chemical composition. It is independent of 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400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further reading: See Prialnik (Chapter 3), Taylor (Appendix 3) for full discussions of deriv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86D-F621-4951-BB8A-8B264072DD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Smartt Stephen</cp:lastModifiedBy>
  <cp:lastPrinted>2005-05-05T09:35:32Z</cp:lastPrinted>
  <dcterms:modified xsi:type="dcterms:W3CDTF">2005-05-06T08:29:39Z</dcterms:modified>
  <cp:revision>236</cp:revision>
  <dc:subject/>
  <dc:title>PowerPoint Presentation  -  MSci Astrophysics 210PHY412 </dc:title>
</cp:coreProperties>
</file>